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54E-E0EE-4BD9-A537-D45A81E4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678-2D25-49D0-99BB-B4324C24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2D4-912A-4582-9B5C-04F9FB4E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607-BB59-4D91-8CB3-72A069F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2EDE-C31D-45C2-A83C-3E130909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0D36-F0FB-410E-B62F-B816A035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A169-35A0-465F-B04A-9B58C1C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7A23-3F55-4895-8E08-4492324E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AC4F-9B3A-4CBD-B8D1-01AA5E4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8163-F5E2-48D6-AE2B-6F9EF9B5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055F-28FB-4A40-98DF-2EBF1FB3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596-8449-4F05-82D5-62FB4295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C675-7613-419F-8071-1E93BFB3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33BC-AA08-4C55-B6CF-40291F23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C682-9EBC-41C5-AF9C-4070ED2B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286B-0A77-46EC-9B44-278B3CC3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6604-C79E-4D09-8E67-5A89BFB5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1D0-FDC6-4D23-B8CE-469E7DA4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8EA-4143-4CC8-B742-18981D8B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F1F-3D6B-40D6-9B18-0DBD769A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D8A-4DFF-4995-A322-FE0927CB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6A4-FFA8-4E26-AFB3-0FFEC8F7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D0F-6467-44F0-8B55-F78D4733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3E4-6074-4CA8-A162-ED34F6D4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8B12-D98C-4762-949F-99C36F363DF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1555-B341-407E-9ED9-AAEC3B6A26E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1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1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1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1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1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1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1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1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1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1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1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1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4.png"/><Relationship Id="rId190" Type="http://schemas.openxmlformats.org/officeDocument/2006/relationships/image" Target="../media/image4.png"/><Relationship Id="rId191" Type="http://schemas.openxmlformats.org/officeDocument/2006/relationships/image" Target="../media/image3.png"/><Relationship Id="rId19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1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1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.png"/><Relationship Id="rId238" Type="http://schemas.openxmlformats.org/officeDocument/2006/relationships/image" Target="../media/image7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2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2.png"/><Relationship Id="rId252" Type="http://schemas.openxmlformats.org/officeDocument/2006/relationships/image" Target="../media/image2.png"/><Relationship Id="rId253" Type="http://schemas.openxmlformats.org/officeDocument/2006/relationships/image" Target="../media/image1.png"/><Relationship Id="rId25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4960" y="-360"/>
            <a:ext cx="236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ystè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-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Tâche et sous-ensemble fonc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Coordination des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Chaîne fonct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8120" y="1752480"/>
            <a:ext cx="281916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52320" y="228600"/>
            <a:ext cx="266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I-Défini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3840" y="121932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Systè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1752480"/>
            <a:ext cx="678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 système est un ensemble d’éléments en relation, organisés pour satisfaire un ou plusieurs beso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ystè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I-Tâche et sous-ensemble fonc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Coordination des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Chaîne fonct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II-Tâche et sous-ensemble fonctionn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63600" y="3589200"/>
            <a:ext cx="1207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66ff"/>
                </a:solidFill>
                <a:latin typeface="Arial"/>
              </a:rPr>
              <a:t>Pourquoi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57280" y="2478240"/>
            <a:ext cx="1259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66ff"/>
                </a:solidFill>
                <a:latin typeface="Arial"/>
              </a:rPr>
              <a:t>Comment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1160" y="3427560"/>
            <a:ext cx="2020680" cy="1071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21160" y="3427560"/>
            <a:ext cx="2020680" cy="2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21160" y="3448080"/>
            <a:ext cx="20520" cy="103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21160" y="4479840"/>
            <a:ext cx="2020680" cy="1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21320" y="3448080"/>
            <a:ext cx="20520" cy="103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782880" y="3892680"/>
            <a:ext cx="1571040" cy="592560"/>
            <a:chOff x="3782880" y="3892680"/>
            <a:chExt cx="1571040" cy="592560"/>
          </a:xfrm>
        </p:grpSpPr>
        <p:sp>
          <p:nvSpPr>
            <p:cNvPr id="144" name=""/>
            <p:cNvSpPr/>
            <p:nvPr/>
          </p:nvSpPr>
          <p:spPr>
            <a:xfrm>
              <a:off x="3785040" y="3892680"/>
              <a:ext cx="1568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Arial"/>
                </a:rPr>
                <a:t>Une certaine 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2880" y="4195440"/>
              <a:ext cx="1085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fr-FR" sz="1900" spc="-1" strike="noStrike">
                  <a:solidFill>
                    <a:srgbClr val="000000"/>
                  </a:solidFill>
                  <a:latin typeface="Arial"/>
                </a:rPr>
                <a:t>activité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724200" y="3549600"/>
            <a:ext cx="1381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dd0000"/>
                </a:solidFill>
                <a:latin typeface="Arial"/>
              </a:rPr>
              <a:t>Que fair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7640" y="3892680"/>
            <a:ext cx="284040" cy="242640"/>
          </a:xfrm>
          <a:custGeom>
            <a:avLst/>
            <a:gdLst/>
            <a:ahLst/>
            <a:rect l="l" t="t" r="r" b="b"/>
            <a:pathLst>
              <a:path w="179" h="153">
                <a:moveTo>
                  <a:pt x="179" y="77"/>
                </a:moveTo>
                <a:lnTo>
                  <a:pt x="0" y="153"/>
                </a:lnTo>
                <a:lnTo>
                  <a:pt x="0" y="0"/>
                </a:lnTo>
                <a:lnTo>
                  <a:pt x="179" y="77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4120" y="3994200"/>
            <a:ext cx="1616040" cy="60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4160" y="3933720"/>
            <a:ext cx="282600" cy="241560"/>
          </a:xfrm>
          <a:custGeom>
            <a:avLst/>
            <a:gdLst/>
            <a:ahLst/>
            <a:rect l="l" t="t" r="r" b="b"/>
            <a:pathLst>
              <a:path w="178" h="152">
                <a:moveTo>
                  <a:pt x="178" y="76"/>
                </a:moveTo>
                <a:lnTo>
                  <a:pt x="0" y="152"/>
                </a:lnTo>
                <a:lnTo>
                  <a:pt x="0" y="0"/>
                </a:lnTo>
                <a:lnTo>
                  <a:pt x="178" y="7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033800"/>
            <a:ext cx="1353960" cy="60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29000" y="3144960"/>
            <a:ext cx="243000" cy="282600"/>
          </a:xfrm>
          <a:custGeom>
            <a:avLst/>
            <a:gdLst/>
            <a:ahLst/>
            <a:rect l="l" t="t" r="r" b="b"/>
            <a:pathLst>
              <a:path w="153" h="178">
                <a:moveTo>
                  <a:pt x="76" y="178"/>
                </a:moveTo>
                <a:lnTo>
                  <a:pt x="0" y="0"/>
                </a:lnTo>
                <a:lnTo>
                  <a:pt x="153" y="0"/>
                </a:lnTo>
                <a:lnTo>
                  <a:pt x="76" y="178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30880" y="2536920"/>
            <a:ext cx="60120" cy="788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07520" y="1677960"/>
            <a:ext cx="225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dd0000"/>
                </a:solidFill>
                <a:latin typeface="Arial"/>
              </a:rPr>
              <a:t>Diagramme d’activ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02120" y="1981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46560" y="1981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0240" y="1981080"/>
            <a:ext cx="1353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dd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dd0000"/>
                </a:solidFill>
                <a:latin typeface="Arial"/>
              </a:rPr>
              <a:t>Actigram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29000" y="4498920"/>
            <a:ext cx="243000" cy="284040"/>
          </a:xfrm>
          <a:custGeom>
            <a:avLst/>
            <a:gdLst/>
            <a:ahLst/>
            <a:rect l="l" t="t" r="r" b="b"/>
            <a:pathLst>
              <a:path w="153" h="179">
                <a:moveTo>
                  <a:pt x="76" y="0"/>
                </a:moveTo>
                <a:lnTo>
                  <a:pt x="153" y="179"/>
                </a:lnTo>
                <a:lnTo>
                  <a:pt x="0" y="179"/>
                </a:lnTo>
                <a:lnTo>
                  <a:pt x="7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30880" y="4600440"/>
            <a:ext cx="60120" cy="828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5840" y="4762440"/>
            <a:ext cx="1302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66ff"/>
                </a:solidFill>
                <a:latin typeface="Arial"/>
              </a:rPr>
              <a:t>Avec quoi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21520" y="3570120"/>
            <a:ext cx="1194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66ff"/>
                </a:solidFill>
                <a:latin typeface="Arial"/>
              </a:rPr>
              <a:t>Sur quoi?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40200" y="4216320"/>
            <a:ext cx="1797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dd0000"/>
                </a:solidFill>
                <a:latin typeface="Arial"/>
              </a:rPr>
              <a:t>Matière d’oeuv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30920" y="4235400"/>
            <a:ext cx="2842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dd0000"/>
                </a:solidFill>
                <a:latin typeface="Arial"/>
              </a:rPr>
              <a:t>Donner une valeur ajouté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5240" y="5105520"/>
            <a:ext cx="1849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dd0000"/>
                </a:solidFill>
                <a:latin typeface="Arial"/>
              </a:rPr>
              <a:t>Support d’activit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57680" y="2881440"/>
            <a:ext cx="222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dd0000"/>
                </a:solidFill>
                <a:latin typeface="Arial"/>
              </a:rPr>
              <a:t>Données de contrô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57240" y="133200"/>
            <a:ext cx="2133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ystè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Tâche et sous-ensemble fonc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II-Coordination des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Chaîne fonct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II-Coordination des tâch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962840" y="4527720"/>
            <a:ext cx="273240" cy="14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63960" y="3316320"/>
            <a:ext cx="11160" cy="365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4600" y="4417920"/>
            <a:ext cx="1116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07280" y="1025640"/>
            <a:ext cx="15840" cy="244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15080" y="2344680"/>
            <a:ext cx="128520" cy="179280"/>
          </a:xfrm>
          <a:custGeom>
            <a:avLst/>
            <a:gdLst/>
            <a:ahLst/>
            <a:rect l="l" t="t" r="r" b="b"/>
            <a:pathLst>
              <a:path w="81" h="113">
                <a:moveTo>
                  <a:pt x="40" y="0"/>
                </a:moveTo>
                <a:lnTo>
                  <a:pt x="81" y="113"/>
                </a:lnTo>
                <a:lnTo>
                  <a:pt x="0" y="113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78440" y="2376360"/>
            <a:ext cx="17280" cy="11750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5440" y="1643040"/>
            <a:ext cx="15840" cy="2444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97600" y="1235160"/>
            <a:ext cx="403200" cy="40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97600" y="1235160"/>
            <a:ext cx="403200" cy="15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97600" y="1251000"/>
            <a:ext cx="15840" cy="3762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97600" y="1627200"/>
            <a:ext cx="403200" cy="15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84960" y="1251000"/>
            <a:ext cx="15840" cy="376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29280" y="1284120"/>
            <a:ext cx="324000" cy="309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9280" y="1284120"/>
            <a:ext cx="324000" cy="162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9280" y="1300320"/>
            <a:ext cx="15840" cy="277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9280" y="1577880"/>
            <a:ext cx="324000" cy="158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35640" y="1300320"/>
            <a:ext cx="17640" cy="277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76760" y="1871640"/>
            <a:ext cx="1163880" cy="158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76760" y="1871640"/>
            <a:ext cx="15840" cy="5382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29240" y="2149560"/>
            <a:ext cx="112680" cy="158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8920" y="2394000"/>
            <a:ext cx="405000" cy="407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8920" y="2394000"/>
            <a:ext cx="405000" cy="158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8920" y="2409840"/>
            <a:ext cx="16200" cy="3747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8920" y="2784600"/>
            <a:ext cx="405000" cy="172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6280" y="2409840"/>
            <a:ext cx="17640" cy="3747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6760" y="2801880"/>
            <a:ext cx="15840" cy="5223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29240" y="3078000"/>
            <a:ext cx="112680" cy="17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78600" y="3382920"/>
            <a:ext cx="119664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78440" y="3535200"/>
            <a:ext cx="1197000" cy="162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78440" y="3519360"/>
            <a:ext cx="1197000" cy="158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4800" y="1871640"/>
            <a:ext cx="15840" cy="5382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75480" y="2149560"/>
            <a:ext cx="112680" cy="158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6960" y="2394000"/>
            <a:ext cx="403200" cy="40788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46960" y="2394000"/>
            <a:ext cx="403200" cy="158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46960" y="2409840"/>
            <a:ext cx="15840" cy="37476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46960" y="2784600"/>
            <a:ext cx="403200" cy="172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2409840"/>
            <a:ext cx="15840" cy="3747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24800" y="2801880"/>
            <a:ext cx="15840" cy="5223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75480" y="3078000"/>
            <a:ext cx="112680" cy="17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76760" y="3306600"/>
            <a:ext cx="1163880" cy="176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5440" y="3306600"/>
            <a:ext cx="15840" cy="2448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78440" y="1006560"/>
            <a:ext cx="17280" cy="13539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5720" y="1006560"/>
            <a:ext cx="1211400" cy="172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91280" y="1006560"/>
            <a:ext cx="15840" cy="244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3440" y="2363760"/>
            <a:ext cx="130320" cy="179280"/>
          </a:xfrm>
          <a:custGeom>
            <a:avLst/>
            <a:gdLst/>
            <a:ahLst/>
            <a:rect l="l" t="t" r="r" b="b"/>
            <a:pathLst>
              <a:path w="82" h="113">
                <a:moveTo>
                  <a:pt x="41" y="0"/>
                </a:moveTo>
                <a:lnTo>
                  <a:pt x="82" y="113"/>
                </a:lnTo>
                <a:lnTo>
                  <a:pt x="0" y="113"/>
                </a:lnTo>
                <a:lnTo>
                  <a:pt x="41" y="0"/>
                </a:lnTo>
                <a:close/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78600" y="2395440"/>
            <a:ext cx="15840" cy="119232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07280" y="1628640"/>
            <a:ext cx="15840" cy="4255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96320" y="1238400"/>
            <a:ext cx="404640" cy="40788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996320" y="1238400"/>
            <a:ext cx="404640" cy="158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96320" y="1254240"/>
            <a:ext cx="17280" cy="3744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96320" y="1628640"/>
            <a:ext cx="404640" cy="176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5120" y="1254240"/>
            <a:ext cx="15840" cy="3744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45280" y="1270080"/>
            <a:ext cx="322560" cy="32688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45280" y="1270080"/>
            <a:ext cx="322560" cy="1728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5280" y="1287360"/>
            <a:ext cx="16200" cy="2937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45280" y="1581120"/>
            <a:ext cx="322560" cy="1584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52000" y="1287360"/>
            <a:ext cx="15840" cy="2937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96280" y="2101680"/>
            <a:ext cx="1341360" cy="1764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77280" y="2101680"/>
            <a:ext cx="15840" cy="2937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99440" y="2379600"/>
            <a:ext cx="419040" cy="42408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99440" y="2379600"/>
            <a:ext cx="419040" cy="1584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9440" y="2395440"/>
            <a:ext cx="15840" cy="39204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99440" y="2787480"/>
            <a:ext cx="419040" cy="162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02640" y="2395440"/>
            <a:ext cx="15840" cy="3920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77280" y="2803680"/>
            <a:ext cx="15840" cy="2934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10440" y="3417840"/>
            <a:ext cx="1197000" cy="18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3570120"/>
            <a:ext cx="1197000" cy="1764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3554280"/>
            <a:ext cx="1197000" cy="15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23160" y="2101680"/>
            <a:ext cx="17640" cy="29376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45680" y="2379600"/>
            <a:ext cx="404640" cy="42408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45680" y="2379600"/>
            <a:ext cx="404640" cy="158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45680" y="2395440"/>
            <a:ext cx="17280" cy="39204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545680" y="2787480"/>
            <a:ext cx="404640" cy="1620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34480" y="2395440"/>
            <a:ext cx="15840" cy="39204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23160" y="2803680"/>
            <a:ext cx="17640" cy="2934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58320" y="3341520"/>
            <a:ext cx="112680" cy="176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07280" y="3195720"/>
            <a:ext cx="15840" cy="3920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0600" y="5572080"/>
            <a:ext cx="128520" cy="179280"/>
          </a:xfrm>
          <a:custGeom>
            <a:avLst/>
            <a:gdLst/>
            <a:ahLst/>
            <a:rect l="l" t="t" r="r" b="b"/>
            <a:pathLst>
              <a:path w="81" h="113">
                <a:moveTo>
                  <a:pt x="41" y="113"/>
                </a:moveTo>
                <a:lnTo>
                  <a:pt x="0" y="0"/>
                </a:lnTo>
                <a:lnTo>
                  <a:pt x="81" y="0"/>
                </a:lnTo>
                <a:lnTo>
                  <a:pt x="41" y="113"/>
                </a:lnTo>
                <a:close/>
              </a:path>
            </a:pathLst>
          </a:cu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35400" y="4968720"/>
            <a:ext cx="16200" cy="7509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1025640"/>
            <a:ext cx="1212840" cy="1728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58320" y="1857240"/>
            <a:ext cx="112680" cy="1764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96280" y="2036880"/>
            <a:ext cx="1341360" cy="1728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67480" y="4724280"/>
            <a:ext cx="17280" cy="75096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9600" y="5230800"/>
            <a:ext cx="113040" cy="1584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7960" y="5475240"/>
            <a:ext cx="420480" cy="42408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57960" y="5475240"/>
            <a:ext cx="420480" cy="1584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57960" y="5491080"/>
            <a:ext cx="15840" cy="39204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7960" y="5883120"/>
            <a:ext cx="420480" cy="1620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2600" y="5491080"/>
            <a:ext cx="15840" cy="3920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67480" y="5915160"/>
            <a:ext cx="17280" cy="66996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03760" y="6176880"/>
            <a:ext cx="96840" cy="1584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57960" y="4332240"/>
            <a:ext cx="420480" cy="40788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57960" y="4332240"/>
            <a:ext cx="420480" cy="1764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57960" y="4349880"/>
            <a:ext cx="15840" cy="3744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57960" y="4724280"/>
            <a:ext cx="420480" cy="1584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2600" y="4349880"/>
            <a:ext cx="15840" cy="3744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6920" y="4365720"/>
            <a:ext cx="322560" cy="32688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06920" y="4365720"/>
            <a:ext cx="322560" cy="158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06920" y="4381560"/>
            <a:ext cx="15840" cy="2937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06920" y="4675320"/>
            <a:ext cx="322560" cy="1728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13280" y="4381560"/>
            <a:ext cx="16200" cy="2937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8120" y="4952880"/>
            <a:ext cx="566640" cy="1584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4440" y="1009800"/>
            <a:ext cx="15840" cy="145224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18120" y="6388200"/>
            <a:ext cx="566640" cy="1728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67480" y="6567480"/>
            <a:ext cx="566640" cy="1764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19600" y="4071960"/>
            <a:ext cx="614520" cy="1584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53120" y="5311800"/>
            <a:ext cx="128520" cy="179280"/>
          </a:xfrm>
          <a:custGeom>
            <a:avLst/>
            <a:gdLst/>
            <a:ahLst/>
            <a:rect l="l" t="t" r="r" b="b"/>
            <a:pathLst>
              <a:path w="81" h="113">
                <a:moveTo>
                  <a:pt x="41" y="0"/>
                </a:moveTo>
                <a:lnTo>
                  <a:pt x="81" y="113"/>
                </a:lnTo>
                <a:lnTo>
                  <a:pt x="0" y="113"/>
                </a:lnTo>
                <a:lnTo>
                  <a:pt x="41" y="0"/>
                </a:lnTo>
                <a:close/>
              </a:path>
            </a:pathLst>
          </a:cu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18280" y="5345280"/>
            <a:ext cx="15840" cy="123984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19600" y="4071960"/>
            <a:ext cx="16200" cy="24444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16840" y="4743360"/>
            <a:ext cx="15840" cy="74952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67520" y="4923000"/>
            <a:ext cx="114480" cy="1584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39000" y="5477040"/>
            <a:ext cx="405000" cy="42372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39000" y="5477040"/>
            <a:ext cx="405000" cy="1584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39000" y="5492880"/>
            <a:ext cx="15840" cy="39204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39000" y="5884920"/>
            <a:ext cx="405000" cy="1584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6360" y="5492880"/>
            <a:ext cx="17640" cy="39204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16840" y="5900760"/>
            <a:ext cx="15840" cy="70164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967520" y="6407280"/>
            <a:ext cx="114480" cy="1584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39000" y="4317840"/>
            <a:ext cx="405000" cy="42552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39000" y="4317840"/>
            <a:ext cx="405000" cy="1764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9000" y="4335480"/>
            <a:ext cx="15840" cy="39060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39000" y="4726080"/>
            <a:ext cx="405000" cy="1728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6360" y="4335480"/>
            <a:ext cx="17640" cy="3906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70680" y="4367160"/>
            <a:ext cx="324000" cy="32724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70680" y="4367160"/>
            <a:ext cx="324000" cy="1584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70680" y="4383000"/>
            <a:ext cx="17640" cy="29376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70680" y="4676760"/>
            <a:ext cx="324000" cy="1764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78840" y="4383000"/>
            <a:ext cx="15840" cy="2937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16840" y="5199120"/>
            <a:ext cx="517680" cy="1728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518680" y="5199120"/>
            <a:ext cx="15840" cy="34272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16840" y="6178680"/>
            <a:ext cx="517680" cy="1584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3520" y="5510160"/>
            <a:ext cx="128520" cy="179280"/>
          </a:xfrm>
          <a:custGeom>
            <a:avLst/>
            <a:gdLst/>
            <a:ahLst/>
            <a:rect l="l" t="t" r="r" b="b"/>
            <a:pathLst>
              <a:path w="81" h="113">
                <a:moveTo>
                  <a:pt x="41" y="0"/>
                </a:moveTo>
                <a:lnTo>
                  <a:pt x="81" y="113"/>
                </a:lnTo>
                <a:lnTo>
                  <a:pt x="0" y="113"/>
                </a:lnTo>
                <a:lnTo>
                  <a:pt x="41" y="0"/>
                </a:lnTo>
                <a:close/>
              </a:path>
            </a:pathLst>
          </a:cu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18680" y="5541840"/>
            <a:ext cx="15840" cy="63684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44000" y="6129360"/>
            <a:ext cx="15840" cy="11412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15360" y="6586560"/>
            <a:ext cx="517320" cy="1584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15360" y="4091040"/>
            <a:ext cx="517320" cy="158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5396040"/>
            <a:ext cx="128520" cy="179280"/>
          </a:xfrm>
          <a:custGeom>
            <a:avLst/>
            <a:gdLst/>
            <a:ahLst/>
            <a:rect l="l" t="t" r="r" b="b"/>
            <a:pathLst>
              <a:path w="81" h="113">
                <a:moveTo>
                  <a:pt x="40" y="0"/>
                </a:moveTo>
                <a:lnTo>
                  <a:pt x="81" y="113"/>
                </a:lnTo>
                <a:lnTo>
                  <a:pt x="0" y="113"/>
                </a:lnTo>
                <a:lnTo>
                  <a:pt x="40" y="0"/>
                </a:lnTo>
                <a:close/>
              </a:path>
            </a:pathLst>
          </a:cu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15360" y="5427720"/>
            <a:ext cx="17280" cy="117468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16840" y="4091040"/>
            <a:ext cx="15840" cy="24444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15360" y="4091040"/>
            <a:ext cx="17280" cy="132084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18280" y="4071960"/>
            <a:ext cx="15840" cy="130500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0600" y="5230800"/>
            <a:ext cx="112680" cy="1584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12120" y="3195720"/>
            <a:ext cx="1341360" cy="1584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12120" y="3097080"/>
            <a:ext cx="1341360" cy="1764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92600" y="3747960"/>
            <a:ext cx="28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dd"/>
                </a:solidFill>
                <a:latin typeface="Arial"/>
              </a:rPr>
              <a:t>O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97680" y="3733920"/>
            <a:ext cx="2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dd"/>
                </a:solidFill>
                <a:latin typeface="Arial"/>
              </a:rPr>
              <a:t>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90800" y="6629400"/>
            <a:ext cx="41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dd"/>
                </a:solidFill>
                <a:latin typeface="Arial"/>
              </a:rPr>
              <a:t>Sau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20680" y="662148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500" spc="-1" strike="noStrike">
                <a:solidFill>
                  <a:srgbClr val="0000dd"/>
                </a:solidFill>
                <a:latin typeface="Arial"/>
              </a:rPr>
              <a:t>Rep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35400" y="5735520"/>
            <a:ext cx="16200" cy="652680"/>
          </a:xfrm>
          <a:prstGeom prst="rect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14520" y="2306520"/>
            <a:ext cx="479520" cy="53676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14520" y="2306520"/>
            <a:ext cx="479520" cy="2880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14520" y="2335320"/>
            <a:ext cx="30240" cy="47916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14520" y="2814480"/>
            <a:ext cx="479520" cy="2880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63800" y="2335320"/>
            <a:ext cx="30240" cy="47916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73200" y="2379600"/>
            <a:ext cx="362160" cy="39060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73200" y="2379600"/>
            <a:ext cx="362160" cy="2880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73200" y="2408400"/>
            <a:ext cx="28800" cy="33336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73200" y="2741760"/>
            <a:ext cx="362160" cy="2844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6560" y="2408400"/>
            <a:ext cx="28800" cy="33336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45920" y="23781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dd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4520" y="3249720"/>
            <a:ext cx="479520" cy="53640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14520" y="3249720"/>
            <a:ext cx="479520" cy="2844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14520" y="3278160"/>
            <a:ext cx="30240" cy="47772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14520" y="3755880"/>
            <a:ext cx="479520" cy="3024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63800" y="3278160"/>
            <a:ext cx="30240" cy="47772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67200" y="3263760"/>
            <a:ext cx="1784160" cy="52236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67200" y="3263760"/>
            <a:ext cx="1784160" cy="1440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67200" y="3278160"/>
            <a:ext cx="15840" cy="493920"/>
          </a:xfrm>
          <a:prstGeom prst="rect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67200" y="3772080"/>
            <a:ext cx="1784160" cy="14040"/>
          </a:xfrm>
          <a:prstGeom prst="rect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36960" y="3278160"/>
            <a:ext cx="14400" cy="49392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79640" y="3510000"/>
            <a:ext cx="203400" cy="1440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60320" y="33447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dd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297960" y="3327480"/>
            <a:ext cx="1320120" cy="430920"/>
            <a:chOff x="3297960" y="3327480"/>
            <a:chExt cx="1320120" cy="430920"/>
          </a:xfrm>
        </p:grpSpPr>
        <p:sp>
          <p:nvSpPr>
            <p:cNvPr id="342" name=""/>
            <p:cNvSpPr/>
            <p:nvPr/>
          </p:nvSpPr>
          <p:spPr>
            <a:xfrm>
              <a:off x="3300480" y="3327480"/>
              <a:ext cx="131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dd0000"/>
                  </a:solidFill>
                  <a:latin typeface="Arial"/>
                </a:rPr>
                <a:t>Tâche associ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97960" y="3544920"/>
              <a:ext cx="111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0000"/>
                  </a:solidFill>
                  <a:latin typeface="Arial"/>
                </a:rPr>
                <a:t>     </a:t>
              </a:r>
              <a:r>
                <a:rPr b="1" lang="fr-FR" sz="1400" spc="-1" strike="noStrike">
                  <a:solidFill>
                    <a:srgbClr val="dd0000"/>
                  </a:solidFill>
                  <a:latin typeface="Arial"/>
                </a:rPr>
                <a:t>à l’étap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662200" y="2828880"/>
            <a:ext cx="14400" cy="44928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44760" y="4241880"/>
            <a:ext cx="479520" cy="5364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44760" y="4241880"/>
            <a:ext cx="479520" cy="3024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44760" y="4272120"/>
            <a:ext cx="30240" cy="47772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4724280"/>
            <a:ext cx="479520" cy="2880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4040" y="4272120"/>
            <a:ext cx="30240" cy="47772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78000" y="4241880"/>
            <a:ext cx="1784520" cy="52236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70080" y="4267080"/>
            <a:ext cx="1784520" cy="1584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97080" y="4272120"/>
            <a:ext cx="15840" cy="49212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97080" y="4764240"/>
            <a:ext cx="1784520" cy="1404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67200" y="4272120"/>
            <a:ext cx="14400" cy="49212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09880" y="4503600"/>
            <a:ext cx="203040" cy="1440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82640" y="43131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dd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2200" y="1886040"/>
            <a:ext cx="14400" cy="44928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36800" y="3336840"/>
            <a:ext cx="115920" cy="158760"/>
          </a:xfrm>
          <a:custGeom>
            <a:avLst/>
            <a:gdLst/>
            <a:ahLst/>
            <a:rect l="l" t="t" r="r" b="b"/>
            <a:pathLst>
              <a:path w="73" h="100">
                <a:moveTo>
                  <a:pt x="36" y="0"/>
                </a:moveTo>
                <a:lnTo>
                  <a:pt x="73" y="100"/>
                </a:lnTo>
                <a:lnTo>
                  <a:pt x="0" y="100"/>
                </a:lnTo>
                <a:lnTo>
                  <a:pt x="36" y="0"/>
                </a:lnTo>
                <a:close/>
              </a:path>
            </a:pathLst>
          </a:cu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94040" y="3365640"/>
            <a:ext cx="14040" cy="17967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94040" y="1886040"/>
            <a:ext cx="668160" cy="1404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94040" y="5148360"/>
            <a:ext cx="668160" cy="1404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94040" y="1886040"/>
            <a:ext cx="14040" cy="155088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75080" y="3032280"/>
            <a:ext cx="158760" cy="2844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89120" y="3973680"/>
            <a:ext cx="144720" cy="2988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75080" y="4916520"/>
            <a:ext cx="158760" cy="2844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447920" y="4267080"/>
            <a:ext cx="836640" cy="200160"/>
            <a:chOff x="1447920" y="4267080"/>
            <a:chExt cx="836640" cy="200160"/>
          </a:xfrm>
        </p:grpSpPr>
        <p:sp>
          <p:nvSpPr>
            <p:cNvPr id="367" name=""/>
            <p:cNvSpPr/>
            <p:nvPr/>
          </p:nvSpPr>
          <p:spPr>
            <a:xfrm>
              <a:off x="2154240" y="4365720"/>
              <a:ext cx="130320" cy="10152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82" y="55"/>
                  </a:moveTo>
                  <a:lnTo>
                    <a:pt x="0" y="64"/>
                  </a:lnTo>
                  <a:lnTo>
                    <a:pt x="18" y="0"/>
                  </a:lnTo>
                  <a:lnTo>
                    <a:pt x="82" y="55"/>
                  </a:lnTo>
                  <a:close/>
                </a:path>
              </a:pathLst>
            </a:cu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7920" y="4267080"/>
              <a:ext cx="822240" cy="171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0"/>
                  </a:moveTo>
                  <a:lnTo>
                    <a:pt x="69" y="20"/>
                  </a:lnTo>
                  <a:lnTo>
                    <a:pt x="70" y="20"/>
                  </a:lnTo>
                </a:path>
              </a:pathLst>
            </a:custGeom>
            <a:noFill/>
            <a:ln w="1440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447920" y="3032280"/>
            <a:ext cx="879480" cy="244440"/>
            <a:chOff x="1447920" y="3032280"/>
            <a:chExt cx="879480" cy="244440"/>
          </a:xfrm>
        </p:grpSpPr>
        <p:sp>
          <p:nvSpPr>
            <p:cNvPr id="370" name=""/>
            <p:cNvSpPr/>
            <p:nvPr/>
          </p:nvSpPr>
          <p:spPr>
            <a:xfrm>
              <a:off x="2197080" y="3032280"/>
              <a:ext cx="130320" cy="10152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82" y="9"/>
                  </a:moveTo>
                  <a:lnTo>
                    <a:pt x="19" y="64"/>
                  </a:lnTo>
                  <a:lnTo>
                    <a:pt x="0" y="0"/>
                  </a:lnTo>
                  <a:lnTo>
                    <a:pt x="82" y="9"/>
                  </a:lnTo>
                  <a:close/>
                </a:path>
              </a:pathLst>
            </a:cu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7920" y="3046320"/>
              <a:ext cx="850680" cy="230400"/>
            </a:xfrm>
            <a:custGeom>
              <a:avLst/>
              <a:gdLst/>
              <a:ahLst/>
              <a:rect l="l" t="t" r="r" b="b"/>
              <a:pathLst>
                <a:path w="75" h="20">
                  <a:moveTo>
                    <a:pt x="75" y="0"/>
                  </a:moveTo>
                  <a:lnTo>
                    <a:pt x="0" y="20"/>
                  </a:lnTo>
                  <a:lnTo>
                    <a:pt x="1" y="20"/>
                  </a:lnTo>
                </a:path>
              </a:pathLst>
            </a:custGeom>
            <a:noFill/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424240" y="2941560"/>
            <a:ext cx="7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7920" y="3886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7920" y="480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353400" y="4287960"/>
            <a:ext cx="1320120" cy="430920"/>
            <a:chOff x="3353400" y="4287960"/>
            <a:chExt cx="1320120" cy="430920"/>
          </a:xfrm>
        </p:grpSpPr>
        <p:sp>
          <p:nvSpPr>
            <p:cNvPr id="376" name=""/>
            <p:cNvSpPr/>
            <p:nvPr/>
          </p:nvSpPr>
          <p:spPr>
            <a:xfrm>
              <a:off x="3355920" y="4287960"/>
              <a:ext cx="131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dd0000"/>
                  </a:solidFill>
                  <a:latin typeface="Arial"/>
                </a:rPr>
                <a:t>Tâche associ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53400" y="4505400"/>
              <a:ext cx="111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0000"/>
                  </a:solidFill>
                  <a:latin typeface="Arial"/>
                </a:rPr>
                <a:t>     </a:t>
              </a:r>
              <a:r>
                <a:rPr b="1" lang="fr-FR" sz="1400" spc="-1" strike="noStrike">
                  <a:solidFill>
                    <a:srgbClr val="dd0000"/>
                  </a:solidFill>
                  <a:latin typeface="Arial"/>
                </a:rPr>
                <a:t>à l’étap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063080" y="2373480"/>
            <a:ext cx="587160" cy="430920"/>
            <a:chOff x="1063080" y="2373480"/>
            <a:chExt cx="587160" cy="430920"/>
          </a:xfrm>
        </p:grpSpPr>
        <p:sp>
          <p:nvSpPr>
            <p:cNvPr id="379" name=""/>
            <p:cNvSpPr/>
            <p:nvPr/>
          </p:nvSpPr>
          <p:spPr>
            <a:xfrm>
              <a:off x="1064160" y="23734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dd0000"/>
                  </a:solidFill>
                  <a:latin typeface="Arial"/>
                </a:rPr>
                <a:t>Etape</a:t>
              </a:r>
              <a:r>
                <a:rPr b="0" lang="fr-FR" sz="1400" spc="-1" strike="noStrike">
                  <a:solidFill>
                    <a:srgbClr val="dd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63080" y="2590920"/>
              <a:ext cx="56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dd0000"/>
                  </a:solidFill>
                  <a:latin typeface="Arial"/>
                </a:rPr>
                <a:t>initi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89280" y="4038480"/>
            <a:ext cx="58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d0000"/>
                </a:solidFill>
                <a:latin typeface="Arial"/>
              </a:rPr>
              <a:t>Et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447920" y="3581280"/>
            <a:ext cx="879480" cy="378000"/>
            <a:chOff x="1447920" y="3581280"/>
            <a:chExt cx="879480" cy="378000"/>
          </a:xfrm>
        </p:grpSpPr>
        <p:sp>
          <p:nvSpPr>
            <p:cNvPr id="383" name=""/>
            <p:cNvSpPr/>
            <p:nvPr/>
          </p:nvSpPr>
          <p:spPr>
            <a:xfrm>
              <a:off x="2197080" y="3857760"/>
              <a:ext cx="130320" cy="10152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82" y="64"/>
                  </a:moveTo>
                  <a:lnTo>
                    <a:pt x="0" y="64"/>
                  </a:lnTo>
                  <a:lnTo>
                    <a:pt x="28" y="0"/>
                  </a:lnTo>
                  <a:lnTo>
                    <a:pt x="82" y="64"/>
                  </a:lnTo>
                  <a:close/>
                </a:path>
              </a:pathLst>
            </a:cu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7920" y="3581280"/>
              <a:ext cx="865080" cy="3636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0" y="0"/>
                  </a:moveTo>
                  <a:lnTo>
                    <a:pt x="75" y="34"/>
                  </a:lnTo>
                  <a:lnTo>
                    <a:pt x="76" y="34"/>
                  </a:lnTo>
                </a:path>
              </a:pathLst>
            </a:custGeom>
            <a:noFill/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447920" y="3538440"/>
            <a:ext cx="836640" cy="500040"/>
            <a:chOff x="1447920" y="3538440"/>
            <a:chExt cx="836640" cy="500040"/>
          </a:xfrm>
        </p:grpSpPr>
        <p:sp>
          <p:nvSpPr>
            <p:cNvPr id="386" name=""/>
            <p:cNvSpPr/>
            <p:nvPr/>
          </p:nvSpPr>
          <p:spPr>
            <a:xfrm>
              <a:off x="2154240" y="3538440"/>
              <a:ext cx="130320" cy="101520"/>
            </a:xfrm>
            <a:custGeom>
              <a:avLst/>
              <a:gdLst/>
              <a:ahLst/>
              <a:rect l="l" t="t" r="r" b="b"/>
              <a:pathLst>
                <a:path w="82" h="64">
                  <a:moveTo>
                    <a:pt x="82" y="0"/>
                  </a:moveTo>
                  <a:lnTo>
                    <a:pt x="27" y="64"/>
                  </a:lnTo>
                  <a:lnTo>
                    <a:pt x="0" y="0"/>
                  </a:lnTo>
                  <a:lnTo>
                    <a:pt x="82" y="0"/>
                  </a:lnTo>
                  <a:close/>
                </a:path>
              </a:pathLst>
            </a:cu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7920" y="3538440"/>
              <a:ext cx="807840" cy="50004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0"/>
                  </a:moveTo>
                  <a:lnTo>
                    <a:pt x="0" y="34"/>
                  </a:lnTo>
                  <a:lnTo>
                    <a:pt x="1" y="34"/>
                  </a:lnTo>
                </a:path>
              </a:pathLst>
            </a:custGeom>
            <a:noFill/>
            <a:ln w="1440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435760" y="5638680"/>
            <a:ext cx="68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dd"/>
                </a:solidFill>
                <a:latin typeface="Arial"/>
              </a:rPr>
              <a:t>Liné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74560" y="297180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départ</a:t>
            </a:r>
            <a:r>
              <a:rPr b="0" lang="fr-FR" sz="1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71080" y="29718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96200" y="27860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64600" y="2743200"/>
            <a:ext cx="161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conditions init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839680" y="4815000"/>
            <a:ext cx="2096280" cy="430920"/>
            <a:chOff x="2839680" y="4815000"/>
            <a:chExt cx="2096280" cy="430920"/>
          </a:xfrm>
        </p:grpSpPr>
        <p:sp>
          <p:nvSpPr>
            <p:cNvPr id="394" name=""/>
            <p:cNvSpPr/>
            <p:nvPr/>
          </p:nvSpPr>
          <p:spPr>
            <a:xfrm>
              <a:off x="2839680" y="4815000"/>
              <a:ext cx="20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00"/>
                  </a:solidFill>
                  <a:latin typeface="Arial"/>
                </a:rPr>
                <a:t>réceptivité associée à la</a:t>
              </a:r>
              <a:r>
                <a:rPr b="0" lang="fr-FR" sz="1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45800" y="5032440"/>
              <a:ext cx="91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00"/>
                  </a:solidFill>
                  <a:latin typeface="Arial"/>
                </a:rPr>
                <a:t>transition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760680" y="33037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885760" y="3809880"/>
            <a:ext cx="2096280" cy="430920"/>
            <a:chOff x="2885760" y="3809880"/>
            <a:chExt cx="2096280" cy="430920"/>
          </a:xfrm>
        </p:grpSpPr>
        <p:sp>
          <p:nvSpPr>
            <p:cNvPr id="398" name=""/>
            <p:cNvSpPr/>
            <p:nvPr/>
          </p:nvSpPr>
          <p:spPr>
            <a:xfrm>
              <a:off x="2885760" y="3809880"/>
              <a:ext cx="20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00"/>
                  </a:solidFill>
                  <a:latin typeface="Arial"/>
                </a:rPr>
                <a:t>réceptivité associée à la</a:t>
              </a:r>
              <a:r>
                <a:rPr b="0" lang="fr-FR" sz="14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91880" y="4027320"/>
              <a:ext cx="91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8000"/>
                  </a:solidFill>
                  <a:latin typeface="Arial"/>
                </a:rPr>
                <a:t>transition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752480" y="2590920"/>
            <a:ext cx="5335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765600"/>
            <a:ext cx="0" cy="50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4724280"/>
            <a:ext cx="0" cy="42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Systè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Tâche et sous-ensemble fonc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Coordination des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V-Chaîne fonct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74520" y="22392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V-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47120" y="579276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47120" y="579276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35280" y="2643120"/>
            <a:ext cx="4653000" cy="82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2643120"/>
            <a:ext cx="4653000" cy="2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5280" y="2668680"/>
            <a:ext cx="25200" cy="77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35280" y="3446640"/>
            <a:ext cx="4653000" cy="25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62720" y="2668680"/>
            <a:ext cx="25560" cy="7779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85960" y="4375080"/>
            <a:ext cx="5873760" cy="82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85960" y="4375080"/>
            <a:ext cx="5873760" cy="25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85960" y="4400640"/>
            <a:ext cx="25200" cy="777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85960" y="5178600"/>
            <a:ext cx="5873760" cy="252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34160" y="4400640"/>
            <a:ext cx="25560" cy="7779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73880" y="3672000"/>
            <a:ext cx="696960" cy="2108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73880" y="3672000"/>
            <a:ext cx="696960" cy="25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3880" y="3697200"/>
            <a:ext cx="23760" cy="2057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73880" y="5754600"/>
            <a:ext cx="696960" cy="25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47080" y="3697200"/>
            <a:ext cx="23760" cy="20574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22560" y="2894040"/>
            <a:ext cx="1122120" cy="2761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22560" y="2894040"/>
            <a:ext cx="1122120" cy="252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22560" y="2919240"/>
            <a:ext cx="25200" cy="225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22560" y="3144960"/>
            <a:ext cx="1122120" cy="252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19480" y="2919240"/>
            <a:ext cx="25200" cy="2257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68680" y="2894040"/>
            <a:ext cx="947880" cy="2761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68680" y="2894040"/>
            <a:ext cx="947880" cy="252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68680" y="2919240"/>
            <a:ext cx="25560" cy="2257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68680" y="3144960"/>
            <a:ext cx="947880" cy="252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2800" y="2919240"/>
            <a:ext cx="23760" cy="2257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2880" y="2894040"/>
            <a:ext cx="1235160" cy="2635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2894040"/>
            <a:ext cx="1235160" cy="25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2919240"/>
            <a:ext cx="25560" cy="2127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3132000"/>
            <a:ext cx="1235160" cy="255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62840" y="2919240"/>
            <a:ext cx="25200" cy="2127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0640" y="4689360"/>
            <a:ext cx="909720" cy="25092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60640" y="4689360"/>
            <a:ext cx="909720" cy="237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60640" y="4713120"/>
            <a:ext cx="25200" cy="2019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60640" y="4915080"/>
            <a:ext cx="909720" cy="252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46240" y="4713120"/>
            <a:ext cx="24120" cy="201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95800" y="4676760"/>
            <a:ext cx="1035000" cy="2635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95800" y="4676760"/>
            <a:ext cx="1035000" cy="237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95800" y="4700520"/>
            <a:ext cx="23760" cy="21456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95800" y="4915080"/>
            <a:ext cx="1035000" cy="252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05240" y="4700520"/>
            <a:ext cx="25560" cy="2145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2520" y="4664160"/>
            <a:ext cx="1059120" cy="26352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92520" y="4664160"/>
            <a:ext cx="1059120" cy="252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92520" y="4689360"/>
            <a:ext cx="23760" cy="2127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92520" y="4902120"/>
            <a:ext cx="1059120" cy="2556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27520" y="4689360"/>
            <a:ext cx="24120" cy="21276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900760" y="4664160"/>
            <a:ext cx="1173240" cy="27612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00760" y="4664160"/>
            <a:ext cx="1173240" cy="252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00760" y="4689360"/>
            <a:ext cx="25200" cy="22572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00760" y="4915080"/>
            <a:ext cx="1173240" cy="252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48440" y="4689360"/>
            <a:ext cx="25560" cy="22572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73880" y="4387680"/>
            <a:ext cx="198360" cy="1296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3880" y="5191200"/>
            <a:ext cx="223920" cy="12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35880" y="4689360"/>
            <a:ext cx="447480" cy="26208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35880" y="4689360"/>
            <a:ext cx="447480" cy="1116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35880" y="4700520"/>
            <a:ext cx="12600" cy="23976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35880" y="4940280"/>
            <a:ext cx="447480" cy="1116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72560" y="4700520"/>
            <a:ext cx="10800" cy="2397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0120" y="472428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G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73200" y="3070080"/>
            <a:ext cx="25560" cy="66528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73160" y="3019320"/>
            <a:ext cx="149400" cy="12564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11360" y="3070080"/>
            <a:ext cx="474480" cy="255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88040" y="3070080"/>
            <a:ext cx="536760" cy="255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9240" y="3070080"/>
            <a:ext cx="25560" cy="77796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1200" y="3822840"/>
            <a:ext cx="3603600" cy="252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1200" y="3822840"/>
            <a:ext cx="23760" cy="87768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0160" y="4626000"/>
            <a:ext cx="149400" cy="12528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21200" y="4676760"/>
            <a:ext cx="161640" cy="237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61040" y="4751280"/>
            <a:ext cx="162000" cy="2556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99280" y="2241720"/>
            <a:ext cx="23760" cy="253512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60400" y="2241720"/>
            <a:ext cx="5462640" cy="252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60400" y="2241720"/>
            <a:ext cx="25560" cy="75240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73160" y="2919240"/>
            <a:ext cx="149400" cy="12564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760400" y="2970360"/>
            <a:ext cx="325440" cy="237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98760" y="4776840"/>
            <a:ext cx="25200" cy="6141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22400" y="4726080"/>
            <a:ext cx="150840" cy="125280"/>
          </a:xfrm>
          <a:custGeom>
            <a:avLst/>
            <a:gdLst/>
            <a:ahLst/>
            <a:rect l="l" t="t" r="r" b="b"/>
            <a:pathLst>
              <a:path w="95" h="79">
                <a:moveTo>
                  <a:pt x="95" y="40"/>
                </a:moveTo>
                <a:lnTo>
                  <a:pt x="0" y="79"/>
                </a:lnTo>
                <a:lnTo>
                  <a:pt x="0" y="0"/>
                </a:lnTo>
                <a:lnTo>
                  <a:pt x="95" y="40"/>
                </a:lnTo>
                <a:close/>
              </a:path>
            </a:pathLst>
          </a:cu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11360" y="4776840"/>
            <a:ext cx="423720" cy="2520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85840" y="2116080"/>
            <a:ext cx="2106720" cy="26352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85840" y="2116080"/>
            <a:ext cx="2106720" cy="255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85840" y="2141640"/>
            <a:ext cx="24120" cy="2127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85840" y="2354400"/>
            <a:ext cx="2106720" cy="2520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67360" y="2141640"/>
            <a:ext cx="25200" cy="21276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81520" y="3735360"/>
            <a:ext cx="722160" cy="23832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1520" y="3735360"/>
            <a:ext cx="722160" cy="2556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1520" y="3760920"/>
            <a:ext cx="25200" cy="1872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81520" y="3948120"/>
            <a:ext cx="722160" cy="2556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9920" y="3760920"/>
            <a:ext cx="23760" cy="1872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85880" y="5956200"/>
            <a:ext cx="87480" cy="1296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11160" y="5956200"/>
            <a:ext cx="100080" cy="1296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47960" y="5956200"/>
            <a:ext cx="87120" cy="1296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73240" y="5956200"/>
            <a:ext cx="100080" cy="1296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5956200"/>
            <a:ext cx="100080" cy="1296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347920" y="5956200"/>
            <a:ext cx="85680" cy="12960"/>
          </a:xfrm>
          <a:prstGeom prst="rect">
            <a:avLst/>
          </a:pr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71760" y="5956200"/>
            <a:ext cx="100080" cy="12960"/>
          </a:xfrm>
          <a:prstGeom prst="rect">
            <a:avLst/>
          </a:pr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08200" y="5956200"/>
            <a:ext cx="87480" cy="1296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33840" y="5956200"/>
            <a:ext cx="87120" cy="1296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59120" y="5956200"/>
            <a:ext cx="98280" cy="1296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5560" y="5956200"/>
            <a:ext cx="87480" cy="1296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21200" y="5956200"/>
            <a:ext cx="98280" cy="1296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57640" y="5956200"/>
            <a:ext cx="100080" cy="1296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94080" y="5956200"/>
            <a:ext cx="87480" cy="1296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19360" y="5956200"/>
            <a:ext cx="100080" cy="1296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6160" y="5956200"/>
            <a:ext cx="87120" cy="1296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81440" y="5956200"/>
            <a:ext cx="87120" cy="1296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06720" y="5956200"/>
            <a:ext cx="98640" cy="1296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43520" y="5956200"/>
            <a:ext cx="99720" cy="1296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79960" y="5956200"/>
            <a:ext cx="87120" cy="1296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05240" y="5956200"/>
            <a:ext cx="100080" cy="1296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41680" y="5956200"/>
            <a:ext cx="87480" cy="1296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9920" y="5956200"/>
            <a:ext cx="87480" cy="12960"/>
          </a:xfrm>
          <a:prstGeom prst="rect">
            <a:avLst/>
          </a:pr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03760" y="5956200"/>
            <a:ext cx="100080" cy="12960"/>
          </a:xfrm>
          <a:prstGeom prst="rect">
            <a:avLst/>
          </a:pr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29040" y="5956200"/>
            <a:ext cx="87480" cy="129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5956200"/>
            <a:ext cx="100080" cy="12960"/>
          </a:xfrm>
          <a:prstGeom prst="rect">
            <a:avLst/>
          </a:pr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91120" y="5956200"/>
            <a:ext cx="100080" cy="12960"/>
          </a:xfrm>
          <a:prstGeom prst="rect">
            <a:avLst/>
          </a:pr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27560" y="5956200"/>
            <a:ext cx="87480" cy="1296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53200" y="5956200"/>
            <a:ext cx="99720" cy="12960"/>
          </a:xfrm>
          <a:prstGeom prst="rect">
            <a:avLst/>
          </a:pr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89640" y="5956200"/>
            <a:ext cx="100080" cy="12960"/>
          </a:xfrm>
          <a:prstGeom prst="rect">
            <a:avLst/>
          </a:pr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27520" y="5956200"/>
            <a:ext cx="87480" cy="129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51360" y="5956200"/>
            <a:ext cx="100080" cy="1296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89600" y="5956200"/>
            <a:ext cx="98280" cy="1296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26040" y="5956200"/>
            <a:ext cx="87480" cy="1296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51680" y="5956200"/>
            <a:ext cx="98280" cy="1296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88120" y="5956200"/>
            <a:ext cx="87120" cy="1296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424560" y="5956200"/>
            <a:ext cx="87480" cy="1296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0200" y="5956200"/>
            <a:ext cx="99720" cy="1296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86640" y="5956200"/>
            <a:ext cx="87120" cy="1296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11920" y="5956200"/>
            <a:ext cx="100080" cy="1296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937200" y="5956200"/>
            <a:ext cx="98640" cy="129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74000" y="5956200"/>
            <a:ext cx="8712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99280" y="5956200"/>
            <a:ext cx="98280" cy="1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35720" y="5956200"/>
            <a:ext cx="87480" cy="1296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72520" y="5956200"/>
            <a:ext cx="87120" cy="1296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85880" y="1752480"/>
            <a:ext cx="87480" cy="1296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811160" y="1752480"/>
            <a:ext cx="100080" cy="129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47960" y="1752480"/>
            <a:ext cx="87120" cy="129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73240" y="1752480"/>
            <a:ext cx="100080" cy="1296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1752480"/>
            <a:ext cx="100080" cy="1296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47920" y="1752480"/>
            <a:ext cx="85680" cy="129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71760" y="1752480"/>
            <a:ext cx="100080" cy="129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08200" y="1752480"/>
            <a:ext cx="87480" cy="1296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33840" y="1752480"/>
            <a:ext cx="87120" cy="129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59120" y="1752480"/>
            <a:ext cx="98280" cy="1296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95560" y="1752480"/>
            <a:ext cx="87480" cy="1296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1200" y="1752480"/>
            <a:ext cx="98280" cy="1296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57640" y="1752480"/>
            <a:ext cx="100080" cy="1296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94080" y="1752480"/>
            <a:ext cx="87480" cy="12960"/>
          </a:xfrm>
          <a:prstGeom prst="rect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19360" y="1752480"/>
            <a:ext cx="100080" cy="1296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6160" y="1752480"/>
            <a:ext cx="87120" cy="1296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81440" y="1752480"/>
            <a:ext cx="87120" cy="1296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06720" y="1752480"/>
            <a:ext cx="98640" cy="1296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43520" y="1752480"/>
            <a:ext cx="99720" cy="1296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179960" y="1752480"/>
            <a:ext cx="87120" cy="1296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05240" y="1752480"/>
            <a:ext cx="100080" cy="1296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41680" y="1752480"/>
            <a:ext cx="87480" cy="1296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9920" y="1752480"/>
            <a:ext cx="87480" cy="1296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03760" y="1752480"/>
            <a:ext cx="100080" cy="1296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29040" y="1752480"/>
            <a:ext cx="87480" cy="1296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1752480"/>
            <a:ext cx="100080" cy="1296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1120" y="1752480"/>
            <a:ext cx="100080" cy="1296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7560" y="1752480"/>
            <a:ext cx="87480" cy="1296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53200" y="1752480"/>
            <a:ext cx="99720" cy="1296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89640" y="1752480"/>
            <a:ext cx="100080" cy="1296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27520" y="1752480"/>
            <a:ext cx="87480" cy="1296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51360" y="1752480"/>
            <a:ext cx="100080" cy="12960"/>
          </a:xfrm>
          <a:prstGeom prst="rect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89600" y="1752480"/>
            <a:ext cx="98280" cy="12960"/>
          </a:xfrm>
          <a:prstGeom prst="rect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6040" y="1752480"/>
            <a:ext cx="87480" cy="1296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51680" y="1752480"/>
            <a:ext cx="98280" cy="1296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88120" y="1752480"/>
            <a:ext cx="87120" cy="1296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424560" y="1752480"/>
            <a:ext cx="87480" cy="1296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550200" y="1752480"/>
            <a:ext cx="99720" cy="1296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86640" y="1752480"/>
            <a:ext cx="87120" cy="1296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11920" y="1752480"/>
            <a:ext cx="100080" cy="1296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1752480"/>
            <a:ext cx="98640" cy="1296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074000" y="1752480"/>
            <a:ext cx="87120" cy="1296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99280" y="1752480"/>
            <a:ext cx="98280" cy="1296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35720" y="1752480"/>
            <a:ext cx="87480" cy="1296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472520" y="1752480"/>
            <a:ext cx="87120" cy="129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585200" y="5843520"/>
            <a:ext cx="12600" cy="10008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585200" y="5718240"/>
            <a:ext cx="12600" cy="8712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5200" y="5580000"/>
            <a:ext cx="12600" cy="10008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85200" y="5454720"/>
            <a:ext cx="12600" cy="10008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85200" y="5329080"/>
            <a:ext cx="12600" cy="8748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85200" y="5191200"/>
            <a:ext cx="12600" cy="10008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85200" y="5052960"/>
            <a:ext cx="12600" cy="10008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85200" y="4525920"/>
            <a:ext cx="12600" cy="8748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585200" y="4400640"/>
            <a:ext cx="12600" cy="10008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85200" y="4275000"/>
            <a:ext cx="12600" cy="8748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85200" y="4137120"/>
            <a:ext cx="12600" cy="10008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85200" y="3998880"/>
            <a:ext cx="12600" cy="100080"/>
          </a:xfrm>
          <a:prstGeom prst="rect">
            <a:avLst/>
          </a:pr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85200" y="3873600"/>
            <a:ext cx="12600" cy="87120"/>
          </a:xfrm>
          <a:prstGeom prst="rect">
            <a:avLst/>
          </a:pr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85200" y="3735360"/>
            <a:ext cx="12600" cy="100080"/>
          </a:xfrm>
          <a:prstGeom prst="rect">
            <a:avLst/>
          </a:pr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585200" y="3597120"/>
            <a:ext cx="12600" cy="100080"/>
          </a:xfrm>
          <a:prstGeom prst="rect">
            <a:avLst/>
          </a:pr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85200" y="3471840"/>
            <a:ext cx="12600" cy="87480"/>
          </a:xfrm>
          <a:prstGeom prst="rect">
            <a:avLst/>
          </a:pr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85200" y="3333600"/>
            <a:ext cx="12600" cy="100080"/>
          </a:xfrm>
          <a:prstGeom prst="rect">
            <a:avLst/>
          </a:pr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585200" y="3195720"/>
            <a:ext cx="12600" cy="10008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585200" y="3070080"/>
            <a:ext cx="12600" cy="8748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585200" y="2932200"/>
            <a:ext cx="12600" cy="10008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585200" y="2806560"/>
            <a:ext cx="12600" cy="87480"/>
          </a:xfrm>
          <a:prstGeom prst="rect">
            <a:avLst/>
          </a:pr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585200" y="2668680"/>
            <a:ext cx="12600" cy="87120"/>
          </a:xfrm>
          <a:prstGeom prst="rect">
            <a:avLst/>
          </a:pr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85200" y="2530440"/>
            <a:ext cx="12600" cy="100080"/>
          </a:xfrm>
          <a:prstGeom prst="rect">
            <a:avLst/>
          </a:pr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85200" y="2405160"/>
            <a:ext cx="12600" cy="8712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585200" y="2279520"/>
            <a:ext cx="12600" cy="10008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585200" y="2141640"/>
            <a:ext cx="12600" cy="10008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85200" y="2016000"/>
            <a:ext cx="12600" cy="87480"/>
          </a:xfrm>
          <a:prstGeom prst="rect">
            <a:avLst/>
          </a:pr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585200" y="1878120"/>
            <a:ext cx="12600" cy="100080"/>
          </a:xfrm>
          <a:prstGeom prst="rect">
            <a:avLst/>
          </a:pr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85200" y="1752480"/>
            <a:ext cx="12600" cy="87480"/>
          </a:xfrm>
          <a:prstGeom prst="rect">
            <a:avLst/>
          </a:pr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3280" y="5856120"/>
            <a:ext cx="12600" cy="10008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73280" y="5730840"/>
            <a:ext cx="12600" cy="8748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73280" y="5592600"/>
            <a:ext cx="12600" cy="10008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73280" y="5467320"/>
            <a:ext cx="12600" cy="100080"/>
          </a:xfrm>
          <a:prstGeom prst="rect">
            <a:avLst/>
          </a:pr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73280" y="5342040"/>
            <a:ext cx="12600" cy="8712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73280" y="5203800"/>
            <a:ext cx="12600" cy="100080"/>
          </a:xfrm>
          <a:prstGeom prst="rect">
            <a:avLst/>
          </a:pr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73280" y="5065560"/>
            <a:ext cx="12600" cy="10008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673280" y="4940280"/>
            <a:ext cx="12600" cy="8748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3280" y="4802040"/>
            <a:ext cx="12600" cy="100080"/>
          </a:xfrm>
          <a:prstGeom prst="rect">
            <a:avLst/>
          </a:pr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73280" y="4664160"/>
            <a:ext cx="12600" cy="10008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73280" y="4538520"/>
            <a:ext cx="12600" cy="87480"/>
          </a:xfrm>
          <a:prstGeom prst="rect">
            <a:avLst/>
          </a:pr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3280" y="4413240"/>
            <a:ext cx="12600" cy="10008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3280" y="4287960"/>
            <a:ext cx="12600" cy="87120"/>
          </a:xfrm>
          <a:prstGeom prst="rect">
            <a:avLst/>
          </a:pr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73280" y="4149720"/>
            <a:ext cx="12600" cy="1000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3280" y="4011480"/>
            <a:ext cx="12600" cy="100080"/>
          </a:xfrm>
          <a:prstGeom prst="rect">
            <a:avLst/>
          </a:pr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73280" y="3886200"/>
            <a:ext cx="12600" cy="8748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73280" y="3747960"/>
            <a:ext cx="12600" cy="100080"/>
          </a:xfrm>
          <a:prstGeom prst="rect">
            <a:avLst/>
          </a:pr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3280" y="3610080"/>
            <a:ext cx="12600" cy="10008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73280" y="3484440"/>
            <a:ext cx="12600" cy="8748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73280" y="3346560"/>
            <a:ext cx="12600" cy="100080"/>
          </a:xfrm>
          <a:prstGeom prst="rect">
            <a:avLst/>
          </a:pr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73280" y="3208320"/>
            <a:ext cx="12600" cy="10008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3280" y="3083040"/>
            <a:ext cx="12600" cy="87120"/>
          </a:xfrm>
          <a:prstGeom prst="rect">
            <a:avLst/>
          </a:pr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73280" y="2944800"/>
            <a:ext cx="12600" cy="100080"/>
          </a:xfrm>
          <a:prstGeom prst="rect">
            <a:avLst/>
          </a:pr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73280" y="2819520"/>
            <a:ext cx="12600" cy="87120"/>
          </a:xfrm>
          <a:prstGeom prst="rect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73280" y="2681280"/>
            <a:ext cx="12600" cy="87480"/>
          </a:xfrm>
          <a:prstGeom prst="rect">
            <a:avLst/>
          </a:pr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73280" y="2543040"/>
            <a:ext cx="12600" cy="10008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73280" y="2417760"/>
            <a:ext cx="12600" cy="87480"/>
          </a:xfrm>
          <a:prstGeom prst="rect">
            <a:avLst/>
          </a:pr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73280" y="2292480"/>
            <a:ext cx="12600" cy="99720"/>
          </a:xfrm>
          <a:prstGeom prst="rect">
            <a:avLst/>
          </a:pr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73280" y="2154240"/>
            <a:ext cx="12600" cy="100080"/>
          </a:xfrm>
          <a:prstGeom prst="rect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73280" y="2028960"/>
            <a:ext cx="12600" cy="87120"/>
          </a:xfrm>
          <a:prstGeom prst="rect">
            <a:avLst/>
          </a:pr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73280" y="1890720"/>
            <a:ext cx="12600" cy="100080"/>
          </a:xfrm>
          <a:prstGeom prst="rect">
            <a:avLst/>
          </a:pr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73280" y="1765440"/>
            <a:ext cx="12600" cy="87120"/>
          </a:xfrm>
          <a:prstGeom prst="rect">
            <a:avLst/>
          </a:pr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59720" y="317016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59720" y="317016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72320" y="2894040"/>
            <a:ext cx="149400" cy="12528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162840" y="2944800"/>
            <a:ext cx="1622160" cy="25560"/>
          </a:xfrm>
          <a:prstGeom prst="rect">
            <a:avLst/>
          </a:pr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7560" y="473868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57400" y="4802040"/>
            <a:ext cx="312840" cy="36720"/>
          </a:xfrm>
          <a:prstGeom prst="rect">
            <a:avLst/>
          </a:pr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54640" y="473868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05240" y="4802040"/>
            <a:ext cx="262080" cy="36720"/>
          </a:xfrm>
          <a:prstGeom prst="rect">
            <a:avLst/>
          </a:pr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776920" y="473868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40480" y="4802040"/>
            <a:ext cx="249120" cy="36720"/>
          </a:xfrm>
          <a:prstGeom prst="rect">
            <a:avLst/>
          </a:pr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73880" y="477684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61040" y="4838760"/>
            <a:ext cx="424080" cy="38160"/>
          </a:xfrm>
          <a:prstGeom prst="rect">
            <a:avLst/>
          </a:pr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419640" y="295740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19480" y="3019320"/>
            <a:ext cx="312840" cy="38160"/>
          </a:xfrm>
          <a:prstGeom prst="rect">
            <a:avLst/>
          </a:pr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91240" y="295740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92800" y="3019320"/>
            <a:ext cx="411120" cy="3816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008560" y="32702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040240" y="59180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153280" y="4648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e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86760" y="2205000"/>
            <a:ext cx="1158840" cy="663480"/>
          </a:xfrm>
          <a:prstGeom prst="rect">
            <a:avLst/>
          </a:pr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15328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6:41:44Z</dcterms:created>
  <dc:creator> Antonin Artaud</dc:creator>
  <dc:description/>
  <dc:language>en-US</dc:language>
  <cp:lastModifiedBy>Antonin ARTAUD</cp:lastModifiedBy>
  <dcterms:modified xsi:type="dcterms:W3CDTF">2009-11-10T12:59:00Z</dcterms:modified>
  <cp:revision>27</cp:revision>
  <dc:subject/>
  <dc:title>Etude fonctionnelle d’un produit</dc:title>
</cp:coreProperties>
</file>