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2E5-D687-4AAD-A553-93644809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35B-4362-4DA9-9682-EB3A463F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E04-474E-4BF4-AB10-758B0DF3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528-8D7C-4AE2-AF68-6A3061AD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AD92-493A-436A-932D-F5AA3D06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C9BA-42EA-4496-A91D-8095B4F0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70C8-E4CC-401E-BB8D-F40B8683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F78D-A023-4679-BC37-61C91E77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CE2C-7DE5-4DCA-9692-36B35C36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A82A-CF64-4EC9-A9BC-B6372E62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7310-BBFE-43F9-96D1-B24BF5F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EA5-4695-4CD2-983E-958D4A99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832C-53A0-4870-B56E-F36F6A8F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A363-0B0C-446C-9541-C8B7D35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B082-138B-45BF-AAD7-DE7B4D43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0AE1-493B-42C8-8F71-B85606B0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E49D-7D7D-474B-B608-C274AEA8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7EC-2D23-435E-8590-B121F3F2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71D-1951-4DA7-BA1B-74F62CDD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8FA-06FD-4594-B97C-22FC2FCA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AA8-84C1-462D-AC3F-FB00A43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5B0-D262-4EDC-97D6-C7C878A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3F2-15C7-41BF-A5BA-1A9930B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294-9E25-43E0-8260-FA2673AD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BB78-730C-4DA7-BA9E-2A9C37FCDC9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0266-D59B-40A3-A849-07A20181BEE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1878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Statique Graphiqu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71080" y="3123720"/>
            <a:ext cx="67532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Black"/>
              </a:rPr>
              <a:t>Perforatrice De Bureau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Black"/>
              </a:rPr>
              <a:t>Activité N°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Méthode Du Dynamique – Funiculai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Black"/>
              </a:rPr>
              <a:t>Forces Parallèl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etape2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108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Étape 3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30481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Tracez, alors, la parallèle au rayon 2 passant par L, sur la direction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2133720"/>
            <a:ext cx="304920" cy="259056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2057400"/>
            <a:ext cx="31240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Comme on connaît la direction de toutes les directions, on n’est pas tenu de faire passer les parallèles en un point particulier 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181480"/>
            <a:ext cx="1828800" cy="990720"/>
          </a:xfrm>
          <a:prstGeom prst="wedgeRoundRectCallout">
            <a:avLst>
              <a:gd name="adj1" fmla="val -38541"/>
              <a:gd name="adj2" fmla="val -119231"/>
              <a:gd name="adj3" fmla="val 16667"/>
            </a:avLst>
          </a:pr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1932"/>
                </a:solidFill>
                <a:latin typeface="Comic Sans MS"/>
              </a:rPr>
              <a:t>Parallèle au Rayon polaire 2 passant par 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124080"/>
            <a:ext cx="1219320" cy="533520"/>
          </a:xfrm>
          <a:prstGeom prst="wedgeRoundRectCallout">
            <a:avLst>
              <a:gd name="adj1" fmla="val 82680"/>
              <a:gd name="adj2" fmla="val 121430"/>
              <a:gd name="adj3" fmla="val 16667"/>
            </a:avLst>
          </a:pr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1932"/>
                </a:solidFill>
                <a:latin typeface="Comic Sans MS"/>
              </a:rPr>
              <a:t>Point 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5000" y="42670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On obtient le point d’intersection 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 sur la direction de l’action connu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91320" y="3581280"/>
                <a:ext cx="647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6553080" y="3733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Le point L 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</a:rPr>
              <a:t>appartiendra à la ligne de fermetu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etape3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086600" cy="4081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Étape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1337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Comme  1 et 2 se coupent sur la direction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086600" y="2514600"/>
                <a:ext cx="6858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t xml:space="preserve">→</m:t>
                        </m:r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867280" y="32004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On trace la parallèle  au rayon polaire 1 passant par </a:t>
            </a:r>
            <a:r>
              <a:rPr b="0" lang="fr-FR" sz="1400" spc="-1" strike="noStrike">
                <a:solidFill>
                  <a:srgbClr val="ffff00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2286000"/>
            <a:ext cx="304560" cy="2286000"/>
          </a:xfrm>
          <a:custGeom>
            <a:avLst/>
            <a:gdLst>
              <a:gd name="textAreaLeft" fmla="*/ 0 w 304560"/>
              <a:gd name="textAreaRight" fmla="*/ 10980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3962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On obtient le point d’intersection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334120"/>
            <a:ext cx="2286000" cy="609480"/>
          </a:xfrm>
          <a:prstGeom prst="wedgeRoundRectCallout">
            <a:avLst>
              <a:gd name="adj1" fmla="val 23888"/>
              <a:gd name="adj2" fmla="val -321875"/>
              <a:gd name="adj3" fmla="val 16667"/>
            </a:avLst>
          </a:pr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Parallèle au rayon polaire 2 passant par 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495680"/>
            <a:ext cx="1295280" cy="381240"/>
          </a:xfrm>
          <a:prstGeom prst="wedgeRoundRectCallout">
            <a:avLst>
              <a:gd name="adj1" fmla="val 37745"/>
              <a:gd name="adj2" fmla="val -227083"/>
              <a:gd name="adj3" fmla="val 16667"/>
            </a:avLst>
          </a:pr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oint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etape4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86600" cy="4097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Étape 5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0574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Le point N appartient à la ligne de fermeture car </a:t>
            </a:r>
            <a:r>
              <a:rPr b="0" lang="fr-FR" sz="1600" spc="-1" strike="noStrike">
                <a:solidFill>
                  <a:srgbClr val="ffff00"/>
                </a:solidFill>
                <a:latin typeface="Comic Sans MS"/>
              </a:rPr>
              <a:t>le rayon 2 et la ligne de fermeture se coupent sur la direct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858000" y="2819520"/>
                <a:ext cx="609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81480" y="34290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Tracez la droite passant par L et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09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7c80"/>
                </a:solidFill>
                <a:latin typeface="Comic Sans MS"/>
              </a:rPr>
              <a:t>C’est la ligne de fermeture, L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5638680"/>
            <a:ext cx="2057400" cy="457200"/>
          </a:xfrm>
          <a:prstGeom prst="wedgeRoundRectCallout">
            <a:avLst>
              <a:gd name="adj1" fmla="val -22453"/>
              <a:gd name="adj2" fmla="val -337847"/>
              <a:gd name="adj3" fmla="val 16667"/>
            </a:avLst>
          </a:pr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286000"/>
            <a:ext cx="304920" cy="243828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etape5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10640" cy="4052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Étape 6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51814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Tracez la parallèle à LDF passant par le pôle P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379000">
            <a:off x="2628000" y="3390840"/>
            <a:ext cx="304920" cy="3429000"/>
          </a:xfrm>
          <a:custGeom>
            <a:avLst/>
            <a:gdLst>
              <a:gd name="textAreaLeft" fmla="*/ 0 w 304920"/>
              <a:gd name="textAreaRight" fmla="*/ 110160 w 3049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58672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On obtient le </a:t>
            </a:r>
            <a:r>
              <a:rPr b="0" lang="fr-FR" sz="1600" spc="-1" strike="noStrike">
                <a:solidFill>
                  <a:srgbClr val="ffff00"/>
                </a:solidFill>
                <a:latin typeface="Comic Sans MS"/>
              </a:rPr>
              <a:t>rayon polaire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etape6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0975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Étape 7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5105520"/>
            <a:ext cx="2971800" cy="106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Reportez les directions des actions et constituez non pas un triangle mais un rectangle de forc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etape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0975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Étape 8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51055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Légendez les vecteurs forces obten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5715000"/>
            <a:ext cx="3429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Mesurez les cotés du dynamiq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Convertissez et notez la norme des vecteurs forces sur la même feuil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2057400"/>
            <a:ext cx="40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Indiquez le sens des vecteurs du dynamique tel que chaque origine de vecteur rencontre l’extrémité d’un aut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Étape Final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2362320"/>
            <a:ext cx="30477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Terminez le problème en reportant les vecteurs forces sur le document de travail 2 à l’échelle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donné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Remplissez le tableau de synthè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final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382896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038480" y="2362320"/>
                <a:ext cx="633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t xml:space="preserve">→</m:t>
                        </m:r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819520" y="3962520"/>
                <a:ext cx="647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828800" y="5029200"/>
                <a:ext cx="6415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  <m:r>
                              <m:t xml:space="preserve">→</m:t>
                            </m:r>
                            <m:r>
                              <m:t xml:space="preserve">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Appelez Le Professeur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BD07017_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338560" cy="2435400"/>
          </a:xfrm>
          <a:prstGeom prst="rect">
            <a:avLst/>
          </a:prstGeom>
          <a:ln w="0">
            <a:noFill/>
          </a:ln>
        </p:spPr>
      </p:pic>
      <p:pic>
        <p:nvPicPr>
          <p:cNvPr id="265" name="BS02042_" descr=""/>
          <p:cNvPicPr/>
          <p:nvPr/>
        </p:nvPicPr>
        <p:blipFill>
          <a:blip r:embed="rId2"/>
          <a:stretch/>
        </p:blipFill>
        <p:spPr>
          <a:xfrm>
            <a:off x="3809880" y="3886200"/>
            <a:ext cx="1990800" cy="2509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10080" y="2590920"/>
            <a:ext cx="3429000" cy="1371600"/>
          </a:xfrm>
          <a:prstGeom prst="wedgeRoundRectCallout">
            <a:avLst>
              <a:gd name="adj1" fmla="val -48611"/>
              <a:gd name="adj2" fmla="val 79745"/>
              <a:gd name="adj3" fmla="val 16667"/>
            </a:avLst>
          </a:pr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1932"/>
                </a:solidFill>
                <a:latin typeface="Comic Sans MS"/>
              </a:rPr>
              <a:t>S’il vous plaît M’sieur 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Fiche Pédagogique 1/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133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Objectif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30481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terminer les actions mécaniques qui s’exercent sur un système isolé par une méthode graph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4572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Compétences nouvelle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3341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pliquer la méthode du « dynamique – funiculaire » dans le cas de forces parallè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95280" y="2057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Pré-requi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743200"/>
            <a:ext cx="6095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soler un système matéri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aire le bilan des actions mécaniques extérie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Appliquer le P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éthode de résolution dans le cas de forces concour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Fiche Pédagogique 2/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4956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Travail préparatoire effectué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5105520"/>
            <a:ext cx="5105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solement du levier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Bilan des actions méca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FS écr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Fiche Travail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2438280"/>
            <a:ext cx="6629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mplétez le document de travail fourni ( feuille format A3H) en respectant les indications du diapora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espectez les coule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ssurez-vous que votre document de travail comporte bien toutes les informations (tracé, point, et textes) de la diapositive courante avant de passer à la suiv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Tracé Du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Dynamique - Funiculair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514600"/>
            <a:ext cx="7086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our tracer le dynamique et le funiculaire, nous devons connaître au moins une force </a:t>
            </a:r>
            <a:r>
              <a:rPr b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mplètement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et la </a:t>
            </a:r>
            <a:r>
              <a:rPr b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rection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d’une aut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ous sommes en présence d’un système soumis à trois actions parallèles, donc nous connaissons ici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4038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’action mécanique de l’opérateur sur le levier 6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54100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a direction de l’action mécanique du corps sur le levier 6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324480" y="3657600"/>
                <a:ext cx="12207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t xml:space="preserve">→</m:t>
                        </m:r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429680" y="4381560"/>
                <a:ext cx="1143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80060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a direction de l’action mécanique du poinçon sur le levier 6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162920" y="5181480"/>
                <a:ext cx="1123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→</m:t>
                        </m:r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Image Du Tracé Final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3314160" y="4457520"/>
            <a:ext cx="457200" cy="2210040"/>
          </a:xfrm>
          <a:custGeom>
            <a:avLst/>
            <a:gdLst>
              <a:gd name="textAreaLeft" fmla="*/ 0 w 457200"/>
              <a:gd name="textAreaRight" fmla="*/ 164880 w 4572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85000">
            <a:off x="6095520" y="4495680"/>
            <a:ext cx="457200" cy="2133720"/>
          </a:xfrm>
          <a:custGeom>
            <a:avLst/>
            <a:gdLst>
              <a:gd name="textAreaLeft" fmla="*/ 0 w 457200"/>
              <a:gd name="textAreaRight" fmla="*/ 164880 w 4572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59"/>
                </a:lnTo>
                <a:cubicBezTo>
                  <a:pt x="10800" y="9659"/>
                  <a:pt x="16200" y="10559"/>
                  <a:pt x="21600" y="10559"/>
                </a:cubicBezTo>
                <a:cubicBezTo>
                  <a:pt x="16200" y="10559"/>
                  <a:pt x="10800" y="11459"/>
                  <a:pt x="10800" y="1235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5791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uniculaire fermé grâce à la ligne de fermeture « LDF » ici en ve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ynamique ferm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8etape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5386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Démarche De Tracé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209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ous effectuerons un tracé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3048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500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cc"/>
                </a:solidFill>
                <a:latin typeface="Times New Roman"/>
              </a:rPr>
              <a:t>tantôt sur le dynam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34290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99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cc"/>
                </a:solidFill>
                <a:latin typeface="Times New Roman"/>
              </a:rPr>
              <a:t>tantôt sur le funicul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4419720"/>
            <a:ext cx="37339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réparez vos règle et équerre ainsi que vos crayons de couleurs et calculatr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BD05097_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17254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etape1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Étape 1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 rot="16239600">
            <a:off x="6627600" y="2906280"/>
            <a:ext cx="304920" cy="3200400"/>
          </a:xfrm>
          <a:custGeom>
            <a:avLst/>
            <a:gdLst>
              <a:gd name="textAreaLeft" fmla="*/ 0 w 304920"/>
              <a:gd name="textAreaRight" fmla="*/ 110160 w 30492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6"/>
                </a:lnTo>
                <a:cubicBezTo>
                  <a:pt x="10800" y="9916"/>
                  <a:pt x="16200" y="10816"/>
                  <a:pt x="21600" y="10816"/>
                </a:cubicBezTo>
                <a:cubicBezTo>
                  <a:pt x="16200" y="10816"/>
                  <a:pt x="10800" y="11716"/>
                  <a:pt x="10800" y="126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172200" y="3505320"/>
                <a:ext cx="1222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t xml:space="preserve">→</m:t>
                        </m:r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60199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99ff99"/>
                </a:solidFill>
                <a:latin typeface="Comic Sans MS"/>
              </a:rPr>
              <a:t>Échelle 10mm=4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518148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Prolonger les droit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mic Sans MS"/>
              </a:rPr>
              <a:t>d’actions des actions 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133720"/>
            <a:ext cx="3352680" cy="106740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Tracez en bas de la feuille et à l’échelle donnée le vecteur force </a:t>
            </a:r>
            <a:r>
              <a:rPr b="1" lang="fr-FR" sz="1600" spc="-1" strike="noStrike">
                <a:solidFill>
                  <a:srgbClr val="ffff00"/>
                </a:solidFill>
                <a:latin typeface="Comic Sans MS"/>
              </a:rPr>
              <a:t>connu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le </a:t>
            </a:r>
            <a:r>
              <a:rPr b="1" lang="fr-FR" sz="1600" spc="-1" strike="noStrike">
                <a:solidFill>
                  <a:srgbClr val="ffff00"/>
                </a:solidFill>
                <a:latin typeface="Comic Sans MS"/>
              </a:rPr>
              <a:t>pôle</a:t>
            </a: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 et les </a:t>
            </a:r>
            <a:r>
              <a:rPr b="1" lang="fr-FR" sz="1600" spc="-1" strike="noStrike">
                <a:solidFill>
                  <a:srgbClr val="ffff00"/>
                </a:solidFill>
                <a:latin typeface="Comic Sans MS"/>
              </a:rPr>
              <a:t>rayons polaires 1 et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 Black"/>
              </a:rPr>
              <a:t>Étape 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2209680"/>
            <a:ext cx="60195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Nous allons poser notre démarch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hoisir arbitrairement « l’encadrement » par les rayons polaires des 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gradFill rotWithShape="0">
            <a:gsLst>
              <a:gs pos="0">
                <a:srgbClr val="99ffcc"/>
              </a:gs>
              <a:gs pos="100000">
                <a:srgbClr val="2181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58128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Comic Sans MS"/>
              </a:rPr>
              <a:t>Est encadré par 1 et 2, donc // à 1 et // à 2 se coupent sur le funiculaire sur la direct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434340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ff"/>
                </a:solidFill>
                <a:latin typeface="Comic Sans MS"/>
              </a:rPr>
              <a:t>Est encadré par 2 et LDF, donc // à 2 et LDF se coupent sur le funiculaire sur la direct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510552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ff99"/>
                </a:solidFill>
                <a:latin typeface="Comic Sans MS"/>
              </a:rPr>
              <a:t>Est encadré par LDF et 1, donc // à 1 et LDF se coupent sur le funiculaire sur la direct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44520" y="3639960"/>
                <a:ext cx="7095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  <m:r>
                              <m:t xml:space="preserve">→</m:t>
                            </m:r>
                            <m:r>
                              <m:t xml:space="preserve">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4419720"/>
                <a:ext cx="648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295280" y="5181480"/>
                <a:ext cx="622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  <m:r>
                              <m:t xml:space="preserve">→</m:t>
                            </m:r>
                            <m:r>
                              <m:t xml:space="preserve">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086600" y="3657600"/>
                <a:ext cx="633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  <m:r>
                          <m:t xml:space="preserve">→</m:t>
                        </m:r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086600" y="4343400"/>
                <a:ext cx="647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86600" y="5105520"/>
                <a:ext cx="6415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  <m:r>
                              <m:t xml:space="preserve">→</m:t>
                            </m:r>
                            <m:r>
                              <m:t xml:space="preserve">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905120" y="5867280"/>
            <a:ext cx="5105160" cy="5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ette base de travail sera à respecter pour mener à bien la construction du funiculaire 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609480"/>
            <a:ext cx="2666880" cy="1524240"/>
          </a:xfrm>
          <a:prstGeom prst="wedgeEllipseCallout">
            <a:avLst>
              <a:gd name="adj1" fmla="val -20296"/>
              <a:gd name="adj2" fmla="val 171875"/>
            </a:avLst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7c80"/>
                </a:solidFill>
                <a:latin typeface="Comic Sans MS"/>
              </a:rPr>
              <a:t>Notez cette base de construction sur la feuille de trac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7:30:08Z</dcterms:created>
  <dc:creator>BOVE AURIEL</dc:creator>
  <dc:description/>
  <dc:language>en-US</dc:language>
  <cp:lastModifiedBy>Michel</cp:lastModifiedBy>
  <dcterms:modified xsi:type="dcterms:W3CDTF">2011-03-25T06:51:11Z</dcterms:modified>
  <cp:revision>123</cp:revision>
  <dc:subject/>
  <dc:title>Statique graphique</dc:title>
</cp:coreProperties>
</file>