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0B15-1E0D-4808-8724-D07D562C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049-596C-489E-9F65-B869E60C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D111-7352-4C81-8DE7-BB38323D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FA3-D706-443F-B15E-8F366584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B3EF-EF16-4504-B3FE-EAA9956E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DD0E-3287-4D4D-A21E-0ED8B9E0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6E97-7DFC-4760-AECC-5CF9904B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1BB6-91AA-43A7-AF94-CA020FB4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62EE-02FC-4A33-95F4-EAB5FE07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842C-E554-4DBC-B2C9-E04FD6D3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968A-1625-471B-A0A2-CB358D08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DD6-C829-4190-9E85-16032CAF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FBE8-3126-47CF-98C9-EE6D5782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4BD8-A7DD-4DF5-8838-19A4EAF5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922B-EB1A-4B43-85CD-ECF42847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FF47-D6B6-43FC-B5B7-3680CEC5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D065-5FC0-42FB-BB12-F13144EE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AE05-D4F7-4CB5-9182-64BD2DFE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5F08-33EC-4E32-AFA9-AC182023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B69-D7A0-4B17-898A-BE11B115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948-5DC7-480B-BB43-7EEE8DD9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52E5-0364-43AD-BAAA-68C033BB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AEC-868D-4674-A8EC-1F56226E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39E-FF8E-480E-81F6-71BC664F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2186-DBE6-4DE0-ABBC-C05DDA882F4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0F20-2693-4884-B97D-62F0A017730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3809880"/>
            <a:ext cx="8001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. Effort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aisons une coupure fictive (la section droite S est située à x de A) entre A et B afin de faire apparaître les efforts intérie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838080"/>
            <a:ext cx="79250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. Dé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ne poutre droite est sollicitée en traction chaque fois que les actions aux extrémités (A et B) se réduisent à deux forces égales et opposées de direction, la ligne moyenne (L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5943600" cy="87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1905120" y="4800600"/>
          <a:ext cx="6476760" cy="18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4800600"/>
                    <a:ext cx="647676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57240" y="152280"/>
            <a:ext cx="2133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Tra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467480" y="5105520"/>
                <a:ext cx="3272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438280" y="5105520"/>
                <a:ext cx="490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057400" y="2438280"/>
            <a:ext cx="838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2362320"/>
            <a:ext cx="8380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467480" y="2438280"/>
                <a:ext cx="3272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38280" y="2438280"/>
                <a:ext cx="490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2666880" y="228600"/>
          <a:ext cx="3886200" cy="19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8600"/>
                    <a:ext cx="388620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429000" y="4114800"/>
                <a:ext cx="13082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1520640" y="2286000"/>
            <a:ext cx="49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Isolons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le tronçon 1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, AG (G centre de gravité de 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17760" y="2971800"/>
            <a:ext cx="55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nventaire des actions mécaniques appliquées au tronço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96240" y="3657600"/>
            <a:ext cx="36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rincipe Fondamentale de la St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7829640" y="2836800"/>
                <a:ext cx="4903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110360" y="2830680"/>
                <a:ext cx="5619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7620120" y="290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971800" y="609480"/>
                <a:ext cx="490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34120" y="152280"/>
                <a:ext cx="5619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2823120" y="1676520"/>
            <a:ext cx="14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upure fi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172200" y="990720"/>
                <a:ext cx="1100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acc>
                          </m:e>
                        </m:d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3276360" y="47242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s de mo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4000" y="56386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criture du torseur de cohésio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181480" y="5029200"/>
                <a:ext cx="369756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h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acc>
                          </m:e>
                        </m:d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F</m:t>
                                  </m:r>
                                </m:e>
                                <m:e/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/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/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457200"/>
            <a:ext cx="784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. Contrainte normale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TE1AA71A0t00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 manière schématique, on admet que la contrainte normale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eprésente l’effort de traction en un point, d’aire égale à 1, de la section 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TE1AA71A0t00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n supposera une répartition uniforme des contraintes dans la coupure (ou section droite 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438280" y="2590920"/>
                <a:ext cx="7938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4343400" y="228600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Contrainte normale en N/mm² ou M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 : Effort normal en Newton 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 : Surface de la section droite S ( mm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66680" y="838080"/>
            <a:ext cx="4724640" cy="24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ésistance pratique à l’extension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Rp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(N/mm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our des raisons de sécurité, la contrainte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oit toujours rester inférieure à une résistance pratique à l’extension fixée par rapport à la limite élastique du matéria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pe est la valeur que l’on s’interdit de dépass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oefficient de sécurité es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057400" y="3657600"/>
                <a:ext cx="8175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60" name=""/>
          <p:cNvGraphicFramePr/>
          <p:nvPr/>
        </p:nvGraphicFramePr>
        <p:xfrm>
          <a:off x="5867280" y="914400"/>
          <a:ext cx="3276720" cy="29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914400"/>
                    <a:ext cx="3276720" cy="29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130040" y="304920"/>
            <a:ext cx="598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. Etude des constructions. Conditions de rés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019920" y="1981080"/>
                <a:ext cx="3744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943600" y="2514600"/>
                <a:ext cx="444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7467480" y="2438280"/>
                <a:ext cx="5605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134000" y="4572000"/>
            <a:ext cx="56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utilisation de Re ou Rr dépend de l’utilisation de la piè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81280" y="3657600"/>
                <a:ext cx="8175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2971800" y="3809880"/>
            <a:ext cx="6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7160" y="5483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ela se traduit par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178160" y="5473800"/>
                <a:ext cx="841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533520"/>
            <a:ext cx="43434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. Dé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tude de l’allongement dans la zone élastique du matéria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expérimentation montre que les allongements sont proportionnels aux longueurs initi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llongement relatif </a:t>
            </a:r>
            <a:r>
              <a:rPr b="0" lang="fr-FR" sz="1800" spc="-1" strike="noStrike">
                <a:solidFill>
                  <a:srgbClr val="000000"/>
                </a:solidFill>
                <a:latin typeface="GreekC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TTE1AABAE0t00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duit cette propriét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20040" y="3352680"/>
            <a:ext cx="14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s d’unit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9040" y="2286000"/>
            <a:ext cx="377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% est obtenu une fois l’éprouvette romp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38520" y="3809880"/>
            <a:ext cx="34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: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 : allongement du tronç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49440" y="4191120"/>
            <a:ext cx="32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0 : longueur initiale du tronç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48880" y="4951440"/>
            <a:ext cx="47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ention : A% et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ont deux choses différ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547640" y="3284640"/>
                <a:ext cx="8636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78" name=""/>
          <p:cNvGraphicFramePr/>
          <p:nvPr/>
        </p:nvGraphicFramePr>
        <p:xfrm>
          <a:off x="5334120" y="1219320"/>
          <a:ext cx="3504960" cy="96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219320"/>
                    <a:ext cx="350496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248520" y="2743200"/>
            <a:ext cx="16002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95280" y="685800"/>
            <a:ext cx="6477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. Relation entre contraintes et dé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oi de Hook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ette loi est valable, uniquement dans la zone élastique du matéria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21960" y="22860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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350532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contrainte normale (N/mm²) ou (Mp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allongement relatif (sans unité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: Module d’élasticité longitudinale (N/mm²) ou (Mp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8280" y="297180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19680" y="228600"/>
            <a:ext cx="366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. Concentration de contrai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219320" y="762120"/>
          <a:ext cx="769608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769608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745000" y="160020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ig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31200" y="160020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ig.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676520" y="762120"/>
                <a:ext cx="4903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638680" y="762120"/>
                <a:ext cx="490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962520" y="762120"/>
                <a:ext cx="326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848720" y="762120"/>
                <a:ext cx="326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1295280" y="1905120"/>
            <a:ext cx="7467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mi ces deux pièces, laquelle est la plus fragil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perçages, épaulements… sont des accidents géométriques. Ils génèrent des CONCENTRATIONS de contrainte. La contrainte maximale,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maxi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, subit par la structure est plus importante qu’on le cro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080" y="327672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ans accident géomét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48200" y="3276720"/>
            <a:ext cx="37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perçage au milieu de la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295280" y="3733920"/>
          <a:ext cx="3124440" cy="137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733920"/>
                    <a:ext cx="312444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876920" y="3657600"/>
          <a:ext cx="3657600" cy="15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3657600"/>
                    <a:ext cx="365760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332800" y="4952880"/>
            <a:ext cx="17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ci,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axi =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13720" y="495288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ci,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axi =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0.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78320" y="37004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ax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51640" y="3710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ax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539100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0 est la contrainte dans la pièce, sans accident géométri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kt prend en compte l’accident géométrique. C’est le coefficient de concentration de contrai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kt est à déterminer dans des abaq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752480" y="3886200"/>
                <a:ext cx="490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410080" y="3886200"/>
                <a:ext cx="490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79064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barre1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562720" cy="2362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295280" y="426708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in du perçage, la contrainte normale vaut 4,15 10</a:t>
            </a:r>
            <a:r>
              <a:rPr b="0" lang="fr-FR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Pa. Par contre, à proximité de ce même perçage (zone rouge) la contrainte normale grimpe à 9,138 10</a:t>
            </a:r>
            <a:r>
              <a:rPr b="0" lang="fr-FR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Pa, soit une peu plus du double de la valeur précédent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5638680"/>
            <a:ext cx="670572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tenir compte de ce phénomène, nous introduisons la notion de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fficient de concentration de contrainte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K</a:t>
            </a:r>
            <a:r>
              <a:rPr b="0" lang="fr-FR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oefContrainte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724280" cy="4473720"/>
          </a:xfrm>
          <a:prstGeom prst="rect">
            <a:avLst/>
          </a:prstGeom>
          <a:ln w="0">
            <a:noFill/>
          </a:ln>
        </p:spPr>
      </p:pic>
      <p:pic>
        <p:nvPicPr>
          <p:cNvPr id="213" name="Arbre" descr=""/>
          <p:cNvPicPr/>
          <p:nvPr/>
        </p:nvPicPr>
        <p:blipFill>
          <a:blip r:embed="rId2"/>
          <a:stretch/>
        </p:blipFill>
        <p:spPr>
          <a:xfrm>
            <a:off x="1219320" y="1143000"/>
            <a:ext cx="3047760" cy="15336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371600" y="2971800"/>
            <a:ext cx="2629080" cy="8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1219320"/>
            <a:ext cx="2286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bre épaulé en 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43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523880" y="3048120"/>
                <a:ext cx="235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l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d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o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le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dition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rsistance</m:t>
                        </m:r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143000" y="4648320"/>
                <a:ext cx="342900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t xml:space="preserve">D</m:t>
                                    </m:r>
                                  </m:den>
                                </m:f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4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e>
                              <m:e/>
                            </m:d>
                          </m:e>
                        </m:eqAr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,1</m:t>
                        </m:r>
                      </m:e>
                    </m:eqAr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al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´</m:t>
                        </m:r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´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al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,1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2590920" y="457200"/>
            <a:ext cx="4419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fficient de concentration de contrainte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K</a:t>
            </a:r>
            <a:r>
              <a:rPr b="0" lang="fr-FR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4038480"/>
            <a:ext cx="259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e 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= 100, d=64, r=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5000 da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06:43:01Z</dcterms:created>
  <dc:creator>Michel</dc:creator>
  <dc:description/>
  <dc:language>en-US</dc:language>
  <cp:lastModifiedBy> </cp:lastModifiedBy>
  <dcterms:modified xsi:type="dcterms:W3CDTF">2013-12-17T14:35:04Z</dcterms:modified>
  <cp:revision>8</cp:revision>
  <dc:subject/>
  <dc:title>Présentation PowerPoint</dc:title>
</cp:coreProperties>
</file>