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463-BEA8-432D-A2D5-7A07A1F8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9C-6B2E-4B8E-B989-3B8C1314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143-F29F-4BE5-AD4C-BABDEAC3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D13-C62A-4490-81A4-FD176273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116B-B966-4669-BC33-20AA3903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5670-D945-487E-AE20-BD3C6D9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2B28-8F7B-4AF1-8231-583464DA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7543-8BF4-4003-8362-0E25224A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90B-319A-4743-AD7C-18F03F06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0690-EE88-4E4F-99EA-1FD2F7C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085A-7D5F-47F0-973F-C15E949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4BD-450C-44C1-A673-F3E04A49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E72E-B8E8-4ABC-9CBA-6226D80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6330-5E73-49AE-9420-31D321C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BC0-616E-422F-AFD8-84A31CCD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C497-BE73-4114-B4B9-3CCCADD8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73DE-7E63-4125-AD15-6DA08ACA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0F4-9856-45B3-8840-0916A2C5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E08-010D-4AE6-BF99-E3A5487A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C3F-E6D2-4630-8AB3-2633FD6D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109-AD57-473A-9B61-5F7ACFDC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C03-FCE0-426A-898C-A0E4551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F54-F156-4B6C-9253-43C7C67F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7D6-3C18-45A6-B282-BC4FD0B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16A6-5B34-4978-BFB0-BDCB0514CD5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981E-1AA8-4F4A-A408-0FBCCB5DB0D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ésistance des matériaux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914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600200"/>
            <a:ext cx="83059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-1 Problèmes à résoudr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.Calcul de résistance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l faut déterminer les dimensions d’une pièce pour qu’elle résiste aux diverses forces externes et qu’en tous points le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ollicitations intern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e dépassent pas certaines lim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.Calcul de rigidité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déformations doivent être inférieure à une déformation       maximum que l’on s’est fix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.Calcul de vérification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rtaines dimensions peuvent être imposées par le montage, il faudra donc vérifier si ces dimensions conviennent soit en fonctions des sollicitations soit en fonction des déform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.Choix du matériaux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l faut choisir le matériau ou le vérifier d’après les charges appliquées, les dimensions, les caractéristiques du matériau, son prix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43000" y="7621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-Bold"/>
              </a:rPr>
              <a:t>En fonction de « l’allure » du torseur de cohésion, une typologie des </a:t>
            </a:r>
            <a:r>
              <a:rPr b="1" lang="en-US" sz="1200" spc="-1" strike="noStrike">
                <a:solidFill>
                  <a:srgbClr val="000000"/>
                </a:solidFill>
                <a:latin typeface="Times-Bold"/>
              </a:rPr>
              <a:t>sollicitations</a:t>
            </a:r>
            <a:r>
              <a:rPr b="0" lang="en-US" sz="1200" spc="-1" strike="noStrike">
                <a:solidFill>
                  <a:srgbClr val="000000"/>
                </a:solidFill>
                <a:latin typeface="Times-Bold"/>
              </a:rPr>
              <a:t> est établi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-Bold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MT"/>
              </a:rPr>
              <a:t>On appelle </a:t>
            </a:r>
            <a:r>
              <a:rPr b="1" lang="fr-FR" sz="1200" spc="-1" strike="noStrike">
                <a:solidFill>
                  <a:srgbClr val="000000"/>
                </a:solidFill>
                <a:latin typeface="ArialMT"/>
              </a:rPr>
              <a:t>sollicitation simple</a:t>
            </a:r>
            <a:r>
              <a:rPr b="0" lang="fr-FR" sz="1200" spc="-1" strike="noStrike">
                <a:solidFill>
                  <a:srgbClr val="000000"/>
                </a:solidFill>
                <a:latin typeface="ArialMT"/>
              </a:rPr>
              <a:t> l'état de contrainte d’une poutre dont le torseur de cohésion ne comporte qu'un élément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1905120"/>
          <a:ext cx="7162560" cy="3963960"/>
        </p:xfrm>
        <a:graphic>
          <a:graphicData uri="http://schemas.openxmlformats.org/drawingml/2006/table">
            <a:tbl>
              <a:tblPr/>
              <a:tblGrid>
                <a:gridCol w="1676160"/>
                <a:gridCol w="685800"/>
                <a:gridCol w="1052640"/>
                <a:gridCol w="1085760"/>
                <a:gridCol w="1087560"/>
                <a:gridCol w="15746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ture d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llicitation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ffort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ffort Tranch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ment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ment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lex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rseur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hé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Traction(N&gt;0)</a:t>
                      </a: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Compression (N&lt;0)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Cisaillement si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u 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Torsion si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366cc"/>
                          </a:solidFill>
                          <a:latin typeface="Times New Roman"/>
                        </a:rPr>
                        <a:t>Flexion p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u M</a:t>
                      </a:r>
                      <a:r>
                        <a:rPr b="0" lang="fr-FR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f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39765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934320" y="2514600"/>
                <a:ext cx="119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672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934320" y="3352680"/>
                <a:ext cx="1209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9434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934320" y="4267080"/>
                <a:ext cx="12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9196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943680" y="5153040"/>
                <a:ext cx="1305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219320" y="6095880"/>
            <a:ext cx="769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appelle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ollicitation composé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MT"/>
              </a:rPr>
              <a:t>l’état de sollicitation d’une poutr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oumise à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usieurs sollicitations s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par exemple : Traction + flexion pure)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2486160"/>
            <a:ext cx="218880" cy="237960"/>
          </a:xfrm>
          <a:custGeom>
            <a:avLst/>
            <a:gdLst>
              <a:gd name="textAreaLeft" fmla="*/ 14040 w 218880"/>
              <a:gd name="textAreaRight" fmla="*/ 204840 w 218880"/>
              <a:gd name="textAreaTop" fmla="*/ 14040 h 237960"/>
              <a:gd name="textAreaBottom" fmla="*/ 223920 h 237960"/>
            </a:gdLst>
            <a:ahLst/>
            <a:rect l="textAreaLeft" t="textAreaTop" r="textAreaRight" b="textAreaBottom"/>
            <a:pathLst>
              <a:path w="21600" h="23480">
                <a:moveTo>
                  <a:pt x="0" y="0"/>
                </a:moveTo>
                <a:lnTo>
                  <a:pt x="21600" y="0"/>
                </a:lnTo>
                <a:lnTo>
                  <a:pt x="21600" y="23480"/>
                </a:lnTo>
                <a:lnTo>
                  <a:pt x="0" y="23480"/>
                </a:lnTo>
                <a:close/>
              </a:path>
              <a:path fill="lightenLess" w="21600" h="234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80">
                <a:moveTo>
                  <a:pt x="21600" y="0"/>
                </a:moveTo>
                <a:lnTo>
                  <a:pt x="21600" y="23480"/>
                </a:lnTo>
                <a:lnTo>
                  <a:pt x="20200" y="22080"/>
                </a:lnTo>
                <a:lnTo>
                  <a:pt x="20200" y="1400"/>
                </a:lnTo>
                <a:close/>
              </a:path>
              <a:path fill="darkenLess" w="21600" h="23480">
                <a:moveTo>
                  <a:pt x="21600" y="23480"/>
                </a:moveTo>
                <a:lnTo>
                  <a:pt x="0" y="23480"/>
                </a:lnTo>
                <a:lnTo>
                  <a:pt x="1400" y="22080"/>
                </a:lnTo>
                <a:lnTo>
                  <a:pt x="20200" y="22080"/>
                </a:lnTo>
                <a:close/>
              </a:path>
              <a:path fill="lighten" w="21600" h="23480">
                <a:moveTo>
                  <a:pt x="0" y="234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80"/>
                </a:lnTo>
                <a:close/>
              </a:path>
              <a:path fill="darken" w="21600" h="23480">
                <a:moveTo>
                  <a:pt x="3794" y="8241"/>
                </a:moveTo>
                <a:lnTo>
                  <a:pt x="4707" y="8241"/>
                </a:lnTo>
                <a:lnTo>
                  <a:pt x="5090" y="8607"/>
                </a:lnTo>
                <a:lnTo>
                  <a:pt x="14299" y="8607"/>
                </a:lnTo>
                <a:lnTo>
                  <a:pt x="14856" y="9164"/>
                </a:lnTo>
                <a:lnTo>
                  <a:pt x="14856" y="9712"/>
                </a:lnTo>
                <a:lnTo>
                  <a:pt x="16701" y="9712"/>
                </a:lnTo>
                <a:lnTo>
                  <a:pt x="17067" y="9164"/>
                </a:lnTo>
                <a:lnTo>
                  <a:pt x="17806" y="9164"/>
                </a:lnTo>
                <a:lnTo>
                  <a:pt x="17806" y="14316"/>
                </a:lnTo>
                <a:lnTo>
                  <a:pt x="17067" y="14316"/>
                </a:lnTo>
                <a:lnTo>
                  <a:pt x="16701" y="13768"/>
                </a:lnTo>
                <a:lnTo>
                  <a:pt x="14856" y="13768"/>
                </a:lnTo>
                <a:lnTo>
                  <a:pt x="14856" y="15047"/>
                </a:lnTo>
                <a:lnTo>
                  <a:pt x="5273" y="15047"/>
                </a:lnTo>
                <a:lnTo>
                  <a:pt x="5273" y="10817"/>
                </a:lnTo>
                <a:lnTo>
                  <a:pt x="5090" y="10817"/>
                </a:lnTo>
                <a:lnTo>
                  <a:pt x="4707" y="11183"/>
                </a:lnTo>
                <a:lnTo>
                  <a:pt x="3794" y="1118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343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33680" y="515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V-Nature des solli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765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990720"/>
            <a:ext cx="4724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MT"/>
              </a:rPr>
              <a:t>Les efforts de cohésion, dont on connaît les éléments de réduction en G (grâce au torseur de cohésion), sont des actions mécaniques que le tronçon E2 de la poutre exerce sur le tronçon E1 à travers une section droite fictive S. La loi de répartition dans cette section S de ces efforts élémentaires est incon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ardons de plus près ce qui se passe dans cette coupure. Noton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action mécanique élémentaire au point M et ∆S l’élément de surface entourant c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ppelons     la normale extérieure en M au plan de la section S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143000" y="2095560"/>
                <a:ext cx="2286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952640" y="2467080"/>
                <a:ext cx="1141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85" name=""/>
          <p:cNvGraphicFramePr/>
          <p:nvPr/>
        </p:nvGraphicFramePr>
        <p:xfrm>
          <a:off x="5867280" y="838080"/>
          <a:ext cx="3276720" cy="18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838080"/>
                    <a:ext cx="32767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547640" y="3141720"/>
            <a:ext cx="6400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ppel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cteur contrain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 M, relativement à la surface élémentaire ∆S, orientée par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e extérieure      , le vecteur noté                  tel que 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ppel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ainte nor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la projection de                 sur la normale extérieur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ppel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ainte tangentiel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la projection de                   sur le plan de la facette ∆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176960" y="4113360"/>
                <a:ext cx="1144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29080" y="4618080"/>
                <a:ext cx="533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00800" y="3446640"/>
                <a:ext cx="1780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DS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e>
                      </m:mr>
                    </m:m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824280" y="4094280"/>
                <a:ext cx="1429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243320" y="3513240"/>
                <a:ext cx="533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024360" y="3541680"/>
                <a:ext cx="1141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062240" y="4637160"/>
                <a:ext cx="1144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995720" y="4065480"/>
                <a:ext cx="533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6948360" y="5805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contrainte s’expr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 1 Mpa = 1 N/mm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771640" y="5805360"/>
                <a:ext cx="345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150400" y="1738440"/>
                <a:ext cx="2538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588520" y="1327320"/>
                <a:ext cx="1396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190880" y="58770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 conséq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-Notion de vecteur contrainte en u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84360" y="5734080"/>
            <a:ext cx="410364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56160" y="1890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9600" y="1871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0400" y="8380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-2 Essai de trac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0640" y="1881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481120" cy="480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191120" cy="3071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43400" y="685800"/>
            <a:ext cx="228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1952640"/>
            <a:ext cx="284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1857240"/>
            <a:ext cx="241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29600" y="1523880"/>
            <a:ext cx="270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3657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élastiqu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(segment O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4320" y="396252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Pour tous les points de cette droite, la déformation (l'allongement unitaire) est proportionnelle à la contrainte (à l'effort exercé). Le matériau est parfaitement élastique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5720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d'écrouissage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(Partie 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048120"/>
            <a:ext cx="289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L'éprouvette a une déformation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lastique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ou permanente. L'allongement unitaire n'est plus proportionnel à l'effort appliqué. Lorsque celui ci est supprimé, l'éprouvette ne reprend pas sa longueur initiale.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'éprouvette s'allonge mais reste cylindrique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33880" y="5667480"/>
            <a:ext cx="48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de striction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(Partie 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'allongement continue de croître avec un effort qui diminue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Il apparaît un étranglement ou striction, qui s'accentue jusqu'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a rupture en D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48400" y="866880"/>
            <a:ext cx="257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95280" y="556272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ésistance élastique. (N / mm²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m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ésistance maximale. (N / mm²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r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ésistance à la rupture. (N / mm²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longueur initiale. (m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fr-FR" sz="1200" spc="-1" strike="noStrike">
                <a:solidFill>
                  <a:srgbClr val="000000"/>
                </a:solidFill>
                <a:latin typeface="Comic Sans MS"/>
              </a:rPr>
              <a:t>longueur à la rupture. (mm)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22360" y="6146640"/>
            <a:ext cx="106560" cy="174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15880" y="6318360"/>
            <a:ext cx="127080" cy="206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982800" cy="39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0" y="54864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</a:rPr>
              <a:t>Loi de Hooke :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086600" y="5791320"/>
            <a:ext cx="685800" cy="199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724280" y="457200"/>
            <a:ext cx="4189680" cy="4724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24280" y="56386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</a:rPr>
              <a:t>Allongement % :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6324480"/>
            <a:ext cx="228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E: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Module d'élasticité longitudina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fr-FR" sz="1000" spc="-1" strike="noStrike">
                <a:solidFill>
                  <a:srgbClr val="000000"/>
                </a:solidFill>
                <a:latin typeface="Comic Sans MS"/>
              </a:rPr>
              <a:t>ou de Young. (Mpa ou N / mm²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73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4343400" y="1828800"/>
            <a:ext cx="500040" cy="42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1295280" y="457200"/>
            <a:ext cx="3086280" cy="4724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24480" y="50292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Zone élastique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(segment O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371600"/>
            <a:ext cx="37339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5410080"/>
            <a:ext cx="129564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228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I-Hypothèses de la R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4582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2920" rIns="90000" tIns="7632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s notions abordées dans ce cours ne sont valables que pour des solides ayant une forme d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utre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’est-à-dire un solide pour lequel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longueur L est au moins 4 à 5 fois supérieure au diamètre D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n’y a pas de brusque variation de section (trous, épaulements)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 solide admet un seul et même plan de symétrie pour les charges et la géométr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existe une ligne moyenne, continue, passant par les barycentres des sections du solide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657600" cy="1914480"/>
          </a:xfrm>
          <a:prstGeom prst="rect">
            <a:avLst/>
          </a:prstGeom>
          <a:ln w="0">
            <a:noFill/>
          </a:ln>
        </p:spPr>
      </p:pic>
      <p:pic>
        <p:nvPicPr>
          <p:cNvPr id="165" name="ex_p1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4762440" cy="121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14000" y="472428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s de poutres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95288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s de poutres ne satisfaisant pa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hypothèse de symétrie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ex_p2" descr=""/>
          <p:cNvPicPr/>
          <p:nvPr/>
        </p:nvPicPr>
        <p:blipFill>
          <a:blip r:embed="rId3"/>
          <a:stretch/>
        </p:blipFill>
        <p:spPr>
          <a:xfrm>
            <a:off x="5791320" y="5638680"/>
            <a:ext cx="3124080" cy="695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791320" y="4724280"/>
            <a:ext cx="320040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320" y="76212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-1 Notion de pou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32200" y="76212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-2 Hypothèse fondam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676520"/>
            <a:ext cx="8001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hypothèses simplificatrices de la résistance des matériaux sont les suivantes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-Les matériaux sont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homogèn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isotrop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homogèn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On admet que les matériaux ont la même composition, en tout po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             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sotrope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: On admet que les matériaux ont, en un même point, les mêmes propriété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écaniques dans toutes les directions. L'isotropie est vérifiée pour les aciers n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fibrés  » (Les aciers laminés et forgés ne sont pas isotropes). Cette hypothèse n'est p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érifiée pour le bois, les matériaux composites, etc.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2-Il n’y a pas de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gauchissement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sections droites : les sections droites planes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pendiculaires à la ligne moyenne (fibre neutre), restent planes et perpendiculaires à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a ligne moyenne après déformation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3-Toutes les forces extérieures exercées sur la poutre sont contenues dans un pla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métrie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4-On suppose que les déformations restent faibles par rapport aux dimensions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out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II-Efforts intérieurs ou Torseur de cohé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30760" y="76212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I-1 Dé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1447920"/>
            <a:ext cx="739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érons une poutre P, en équilibre sous l’effet d’actions mécaniques extérie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mettre en évidence les efforts transmis par la matière au niveau de la section S, nous effectu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e coupure imagina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ans un plan perpendiculaire à la ligne moyenne. Elle sépare la poutre en deux tronçons E1 et E2, tel que E=E1+E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28800" y="2819520"/>
          <a:ext cx="495288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819520"/>
                    <a:ext cx="495288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790800" y="301932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52720" y="3324240"/>
            <a:ext cx="609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0" y="978"/>
                </a:moveTo>
                <a:arcTo wR="10800" hR="10800" stAng="-6873976" swAng="10240420"/>
                <a:lnTo>
                  <a:pt x="10800" y="10800"/>
                </a:lnTo>
                <a:close/>
              </a:path>
              <a:path fill="none" w="21600" h="21600">
                <a:moveTo>
                  <a:pt x="6310" y="978"/>
                </a:moveTo>
                <a:arcTo wR="10800" hR="10800" stAng="-6873976" swAng="1024042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6280" y="38480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24880" y="4795200"/>
            <a:ext cx="753480" cy="7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11" y="4555"/>
                </a:moveTo>
                <a:arcTo wR="10800" hR="10800" stAng="-2119778" swAng="9505025"/>
                <a:lnTo>
                  <a:pt x="10800" y="10800"/>
                </a:lnTo>
                <a:close/>
              </a:path>
              <a:path fill="none" w="21600" h="21600">
                <a:moveTo>
                  <a:pt x="19611" y="4555"/>
                </a:moveTo>
                <a:arcTo wR="10800" hR="10800" stAng="-2119778" swAng="950502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553080" y="4885920"/>
            <a:ext cx="8568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638680" y="510552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304920"/>
          <a:ext cx="7790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7790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447920" y="3048120"/>
            <a:ext cx="6781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lons le tronçon E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s actions mécaniques que le tronçon E2 exerce sur le tronçon E1 à travers la section droite S sont des actions mécaniques intérieures à la poutre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us en ignorons à priori la nature, cependant la liaison entre E1 et E2 peut être modélisée par une liaison complète.  On peut donc modéliser l’action mécanique E2 sur E1 par un torseur appelé 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orseur de cohésion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avec G sur la ligne moyenne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514600" y="5562720"/>
                <a:ext cx="40384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2</m:t>
                              </m: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1</m:t>
                              </m: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809880" y="152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71800" y="457200"/>
            <a:ext cx="60912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0" y="978"/>
                </a:moveTo>
                <a:arcTo wR="10800" hR="10800" stAng="-6873976" swAng="10240420"/>
                <a:lnTo>
                  <a:pt x="10800" y="10800"/>
                </a:lnTo>
                <a:close/>
              </a:path>
              <a:path fill="none" w="21600" h="21600">
                <a:moveTo>
                  <a:pt x="6310" y="978"/>
                </a:moveTo>
                <a:arcTo wR="10800" hR="10800" stAng="-6873976" swAng="1024042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05000" y="981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7680" y="833040"/>
            <a:ext cx="753480" cy="7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11" y="4555"/>
                </a:moveTo>
                <a:arcTo wR="10800" hR="10800" stAng="-2119778" swAng="9505025"/>
                <a:lnTo>
                  <a:pt x="10800" y="10800"/>
                </a:lnTo>
                <a:close/>
              </a:path>
              <a:path fill="none" w="21600" h="21600">
                <a:moveTo>
                  <a:pt x="19611" y="4555"/>
                </a:moveTo>
                <a:arcTo wR="10800" hR="10800" stAng="-2119778" swAng="950502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095880" y="923400"/>
            <a:ext cx="8568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81480" y="114300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1600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720" y="1905120"/>
            <a:ext cx="60912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10" y="978"/>
                </a:moveTo>
                <a:arcTo wR="10800" hR="10800" stAng="-6873976" swAng="10240420"/>
                <a:lnTo>
                  <a:pt x="10800" y="10800"/>
                </a:lnTo>
                <a:close/>
              </a:path>
              <a:path fill="none" w="21600" h="21600">
                <a:moveTo>
                  <a:pt x="6310" y="978"/>
                </a:moveTo>
                <a:arcTo wR="10800" hR="10800" stAng="-6873976" swAng="1024042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3920" y="24289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82280" y="2128320"/>
            <a:ext cx="753480" cy="7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11" y="4555"/>
                </a:moveTo>
                <a:arcTo wR="10800" hR="10800" stAng="-2119778" swAng="9505025"/>
                <a:lnTo>
                  <a:pt x="10800" y="10800"/>
                </a:lnTo>
                <a:close/>
              </a:path>
              <a:path fill="none" w="21600" h="21600">
                <a:moveTo>
                  <a:pt x="19611" y="4555"/>
                </a:moveTo>
                <a:arcTo wR="10800" hR="10800" stAng="-2119778" swAng="9505025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610480" y="2219400"/>
            <a:ext cx="8568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96080" y="24382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52680" y="214308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71424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95960" y="69516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91640" y="200988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7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19320" y="6094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ce faire, deux méthodes sont envisage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143000" y="1825560"/>
                <a:ext cx="358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1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87280" y="2565360"/>
                <a:ext cx="4278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ba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E</m:t>
                                  </m:r>
                                </m:e>
                              </m:ba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19320" y="4495680"/>
                <a:ext cx="37335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2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187280" y="5516640"/>
                <a:ext cx="44848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ba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E</m:t>
                                  </m:r>
                                </m:e>
                              </m:ba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176120" y="990720"/>
            <a:ext cx="34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Gothic"/>
              </a:rPr>
              <a:t>Isolement du tronçon Gauche 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8840" y="1523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quons le PFS au tronçon E1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8480" y="22860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’o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4920" y="3657600"/>
            <a:ext cx="32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Gothic"/>
              </a:rPr>
              <a:t>Isolement du tronçon Droit 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64240" y="414324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quons le PFS au tronçon E2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73240" y="52578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’o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93400" y="15228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I-2 Détermination du torseur de cohé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372360" y="1413000"/>
          <a:ext cx="179064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413000"/>
                    <a:ext cx="17906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134120" y="14889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966800" y="1793880"/>
            <a:ext cx="5407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7520" y="2017800"/>
            <a:ext cx="144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00960" y="1108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215040" y="1488960"/>
            <a:ext cx="455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13560" y="1609560"/>
            <a:ext cx="47520" cy="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7895880" y="2327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610240" y="1108080"/>
                <a:ext cx="838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7819920" y="209880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19920" y="209880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1803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676920" y="803160"/>
                <a:ext cx="762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153280" y="1994040"/>
                <a:ext cx="849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8048520" y="1413000"/>
                <a:ext cx="895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3" name=""/>
          <p:cNvGraphicFramePr/>
          <p:nvPr/>
        </p:nvGraphicFramePr>
        <p:xfrm>
          <a:off x="6400800" y="4149720"/>
          <a:ext cx="182880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4149720"/>
                    <a:ext cx="18288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 flipH="1">
            <a:off x="7924320" y="414972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995600" y="4530600"/>
            <a:ext cx="454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05680" y="47401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305920" y="4226040"/>
                <a:ext cx="838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8244000" y="3933720"/>
                <a:ext cx="761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E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676920" y="48261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76920" y="48261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453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090120" y="4378320"/>
            <a:ext cx="5407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74" y="4301"/>
                </a:moveTo>
                <a:arcTo wR="10800" hR="10800" stAng="-8580174" swAng="7867615"/>
                <a:lnTo>
                  <a:pt x="10800" y="10800"/>
                </a:lnTo>
                <a:close/>
              </a:path>
              <a:path fill="none" w="21600" h="21600">
                <a:moveTo>
                  <a:pt x="2174" y="4301"/>
                </a:moveTo>
                <a:arcTo wR="10800" hR="10800" stAng="-8580174" swAng="78676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72160" y="4487760"/>
            <a:ext cx="57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48355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49840" y="4454640"/>
                <a:ext cx="827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24360" y="3997440"/>
                <a:ext cx="8766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7162920" y="4302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796000" y="2997360"/>
                <a:ext cx="30052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ba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E</m:t>
                                  </m:r>
                                </m:e>
                              </m:ba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5796000" y="2925720"/>
            <a:ext cx="316692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786280" y="5732640"/>
                <a:ext cx="30258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bar>
                                      <m:r>
                                        <m:t xml:space="preserve">→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2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</m:sSub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e>
                              </m:acc>
                              <m:r>
                                <m:t xml:space="preserve">(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E</m:t>
                                  </m:r>
                                </m:e>
                              </m:bar>
                              <m:r>
                                <m:t xml:space="preserve">→</m:t>
                              </m:r>
                              <m:r>
                                <m:t xml:space="preserve">E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5796000" y="5661000"/>
            <a:ext cx="316692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30400" y="38088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"/>
              </a:rPr>
              <a:t>III-3 Composantes du torseur de cohé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3880" y="1523880"/>
          <a:ext cx="3200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3200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523880" y="3733920"/>
            <a:ext cx="30481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ffort norma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 de R sur la normale extérieure (x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0000ff"/>
                </a:solidFill>
                <a:latin typeface="Times New Roman"/>
              </a:rPr>
              <a:t>Ty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1" lang="fr-FR" sz="1600" spc="-1" strike="noStrike">
                <a:solidFill>
                  <a:srgbClr val="0000ff"/>
                </a:solidFill>
                <a:latin typeface="Times New Roman"/>
              </a:rPr>
              <a:t>Tz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fforts tranchant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s de R sur le plan de section dro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838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-Les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838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-Les mo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715000" y="1371600"/>
          <a:ext cx="3429000" cy="21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371600"/>
                    <a:ext cx="34290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952880" y="373392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0000ff"/>
                </a:solidFill>
                <a:latin typeface="Times New Roman"/>
              </a:rPr>
              <a:t>Mt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oment de tor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 du moment sur la normale extérie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Mfy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Mfz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oments de flex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, projection du moment sur le plan de section dro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833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47920" y="5334120"/>
                <a:ext cx="20574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y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z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733920" y="5486400"/>
                <a:ext cx="5257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ffor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ormal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ffor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rancha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ffor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rancha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me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orsio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y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me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lexio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z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: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men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lexio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3-12-17T15:05:27Z</dcterms:modified>
  <cp:revision>19</cp:revision>
  <dc:subject/>
  <dc:title>Résistance des matériaux</dc:title>
</cp:coreProperties>
</file>