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29.wmf" ContentType="image/x-wmf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34.wmf" ContentType="image/x-wmf"/>
  <Override PartName="/ppt/media/image14.png" ContentType="image/png"/>
  <Override PartName="/ppt/media/image35.png" ContentType="image/png"/>
  <Override PartName="/ppt/media/image5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C77-E6F4-4796-BF1B-A928B446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DCA-F5BA-48FA-98C8-EFA5ED9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471-ADB6-482E-B7A7-EAE32B0D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B5C-4BAF-468C-914C-9BEFC042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CAF-7CAC-4AC2-9365-F67BC61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EFF-A748-4949-9198-002FD6DC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D631-D164-4DE1-8573-C0AE364E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8935-9681-44B7-ACE7-059B9DA3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E47-C4C5-49F2-9FFF-3EEFB159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0C14-3400-4001-B13D-11F4B28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462-708F-4BF1-9291-FB9E69F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E61-CAE2-48F8-B41A-36303D99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E796-5893-41A7-8EE8-7127952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2181-E24F-42C0-AEF1-D4069B4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BE8-0A08-4480-8661-58E7186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95AF-6DA9-403C-95FB-74D2F6BE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949-3DB8-4F28-A7A2-43A72363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434-F6C2-4354-8F04-CA737B1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7AA-62DD-4604-A1E0-DBB4805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B64-6AEE-4896-8717-506A7733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A56-08DE-4799-A00B-EA5405F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F5D-5098-4CE4-BBA7-DA91196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943-BA4F-41A3-A545-4950E0F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009-A173-432C-B33C-3C2EC9C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7835-FA58-40A9-8A56-63787F599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BE9-7E69-4FDB-B8B5-C51E53001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2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4.png"/><Relationship Id="rId48" Type="http://schemas.openxmlformats.org/officeDocument/2006/relationships/image" Target="../media/image4.png"/><Relationship Id="rId49" Type="http://schemas.openxmlformats.org/officeDocument/2006/relationships/image" Target="../media/image2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image" Target="../media/image4.png"/><Relationship Id="rId58" Type="http://schemas.openxmlformats.org/officeDocument/2006/relationships/image" Target="../media/image4.png"/><Relationship Id="rId59" Type="http://schemas.openxmlformats.org/officeDocument/2006/relationships/image" Target="../media/image35.png"/><Relationship Id="rId60" Type="http://schemas.openxmlformats.org/officeDocument/2006/relationships/image" Target="../media/image4.png"/><Relationship Id="rId61" Type="http://schemas.openxmlformats.org/officeDocument/2006/relationships/image" Target="../media/image4.png"/><Relationship Id="rId62" Type="http://schemas.openxmlformats.org/officeDocument/2006/relationships/image" Target="../media/image4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4.png"/><Relationship Id="rId66" Type="http://schemas.openxmlformats.org/officeDocument/2006/relationships/image" Target="../media/image4.png"/><Relationship Id="rId67" Type="http://schemas.openxmlformats.org/officeDocument/2006/relationships/image" Target="../media/image4.png"/><Relationship Id="rId68" Type="http://schemas.openxmlformats.org/officeDocument/2006/relationships/image" Target="../media/image4.png"/><Relationship Id="rId69" Type="http://schemas.openxmlformats.org/officeDocument/2006/relationships/image" Target="../media/image2.png"/><Relationship Id="rId70" Type="http://schemas.openxmlformats.org/officeDocument/2006/relationships/image" Target="../media/image7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4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4.png"/><Relationship Id="rId95" Type="http://schemas.openxmlformats.org/officeDocument/2006/relationships/image" Target="../media/image4.png"/><Relationship Id="rId96" Type="http://schemas.openxmlformats.org/officeDocument/2006/relationships/image" Target="../media/image4.png"/><Relationship Id="rId97" Type="http://schemas.openxmlformats.org/officeDocument/2006/relationships/image" Target="../media/image4.png"/><Relationship Id="rId98" Type="http://schemas.openxmlformats.org/officeDocument/2006/relationships/image" Target="../media/image4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2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2.png"/><Relationship Id="rId1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5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6.wmf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7.png"/><Relationship Id="rId3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2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7.png"/><Relationship Id="rId52" Type="http://schemas.openxmlformats.org/officeDocument/2006/relationships/image" Target="../media/image5.png"/><Relationship Id="rId53" Type="http://schemas.openxmlformats.org/officeDocument/2006/relationships/image" Target="../media/image7.png"/><Relationship Id="rId54" Type="http://schemas.openxmlformats.org/officeDocument/2006/relationships/image" Target="../media/image5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4.png"/><Relationship Id="rId59" Type="http://schemas.openxmlformats.org/officeDocument/2006/relationships/image" Target="../media/image4.png"/><Relationship Id="rId60" Type="http://schemas.openxmlformats.org/officeDocument/2006/relationships/image" Target="../media/image4.png"/><Relationship Id="rId61" Type="http://schemas.openxmlformats.org/officeDocument/2006/relationships/image" Target="../media/image4.png"/><Relationship Id="rId62" Type="http://schemas.openxmlformats.org/officeDocument/2006/relationships/image" Target="../media/image3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7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8.png"/><Relationship Id="rId71" Type="http://schemas.openxmlformats.org/officeDocument/2006/relationships/image" Target="../media/image23.wmf"/><Relationship Id="rId72" Type="http://schemas.openxmlformats.org/officeDocument/2006/relationships/image" Target="../media/image8.png"/><Relationship Id="rId73" Type="http://schemas.openxmlformats.org/officeDocument/2006/relationships/image" Target="../media/image2.png"/><Relationship Id="rId7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5.png"/><Relationship Id="rId37" Type="http://schemas.openxmlformats.org/officeDocument/2006/relationships/image" Target="../media/image7.png"/><Relationship Id="rId38" Type="http://schemas.openxmlformats.org/officeDocument/2006/relationships/image" Target="../media/image5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3.png"/><Relationship Id="rId46" Type="http://schemas.openxmlformats.org/officeDocument/2006/relationships/image" Target="../media/image24.wmf"/><Relationship Id="rId47" Type="http://schemas.openxmlformats.org/officeDocument/2006/relationships/image" Target="../media/image25.jpeg"/><Relationship Id="rId48" Type="http://schemas.openxmlformats.org/officeDocument/2006/relationships/image" Target="../media/image2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26.jpeg"/><Relationship Id="rId5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27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7.png"/><Relationship Id="rId56" Type="http://schemas.openxmlformats.org/officeDocument/2006/relationships/image" Target="../media/image2.png"/><Relationship Id="rId57" Type="http://schemas.openxmlformats.org/officeDocument/2006/relationships/image" Target="../media/image4.png"/><Relationship Id="rId58" Type="http://schemas.openxmlformats.org/officeDocument/2006/relationships/image" Target="../media/image4.png"/><Relationship Id="rId59" Type="http://schemas.openxmlformats.org/officeDocument/2006/relationships/image" Target="../media/image4.png"/><Relationship Id="rId60" Type="http://schemas.openxmlformats.org/officeDocument/2006/relationships/image" Target="../media/image4.png"/><Relationship Id="rId61" Type="http://schemas.openxmlformats.org/officeDocument/2006/relationships/image" Target="../media/image4.png"/><Relationship Id="rId62" Type="http://schemas.openxmlformats.org/officeDocument/2006/relationships/image" Target="../media/image4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2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28.wmf"/><Relationship Id="rId71" Type="http://schemas.openxmlformats.org/officeDocument/2006/relationships/image" Target="../media/image29.wmf"/><Relationship Id="rId7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1-Algèbre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Cablage d’un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Opérateurs 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-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-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Algèbre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Cablage d’un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Opérateurs 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4-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-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521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914400"/>
            <a:ext cx="17524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22640" y="957240"/>
            <a:ext cx="148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Arial"/>
              </a:rPr>
              <a:t>4-Propri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3657600"/>
            <a:ext cx="4343400" cy="1762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33640" y="3747960"/>
            <a:ext cx="3976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orème de De M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75120" y="4554360"/>
            <a:ext cx="130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d"/>
                </a:solidFill>
                <a:latin typeface="Arial"/>
              </a:rPr>
              <a:t>a+b=a.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75120" y="5002200"/>
            <a:ext cx="130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d"/>
                </a:solidFill>
                <a:latin typeface="Arial"/>
              </a:rPr>
              <a:t>a.b=a+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54600" y="4494240"/>
            <a:ext cx="490680" cy="30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54600" y="5002200"/>
            <a:ext cx="398520" cy="2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0200" y="4494240"/>
            <a:ext cx="122040" cy="30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6560" y="4494240"/>
            <a:ext cx="122040" cy="30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459480" y="5002200"/>
            <a:ext cx="122400" cy="28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6560" y="4941720"/>
            <a:ext cx="122040" cy="30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360" y="13716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94760" y="17175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b = b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8620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94760" y="20224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1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32840" y="236232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.b).c = a.(b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96600" y="1371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 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53080" y="16765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 = b+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205740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0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53080" y="2362320"/>
            <a:ext cx="9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4160" y="278460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.b)+c=(a+c).(b+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50360" y="31240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+b).c=(a.c)+(b.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17324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Algèbre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Cablage d’un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Opérateurs 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-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5-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4080" y="1247760"/>
            <a:ext cx="1259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0066ff"/>
                </a:solidFill>
                <a:uFillTx/>
                <a:latin typeface="Arial"/>
              </a:rPr>
              <a:t>5-Exemple</a:t>
            </a:r>
            <a:r>
              <a:rPr b="1" i="1" lang="en-US" sz="1500" spc="-1" strike="noStrike" u="sng">
                <a:solidFill>
                  <a:srgbClr val="0066ff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151080" y="2833560"/>
            <a:ext cx="354240" cy="362160"/>
            <a:chOff x="3151080" y="2833560"/>
            <a:chExt cx="354240" cy="362160"/>
          </a:xfrm>
        </p:grpSpPr>
        <p:sp>
          <p:nvSpPr>
            <p:cNvPr id="777" name=""/>
            <p:cNvSpPr/>
            <p:nvPr/>
          </p:nvSpPr>
          <p:spPr>
            <a:xfrm>
              <a:off x="3151080" y="3000240"/>
              <a:ext cx="354240" cy="195480"/>
            </a:xfrm>
            <a:custGeom>
              <a:avLst/>
              <a:gdLst/>
              <a:ahLst/>
              <a:rect l="l" t="t" r="r" b="b"/>
              <a:pathLst>
                <a:path w="223" h="123">
                  <a:moveTo>
                    <a:pt x="205" y="0"/>
                  </a:moveTo>
                  <a:lnTo>
                    <a:pt x="223" y="0"/>
                  </a:lnTo>
                  <a:lnTo>
                    <a:pt x="223" y="18"/>
                  </a:lnTo>
                  <a:lnTo>
                    <a:pt x="18" y="123"/>
                  </a:lnTo>
                  <a:lnTo>
                    <a:pt x="0" y="123"/>
                  </a:lnTo>
                  <a:lnTo>
                    <a:pt x="0" y="106"/>
                  </a:lnTo>
                  <a:lnTo>
                    <a:pt x="205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38280" y="2833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122640" y="1900080"/>
            <a:ext cx="425520" cy="252720"/>
            <a:chOff x="3122640" y="1900080"/>
            <a:chExt cx="425520" cy="252720"/>
          </a:xfrm>
        </p:grpSpPr>
        <p:sp>
          <p:nvSpPr>
            <p:cNvPr id="780" name=""/>
            <p:cNvSpPr/>
            <p:nvPr/>
          </p:nvSpPr>
          <p:spPr>
            <a:xfrm>
              <a:off x="3151080" y="2013120"/>
              <a:ext cx="28800" cy="13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2640" y="2054160"/>
              <a:ext cx="425520" cy="98640"/>
            </a:xfrm>
            <a:custGeom>
              <a:avLst/>
              <a:gdLst/>
              <a:ahLst/>
              <a:rect l="l" t="t" r="r" b="b"/>
              <a:pathLst>
                <a:path w="268" h="62">
                  <a:moveTo>
                    <a:pt x="0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68" y="44"/>
                  </a:lnTo>
                  <a:lnTo>
                    <a:pt x="268" y="62"/>
                  </a:lnTo>
                  <a:lnTo>
                    <a:pt x="250" y="62"/>
                  </a:lnTo>
                  <a:lnTo>
                    <a:pt x="0" y="1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41160" y="19000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041720" y="2179800"/>
            <a:ext cx="495360" cy="668160"/>
            <a:chOff x="4041720" y="2179800"/>
            <a:chExt cx="495360" cy="668160"/>
          </a:xfrm>
        </p:grpSpPr>
        <p:sp>
          <p:nvSpPr>
            <p:cNvPr id="784" name=""/>
            <p:cNvSpPr/>
            <p:nvPr/>
          </p:nvSpPr>
          <p:spPr>
            <a:xfrm>
              <a:off x="4041720" y="2360520"/>
              <a:ext cx="495360" cy="487440"/>
            </a:xfrm>
            <a:custGeom>
              <a:avLst/>
              <a:gdLst/>
              <a:ahLst/>
              <a:rect l="l" t="t" r="r" b="b"/>
              <a:pathLst>
                <a:path w="312" h="307">
                  <a:moveTo>
                    <a:pt x="161" y="0"/>
                  </a:moveTo>
                  <a:lnTo>
                    <a:pt x="170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6" y="9"/>
                  </a:lnTo>
                  <a:lnTo>
                    <a:pt x="205" y="9"/>
                  </a:lnTo>
                  <a:lnTo>
                    <a:pt x="223" y="18"/>
                  </a:lnTo>
                  <a:lnTo>
                    <a:pt x="232" y="18"/>
                  </a:lnTo>
                  <a:lnTo>
                    <a:pt x="241" y="26"/>
                  </a:lnTo>
                  <a:lnTo>
                    <a:pt x="250" y="26"/>
                  </a:lnTo>
                  <a:lnTo>
                    <a:pt x="259" y="35"/>
                  </a:lnTo>
                  <a:lnTo>
                    <a:pt x="268" y="44"/>
                  </a:lnTo>
                  <a:lnTo>
                    <a:pt x="277" y="53"/>
                  </a:lnTo>
                  <a:lnTo>
                    <a:pt x="277" y="61"/>
                  </a:lnTo>
                  <a:lnTo>
                    <a:pt x="285" y="70"/>
                  </a:lnTo>
                  <a:lnTo>
                    <a:pt x="294" y="79"/>
                  </a:lnTo>
                  <a:lnTo>
                    <a:pt x="294" y="88"/>
                  </a:lnTo>
                  <a:lnTo>
                    <a:pt x="303" y="97"/>
                  </a:lnTo>
                  <a:lnTo>
                    <a:pt x="303" y="105"/>
                  </a:lnTo>
                  <a:lnTo>
                    <a:pt x="303" y="114"/>
                  </a:lnTo>
                  <a:lnTo>
                    <a:pt x="312" y="123"/>
                  </a:lnTo>
                  <a:lnTo>
                    <a:pt x="312" y="140"/>
                  </a:lnTo>
                  <a:lnTo>
                    <a:pt x="312" y="149"/>
                  </a:lnTo>
                  <a:lnTo>
                    <a:pt x="312" y="158"/>
                  </a:lnTo>
                  <a:lnTo>
                    <a:pt x="312" y="167"/>
                  </a:lnTo>
                  <a:lnTo>
                    <a:pt x="312" y="184"/>
                  </a:lnTo>
                  <a:lnTo>
                    <a:pt x="303" y="193"/>
                  </a:lnTo>
                  <a:lnTo>
                    <a:pt x="303" y="202"/>
                  </a:lnTo>
                  <a:lnTo>
                    <a:pt x="303" y="211"/>
                  </a:lnTo>
                  <a:lnTo>
                    <a:pt x="294" y="219"/>
                  </a:lnTo>
                  <a:lnTo>
                    <a:pt x="294" y="228"/>
                  </a:lnTo>
                  <a:lnTo>
                    <a:pt x="285" y="237"/>
                  </a:lnTo>
                  <a:lnTo>
                    <a:pt x="277" y="246"/>
                  </a:lnTo>
                  <a:lnTo>
                    <a:pt x="277" y="254"/>
                  </a:lnTo>
                  <a:lnTo>
                    <a:pt x="268" y="263"/>
                  </a:lnTo>
                  <a:lnTo>
                    <a:pt x="259" y="272"/>
                  </a:lnTo>
                  <a:lnTo>
                    <a:pt x="250" y="281"/>
                  </a:lnTo>
                  <a:lnTo>
                    <a:pt x="241" y="281"/>
                  </a:lnTo>
                  <a:lnTo>
                    <a:pt x="232" y="289"/>
                  </a:lnTo>
                  <a:lnTo>
                    <a:pt x="223" y="289"/>
                  </a:lnTo>
                  <a:lnTo>
                    <a:pt x="205" y="298"/>
                  </a:lnTo>
                  <a:lnTo>
                    <a:pt x="196" y="298"/>
                  </a:lnTo>
                  <a:lnTo>
                    <a:pt x="187" y="307"/>
                  </a:lnTo>
                  <a:lnTo>
                    <a:pt x="179" y="307"/>
                  </a:lnTo>
                  <a:lnTo>
                    <a:pt x="170" y="307"/>
                  </a:lnTo>
                  <a:lnTo>
                    <a:pt x="161" y="307"/>
                  </a:lnTo>
                  <a:lnTo>
                    <a:pt x="143" y="307"/>
                  </a:lnTo>
                  <a:lnTo>
                    <a:pt x="134" y="307"/>
                  </a:lnTo>
                  <a:lnTo>
                    <a:pt x="125" y="307"/>
                  </a:lnTo>
                  <a:lnTo>
                    <a:pt x="116" y="298"/>
                  </a:lnTo>
                  <a:lnTo>
                    <a:pt x="107" y="298"/>
                  </a:lnTo>
                  <a:lnTo>
                    <a:pt x="89" y="289"/>
                  </a:lnTo>
                  <a:lnTo>
                    <a:pt x="81" y="289"/>
                  </a:lnTo>
                  <a:lnTo>
                    <a:pt x="72" y="281"/>
                  </a:lnTo>
                  <a:lnTo>
                    <a:pt x="63" y="281"/>
                  </a:lnTo>
                  <a:lnTo>
                    <a:pt x="54" y="272"/>
                  </a:lnTo>
                  <a:lnTo>
                    <a:pt x="45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27" y="237"/>
                  </a:lnTo>
                  <a:lnTo>
                    <a:pt x="18" y="228"/>
                  </a:lnTo>
                  <a:lnTo>
                    <a:pt x="18" y="219"/>
                  </a:lnTo>
                  <a:lnTo>
                    <a:pt x="9" y="211"/>
                  </a:lnTo>
                  <a:lnTo>
                    <a:pt x="9" y="202"/>
                  </a:lnTo>
                  <a:lnTo>
                    <a:pt x="9" y="193"/>
                  </a:lnTo>
                  <a:lnTo>
                    <a:pt x="0" y="184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9" y="114"/>
                  </a:lnTo>
                  <a:lnTo>
                    <a:pt x="9" y="105"/>
                  </a:lnTo>
                  <a:lnTo>
                    <a:pt x="9" y="97"/>
                  </a:lnTo>
                  <a:lnTo>
                    <a:pt x="18" y="88"/>
                  </a:lnTo>
                  <a:lnTo>
                    <a:pt x="18" y="79"/>
                  </a:lnTo>
                  <a:lnTo>
                    <a:pt x="27" y="70"/>
                  </a:lnTo>
                  <a:lnTo>
                    <a:pt x="36" y="61"/>
                  </a:lnTo>
                  <a:lnTo>
                    <a:pt x="36" y="53"/>
                  </a:lnTo>
                  <a:lnTo>
                    <a:pt x="45" y="44"/>
                  </a:lnTo>
                  <a:lnTo>
                    <a:pt x="54" y="35"/>
                  </a:lnTo>
                  <a:lnTo>
                    <a:pt x="63" y="26"/>
                  </a:lnTo>
                  <a:lnTo>
                    <a:pt x="72" y="26"/>
                  </a:lnTo>
                  <a:lnTo>
                    <a:pt x="81" y="18"/>
                  </a:lnTo>
                  <a:lnTo>
                    <a:pt x="89" y="18"/>
                  </a:lnTo>
                  <a:lnTo>
                    <a:pt x="107" y="9"/>
                  </a:lnTo>
                  <a:lnTo>
                    <a:pt x="116" y="9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61" y="0"/>
                  </a:lnTo>
                  <a:lnTo>
                    <a:pt x="161" y="158"/>
                  </a:lnTo>
                  <a:lnTo>
                    <a:pt x="16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41720" y="2360520"/>
              <a:ext cx="495360" cy="487440"/>
            </a:xfrm>
            <a:custGeom>
              <a:avLst/>
              <a:gdLst/>
              <a:ahLst/>
              <a:rect l="l" t="t" r="r" b="b"/>
              <a:pathLst>
                <a:path w="312" h="307">
                  <a:moveTo>
                    <a:pt x="161" y="0"/>
                  </a:moveTo>
                  <a:lnTo>
                    <a:pt x="170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6" y="9"/>
                  </a:lnTo>
                  <a:lnTo>
                    <a:pt x="205" y="9"/>
                  </a:lnTo>
                  <a:lnTo>
                    <a:pt x="223" y="18"/>
                  </a:lnTo>
                  <a:lnTo>
                    <a:pt x="232" y="18"/>
                  </a:lnTo>
                  <a:lnTo>
                    <a:pt x="241" y="26"/>
                  </a:lnTo>
                  <a:lnTo>
                    <a:pt x="250" y="26"/>
                  </a:lnTo>
                  <a:lnTo>
                    <a:pt x="259" y="35"/>
                  </a:lnTo>
                  <a:lnTo>
                    <a:pt x="268" y="44"/>
                  </a:lnTo>
                  <a:lnTo>
                    <a:pt x="277" y="53"/>
                  </a:lnTo>
                  <a:lnTo>
                    <a:pt x="277" y="61"/>
                  </a:lnTo>
                  <a:lnTo>
                    <a:pt x="285" y="70"/>
                  </a:lnTo>
                  <a:lnTo>
                    <a:pt x="294" y="79"/>
                  </a:lnTo>
                  <a:lnTo>
                    <a:pt x="294" y="88"/>
                  </a:lnTo>
                  <a:lnTo>
                    <a:pt x="303" y="97"/>
                  </a:lnTo>
                  <a:lnTo>
                    <a:pt x="303" y="105"/>
                  </a:lnTo>
                  <a:lnTo>
                    <a:pt x="303" y="114"/>
                  </a:lnTo>
                  <a:lnTo>
                    <a:pt x="312" y="123"/>
                  </a:lnTo>
                  <a:lnTo>
                    <a:pt x="312" y="140"/>
                  </a:lnTo>
                  <a:lnTo>
                    <a:pt x="312" y="149"/>
                  </a:lnTo>
                  <a:lnTo>
                    <a:pt x="312" y="158"/>
                  </a:lnTo>
                  <a:lnTo>
                    <a:pt x="312" y="167"/>
                  </a:lnTo>
                  <a:lnTo>
                    <a:pt x="312" y="184"/>
                  </a:lnTo>
                  <a:lnTo>
                    <a:pt x="303" y="193"/>
                  </a:lnTo>
                  <a:lnTo>
                    <a:pt x="303" y="202"/>
                  </a:lnTo>
                  <a:lnTo>
                    <a:pt x="303" y="211"/>
                  </a:lnTo>
                  <a:lnTo>
                    <a:pt x="294" y="219"/>
                  </a:lnTo>
                  <a:lnTo>
                    <a:pt x="294" y="228"/>
                  </a:lnTo>
                  <a:lnTo>
                    <a:pt x="285" y="237"/>
                  </a:lnTo>
                  <a:lnTo>
                    <a:pt x="277" y="246"/>
                  </a:lnTo>
                  <a:lnTo>
                    <a:pt x="277" y="254"/>
                  </a:lnTo>
                  <a:lnTo>
                    <a:pt x="268" y="263"/>
                  </a:lnTo>
                  <a:lnTo>
                    <a:pt x="259" y="272"/>
                  </a:lnTo>
                  <a:lnTo>
                    <a:pt x="250" y="281"/>
                  </a:lnTo>
                  <a:lnTo>
                    <a:pt x="241" y="281"/>
                  </a:lnTo>
                  <a:lnTo>
                    <a:pt x="232" y="289"/>
                  </a:lnTo>
                  <a:lnTo>
                    <a:pt x="223" y="289"/>
                  </a:lnTo>
                  <a:lnTo>
                    <a:pt x="205" y="298"/>
                  </a:lnTo>
                  <a:lnTo>
                    <a:pt x="196" y="298"/>
                  </a:lnTo>
                  <a:lnTo>
                    <a:pt x="187" y="307"/>
                  </a:lnTo>
                  <a:lnTo>
                    <a:pt x="179" y="307"/>
                  </a:lnTo>
                  <a:lnTo>
                    <a:pt x="170" y="307"/>
                  </a:lnTo>
                  <a:lnTo>
                    <a:pt x="161" y="307"/>
                  </a:lnTo>
                  <a:lnTo>
                    <a:pt x="143" y="307"/>
                  </a:lnTo>
                  <a:lnTo>
                    <a:pt x="134" y="307"/>
                  </a:lnTo>
                  <a:lnTo>
                    <a:pt x="125" y="307"/>
                  </a:lnTo>
                  <a:lnTo>
                    <a:pt x="116" y="298"/>
                  </a:lnTo>
                  <a:lnTo>
                    <a:pt x="107" y="298"/>
                  </a:lnTo>
                  <a:lnTo>
                    <a:pt x="89" y="289"/>
                  </a:lnTo>
                  <a:lnTo>
                    <a:pt x="81" y="289"/>
                  </a:lnTo>
                  <a:lnTo>
                    <a:pt x="72" y="281"/>
                  </a:lnTo>
                  <a:lnTo>
                    <a:pt x="63" y="281"/>
                  </a:lnTo>
                  <a:lnTo>
                    <a:pt x="54" y="272"/>
                  </a:lnTo>
                  <a:lnTo>
                    <a:pt x="45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27" y="237"/>
                  </a:lnTo>
                  <a:lnTo>
                    <a:pt x="18" y="228"/>
                  </a:lnTo>
                  <a:lnTo>
                    <a:pt x="18" y="219"/>
                  </a:lnTo>
                  <a:lnTo>
                    <a:pt x="9" y="211"/>
                  </a:lnTo>
                  <a:lnTo>
                    <a:pt x="9" y="202"/>
                  </a:lnTo>
                  <a:lnTo>
                    <a:pt x="9" y="193"/>
                  </a:lnTo>
                  <a:lnTo>
                    <a:pt x="0" y="184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0" y="140"/>
                  </a:lnTo>
                  <a:lnTo>
                    <a:pt x="0" y="123"/>
                  </a:lnTo>
                  <a:lnTo>
                    <a:pt x="9" y="114"/>
                  </a:lnTo>
                  <a:lnTo>
                    <a:pt x="9" y="105"/>
                  </a:lnTo>
                  <a:lnTo>
                    <a:pt x="9" y="97"/>
                  </a:lnTo>
                  <a:lnTo>
                    <a:pt x="18" y="88"/>
                  </a:lnTo>
                  <a:lnTo>
                    <a:pt x="18" y="79"/>
                  </a:lnTo>
                  <a:lnTo>
                    <a:pt x="27" y="70"/>
                  </a:lnTo>
                  <a:lnTo>
                    <a:pt x="36" y="61"/>
                  </a:lnTo>
                  <a:lnTo>
                    <a:pt x="36" y="53"/>
                  </a:lnTo>
                  <a:lnTo>
                    <a:pt x="45" y="44"/>
                  </a:lnTo>
                  <a:lnTo>
                    <a:pt x="54" y="35"/>
                  </a:lnTo>
                  <a:lnTo>
                    <a:pt x="63" y="26"/>
                  </a:lnTo>
                  <a:lnTo>
                    <a:pt x="72" y="26"/>
                  </a:lnTo>
                  <a:lnTo>
                    <a:pt x="81" y="18"/>
                  </a:lnTo>
                  <a:lnTo>
                    <a:pt x="89" y="18"/>
                  </a:lnTo>
                  <a:lnTo>
                    <a:pt x="107" y="9"/>
                  </a:lnTo>
                  <a:lnTo>
                    <a:pt x="116" y="9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61" y="0"/>
                  </a:lnTo>
                  <a:close/>
                  <a:moveTo>
                    <a:pt x="161" y="18"/>
                  </a:moveTo>
                  <a:lnTo>
                    <a:pt x="170" y="18"/>
                  </a:lnTo>
                  <a:lnTo>
                    <a:pt x="179" y="18"/>
                  </a:lnTo>
                  <a:lnTo>
                    <a:pt x="187" y="18"/>
                  </a:lnTo>
                  <a:lnTo>
                    <a:pt x="196" y="26"/>
                  </a:lnTo>
                  <a:lnTo>
                    <a:pt x="205" y="26"/>
                  </a:lnTo>
                  <a:lnTo>
                    <a:pt x="214" y="26"/>
                  </a:lnTo>
                  <a:lnTo>
                    <a:pt x="223" y="35"/>
                  </a:lnTo>
                  <a:lnTo>
                    <a:pt x="232" y="35"/>
                  </a:lnTo>
                  <a:lnTo>
                    <a:pt x="241" y="44"/>
                  </a:lnTo>
                  <a:lnTo>
                    <a:pt x="241" y="53"/>
                  </a:lnTo>
                  <a:lnTo>
                    <a:pt x="250" y="53"/>
                  </a:lnTo>
                  <a:lnTo>
                    <a:pt x="259" y="61"/>
                  </a:lnTo>
                  <a:lnTo>
                    <a:pt x="268" y="70"/>
                  </a:lnTo>
                  <a:lnTo>
                    <a:pt x="268" y="79"/>
                  </a:lnTo>
                  <a:lnTo>
                    <a:pt x="277" y="88"/>
                  </a:lnTo>
                  <a:lnTo>
                    <a:pt x="277" y="97"/>
                  </a:lnTo>
                  <a:lnTo>
                    <a:pt x="285" y="105"/>
                  </a:lnTo>
                  <a:lnTo>
                    <a:pt x="285" y="114"/>
                  </a:lnTo>
                  <a:lnTo>
                    <a:pt x="294" y="123"/>
                  </a:lnTo>
                  <a:lnTo>
                    <a:pt x="294" y="132"/>
                  </a:lnTo>
                  <a:lnTo>
                    <a:pt x="294" y="140"/>
                  </a:lnTo>
                  <a:lnTo>
                    <a:pt x="294" y="149"/>
                  </a:lnTo>
                  <a:lnTo>
                    <a:pt x="294" y="158"/>
                  </a:lnTo>
                  <a:lnTo>
                    <a:pt x="294" y="167"/>
                  </a:lnTo>
                  <a:lnTo>
                    <a:pt x="294" y="175"/>
                  </a:lnTo>
                  <a:lnTo>
                    <a:pt x="294" y="184"/>
                  </a:lnTo>
                  <a:lnTo>
                    <a:pt x="285" y="193"/>
                  </a:lnTo>
                  <a:lnTo>
                    <a:pt x="285" y="202"/>
                  </a:lnTo>
                  <a:lnTo>
                    <a:pt x="277" y="211"/>
                  </a:lnTo>
                  <a:lnTo>
                    <a:pt x="277" y="219"/>
                  </a:lnTo>
                  <a:lnTo>
                    <a:pt x="268" y="228"/>
                  </a:lnTo>
                  <a:lnTo>
                    <a:pt x="268" y="237"/>
                  </a:lnTo>
                  <a:lnTo>
                    <a:pt x="259" y="246"/>
                  </a:lnTo>
                  <a:lnTo>
                    <a:pt x="250" y="254"/>
                  </a:lnTo>
                  <a:lnTo>
                    <a:pt x="241" y="254"/>
                  </a:lnTo>
                  <a:lnTo>
                    <a:pt x="241" y="263"/>
                  </a:lnTo>
                  <a:lnTo>
                    <a:pt x="232" y="272"/>
                  </a:lnTo>
                  <a:lnTo>
                    <a:pt x="223" y="272"/>
                  </a:lnTo>
                  <a:lnTo>
                    <a:pt x="214" y="281"/>
                  </a:lnTo>
                  <a:lnTo>
                    <a:pt x="205" y="281"/>
                  </a:lnTo>
                  <a:lnTo>
                    <a:pt x="196" y="281"/>
                  </a:lnTo>
                  <a:lnTo>
                    <a:pt x="187" y="289"/>
                  </a:lnTo>
                  <a:lnTo>
                    <a:pt x="179" y="289"/>
                  </a:lnTo>
                  <a:lnTo>
                    <a:pt x="170" y="289"/>
                  </a:lnTo>
                  <a:lnTo>
                    <a:pt x="161" y="289"/>
                  </a:lnTo>
                  <a:lnTo>
                    <a:pt x="143" y="289"/>
                  </a:lnTo>
                  <a:lnTo>
                    <a:pt x="134" y="289"/>
                  </a:lnTo>
                  <a:lnTo>
                    <a:pt x="125" y="289"/>
                  </a:lnTo>
                  <a:lnTo>
                    <a:pt x="116" y="281"/>
                  </a:lnTo>
                  <a:lnTo>
                    <a:pt x="107" y="281"/>
                  </a:lnTo>
                  <a:lnTo>
                    <a:pt x="98" y="281"/>
                  </a:lnTo>
                  <a:lnTo>
                    <a:pt x="89" y="272"/>
                  </a:lnTo>
                  <a:lnTo>
                    <a:pt x="81" y="272"/>
                  </a:lnTo>
                  <a:lnTo>
                    <a:pt x="72" y="263"/>
                  </a:lnTo>
                  <a:lnTo>
                    <a:pt x="72" y="254"/>
                  </a:lnTo>
                  <a:lnTo>
                    <a:pt x="63" y="254"/>
                  </a:lnTo>
                  <a:lnTo>
                    <a:pt x="54" y="246"/>
                  </a:lnTo>
                  <a:lnTo>
                    <a:pt x="45" y="237"/>
                  </a:lnTo>
                  <a:lnTo>
                    <a:pt x="45" y="228"/>
                  </a:lnTo>
                  <a:lnTo>
                    <a:pt x="36" y="219"/>
                  </a:lnTo>
                  <a:lnTo>
                    <a:pt x="36" y="211"/>
                  </a:lnTo>
                  <a:lnTo>
                    <a:pt x="27" y="202"/>
                  </a:lnTo>
                  <a:lnTo>
                    <a:pt x="27" y="193"/>
                  </a:lnTo>
                  <a:lnTo>
                    <a:pt x="18" y="184"/>
                  </a:lnTo>
                  <a:lnTo>
                    <a:pt x="18" y="175"/>
                  </a:lnTo>
                  <a:lnTo>
                    <a:pt x="18" y="167"/>
                  </a:lnTo>
                  <a:lnTo>
                    <a:pt x="18" y="158"/>
                  </a:lnTo>
                  <a:lnTo>
                    <a:pt x="18" y="149"/>
                  </a:lnTo>
                  <a:lnTo>
                    <a:pt x="18" y="140"/>
                  </a:lnTo>
                  <a:lnTo>
                    <a:pt x="18" y="132"/>
                  </a:lnTo>
                  <a:lnTo>
                    <a:pt x="18" y="123"/>
                  </a:lnTo>
                  <a:lnTo>
                    <a:pt x="27" y="114"/>
                  </a:lnTo>
                  <a:lnTo>
                    <a:pt x="27" y="105"/>
                  </a:lnTo>
                  <a:lnTo>
                    <a:pt x="36" y="97"/>
                  </a:lnTo>
                  <a:lnTo>
                    <a:pt x="36" y="88"/>
                  </a:lnTo>
                  <a:lnTo>
                    <a:pt x="45" y="79"/>
                  </a:lnTo>
                  <a:lnTo>
                    <a:pt x="45" y="70"/>
                  </a:lnTo>
                  <a:lnTo>
                    <a:pt x="54" y="61"/>
                  </a:lnTo>
                  <a:lnTo>
                    <a:pt x="63" y="53"/>
                  </a:lnTo>
                  <a:lnTo>
                    <a:pt x="72" y="53"/>
                  </a:lnTo>
                  <a:lnTo>
                    <a:pt x="72" y="44"/>
                  </a:lnTo>
                  <a:lnTo>
                    <a:pt x="81" y="35"/>
                  </a:lnTo>
                  <a:lnTo>
                    <a:pt x="89" y="35"/>
                  </a:lnTo>
                  <a:lnTo>
                    <a:pt x="98" y="26"/>
                  </a:lnTo>
                  <a:lnTo>
                    <a:pt x="107" y="26"/>
                  </a:lnTo>
                  <a:lnTo>
                    <a:pt x="116" y="26"/>
                  </a:lnTo>
                  <a:lnTo>
                    <a:pt x="125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61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127400" y="2457360"/>
              <a:ext cx="339840" cy="3207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144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27400" y="2444760"/>
              <a:ext cx="325440" cy="318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1440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74640" y="21798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203560" y="2332080"/>
            <a:ext cx="423720" cy="250920"/>
            <a:chOff x="2203560" y="2332080"/>
            <a:chExt cx="423720" cy="250920"/>
          </a:xfrm>
        </p:grpSpPr>
        <p:sp>
          <p:nvSpPr>
            <p:cNvPr id="790" name=""/>
            <p:cNvSpPr/>
            <p:nvPr/>
          </p:nvSpPr>
          <p:spPr>
            <a:xfrm>
              <a:off x="2440440" y="233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32000" y="2444760"/>
              <a:ext cx="28440" cy="138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03560" y="2486160"/>
              <a:ext cx="423720" cy="96840"/>
            </a:xfrm>
            <a:custGeom>
              <a:avLst/>
              <a:gdLst/>
              <a:ahLst/>
              <a:rect l="l" t="t" r="r" b="b"/>
              <a:pathLst>
                <a:path w="267" h="61">
                  <a:moveTo>
                    <a:pt x="0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67" y="44"/>
                  </a:lnTo>
                  <a:lnTo>
                    <a:pt x="267" y="61"/>
                  </a:lnTo>
                  <a:lnTo>
                    <a:pt x="250" y="61"/>
                  </a:lnTo>
                  <a:lnTo>
                    <a:pt x="0" y="1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420640" y="1566720"/>
            <a:ext cx="1491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ff0099"/>
                </a:solidFill>
                <a:uFillTx/>
                <a:latin typeface="Arial"/>
              </a:rPr>
              <a:t>Schéma à cont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990720"/>
            <a:ext cx="1938240" cy="3276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91320" y="1460520"/>
            <a:ext cx="1922400" cy="2776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71680" y="1673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87560" y="1673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71760" y="1673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395840" y="1673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791320" y="1460520"/>
            <a:ext cx="1922400" cy="2776680"/>
            <a:chOff x="5791320" y="1460520"/>
            <a:chExt cx="1922400" cy="2776680"/>
          </a:xfrm>
        </p:grpSpPr>
        <p:sp>
          <p:nvSpPr>
            <p:cNvPr id="801" name=""/>
            <p:cNvSpPr/>
            <p:nvPr/>
          </p:nvSpPr>
          <p:spPr>
            <a:xfrm>
              <a:off x="5791320" y="1460520"/>
              <a:ext cx="1922400" cy="46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91320" y="1506600"/>
              <a:ext cx="46080" cy="2684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91320" y="4191120"/>
              <a:ext cx="1922400" cy="46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69080" y="1506600"/>
              <a:ext cx="44640" cy="2684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15120" y="1460520"/>
              <a:ext cx="30240" cy="2776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91320" y="1930320"/>
              <a:ext cx="1922400" cy="31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75520" y="1476360"/>
              <a:ext cx="15840" cy="2760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45320" y="1476360"/>
              <a:ext cx="15840" cy="27608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5980320" y="2052720"/>
            <a:ext cx="120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       0        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81400" y="230976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       0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80680" y="258300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       1       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81400" y="284148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       1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90760" y="312408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92560" y="339732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       0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4320" y="3635280"/>
            <a:ext cx="115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       1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90760" y="387360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        1   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67080" y="1036800"/>
            <a:ext cx="125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99"/>
                </a:solidFill>
                <a:uFillTx/>
                <a:latin typeface="Arial"/>
              </a:rPr>
              <a:t>Table de vé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90000" y="4618080"/>
            <a:ext cx="175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 u="sng">
                <a:solidFill>
                  <a:srgbClr val="ff0099"/>
                </a:solidFill>
                <a:uFillTx/>
                <a:latin typeface="Arial"/>
              </a:rPr>
              <a:t>Equations logiq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97320" y="5257800"/>
            <a:ext cx="49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 =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963800" y="2152800"/>
            <a:ext cx="2898720" cy="876240"/>
            <a:chOff x="1963800" y="2152800"/>
            <a:chExt cx="2898720" cy="876240"/>
          </a:xfrm>
        </p:grpSpPr>
        <p:sp>
          <p:nvSpPr>
            <p:cNvPr id="821" name=""/>
            <p:cNvSpPr/>
            <p:nvPr/>
          </p:nvSpPr>
          <p:spPr>
            <a:xfrm>
              <a:off x="1963800" y="2263680"/>
              <a:ext cx="14400" cy="6397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14680" y="2583000"/>
              <a:ext cx="323640" cy="140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30680" y="2611440"/>
              <a:ext cx="339840" cy="144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37080" y="2611440"/>
              <a:ext cx="325440" cy="144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48120" y="2305080"/>
              <a:ext cx="14400" cy="6397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25720" y="2152800"/>
              <a:ext cx="12600" cy="8762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720" y="2152800"/>
              <a:ext cx="254160" cy="12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25720" y="3014640"/>
              <a:ext cx="254160" cy="144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90920" y="2152800"/>
              <a:ext cx="254160" cy="12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90920" y="3014640"/>
              <a:ext cx="254160" cy="144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30680" y="2152800"/>
              <a:ext cx="14400" cy="8762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968120" y="257796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7419240" y="204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09880" y="2314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00520" y="2828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400520" y="257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400520" y="311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409880" y="34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19240" y="364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409880" y="3876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28640" y="3733920"/>
            <a:ext cx="136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: non actionn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29720" y="3962520"/>
            <a:ext cx="99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: actionn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988040" y="15238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0: éte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988040" y="1752480"/>
            <a:ext cx="77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: allum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525780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581280" y="525780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981080" y="5181480"/>
            <a:ext cx="685800" cy="304920"/>
            <a:chOff x="1981080" y="5181480"/>
            <a:chExt cx="685800" cy="304920"/>
          </a:xfrm>
        </p:grpSpPr>
        <p:sp>
          <p:nvSpPr>
            <p:cNvPr id="848" name=""/>
            <p:cNvSpPr/>
            <p:nvPr/>
          </p:nvSpPr>
          <p:spPr>
            <a:xfrm>
              <a:off x="1981080" y="52578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5740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19400" y="51814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39076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95480" y="5181480"/>
            <a:ext cx="685800" cy="304920"/>
            <a:chOff x="2895480" y="5181480"/>
            <a:chExt cx="685800" cy="304920"/>
          </a:xfrm>
        </p:grpSpPr>
        <p:sp>
          <p:nvSpPr>
            <p:cNvPr id="853" name=""/>
            <p:cNvSpPr/>
            <p:nvPr/>
          </p:nvSpPr>
          <p:spPr>
            <a:xfrm>
              <a:off x="2895480" y="52578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297144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24080" y="518148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809880" y="5202360"/>
            <a:ext cx="685800" cy="284040"/>
            <a:chOff x="3809880" y="5202360"/>
            <a:chExt cx="685800" cy="284040"/>
          </a:xfrm>
        </p:grpSpPr>
        <p:sp>
          <p:nvSpPr>
            <p:cNvPr id="857" name=""/>
            <p:cNvSpPr/>
            <p:nvPr/>
          </p:nvSpPr>
          <p:spPr>
            <a:xfrm>
              <a:off x="3809880" y="525780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97360" y="5202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000160" y="5753160"/>
            <a:ext cx="609480" cy="486360"/>
            <a:chOff x="2000160" y="5753160"/>
            <a:chExt cx="609480" cy="486360"/>
          </a:xfrm>
        </p:grpSpPr>
        <p:sp>
          <p:nvSpPr>
            <p:cNvPr id="860" name=""/>
            <p:cNvSpPr/>
            <p:nvPr/>
          </p:nvSpPr>
          <p:spPr>
            <a:xfrm>
              <a:off x="2000160" y="578268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76480" y="5753160"/>
              <a:ext cx="7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409840" y="5753160"/>
              <a:ext cx="95040" cy="1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905200" y="5695920"/>
            <a:ext cx="609480" cy="532800"/>
            <a:chOff x="2905200" y="5695920"/>
            <a:chExt cx="609480" cy="532800"/>
          </a:xfrm>
        </p:grpSpPr>
        <p:sp>
          <p:nvSpPr>
            <p:cNvPr id="864" name=""/>
            <p:cNvSpPr/>
            <p:nvPr/>
          </p:nvSpPr>
          <p:spPr>
            <a:xfrm>
              <a:off x="2905200" y="577188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133800" y="5695920"/>
              <a:ext cx="9540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314880" y="5695920"/>
              <a:ext cx="95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809880" y="5714640"/>
            <a:ext cx="609840" cy="509760"/>
            <a:chOff x="3809880" y="5714640"/>
            <a:chExt cx="609840" cy="509760"/>
          </a:xfrm>
        </p:grpSpPr>
        <p:sp>
          <p:nvSpPr>
            <p:cNvPr id="868" name=""/>
            <p:cNvSpPr/>
            <p:nvPr/>
          </p:nvSpPr>
          <p:spPr>
            <a:xfrm>
              <a:off x="3809880" y="5767560"/>
              <a:ext cx="609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038480" y="5714640"/>
              <a:ext cx="85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5638680" y="5781600"/>
            <a:ext cx="60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.b.c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4280" y="5734080"/>
            <a:ext cx="609840" cy="495000"/>
            <a:chOff x="4724280" y="5734080"/>
            <a:chExt cx="609840" cy="495000"/>
          </a:xfrm>
        </p:grpSpPr>
        <p:sp>
          <p:nvSpPr>
            <p:cNvPr id="872" name=""/>
            <p:cNvSpPr/>
            <p:nvPr/>
          </p:nvSpPr>
          <p:spPr>
            <a:xfrm>
              <a:off x="4724280" y="5772240"/>
              <a:ext cx="609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a.b.c)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5124600" y="5734080"/>
              <a:ext cx="95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666880" y="579132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81280" y="579132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95680" y="579132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10080" y="5791320"/>
            <a:ext cx="152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597320" y="5715000"/>
            <a:ext cx="494640" cy="304920"/>
            <a:chOff x="1597320" y="5715000"/>
            <a:chExt cx="494640" cy="304920"/>
          </a:xfrm>
        </p:grpSpPr>
        <p:sp>
          <p:nvSpPr>
            <p:cNvPr id="879" name=""/>
            <p:cNvSpPr/>
            <p:nvPr/>
          </p:nvSpPr>
          <p:spPr>
            <a:xfrm>
              <a:off x="1597320" y="5791320"/>
              <a:ext cx="49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 = 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00200" y="571500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16016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726440" y="1752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5227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16600" y="3032280"/>
            <a:ext cx="581040" cy="1842840"/>
          </a:xfrm>
          <a:custGeom>
            <a:avLst/>
            <a:gdLst/>
            <a:ahLst/>
            <a:rect l="l" t="t" r="r" b="b"/>
            <a:pathLst>
              <a:path w="366" h="1161">
                <a:moveTo>
                  <a:pt x="366" y="926"/>
                </a:moveTo>
                <a:lnTo>
                  <a:pt x="366" y="939"/>
                </a:lnTo>
                <a:lnTo>
                  <a:pt x="366" y="965"/>
                </a:lnTo>
                <a:lnTo>
                  <a:pt x="366" y="978"/>
                </a:lnTo>
                <a:lnTo>
                  <a:pt x="353" y="991"/>
                </a:lnTo>
                <a:lnTo>
                  <a:pt x="353" y="1004"/>
                </a:lnTo>
                <a:lnTo>
                  <a:pt x="353" y="1017"/>
                </a:lnTo>
                <a:lnTo>
                  <a:pt x="340" y="1030"/>
                </a:lnTo>
                <a:lnTo>
                  <a:pt x="340" y="1056"/>
                </a:lnTo>
                <a:lnTo>
                  <a:pt x="327" y="1070"/>
                </a:lnTo>
                <a:lnTo>
                  <a:pt x="327" y="1083"/>
                </a:lnTo>
                <a:lnTo>
                  <a:pt x="314" y="1096"/>
                </a:lnTo>
                <a:lnTo>
                  <a:pt x="301" y="1096"/>
                </a:lnTo>
                <a:lnTo>
                  <a:pt x="301" y="1109"/>
                </a:lnTo>
                <a:lnTo>
                  <a:pt x="288" y="1122"/>
                </a:lnTo>
                <a:lnTo>
                  <a:pt x="275" y="1135"/>
                </a:lnTo>
                <a:lnTo>
                  <a:pt x="262" y="1135"/>
                </a:lnTo>
                <a:lnTo>
                  <a:pt x="249" y="1148"/>
                </a:lnTo>
                <a:lnTo>
                  <a:pt x="236" y="1148"/>
                </a:lnTo>
                <a:lnTo>
                  <a:pt x="222" y="1148"/>
                </a:lnTo>
                <a:lnTo>
                  <a:pt x="209" y="1161"/>
                </a:lnTo>
                <a:lnTo>
                  <a:pt x="196" y="1161"/>
                </a:lnTo>
                <a:lnTo>
                  <a:pt x="183" y="1161"/>
                </a:lnTo>
                <a:lnTo>
                  <a:pt x="183" y="1161"/>
                </a:lnTo>
                <a:lnTo>
                  <a:pt x="183" y="1161"/>
                </a:lnTo>
                <a:lnTo>
                  <a:pt x="170" y="1161"/>
                </a:lnTo>
                <a:lnTo>
                  <a:pt x="157" y="1161"/>
                </a:lnTo>
                <a:lnTo>
                  <a:pt x="144" y="1161"/>
                </a:lnTo>
                <a:lnTo>
                  <a:pt x="131" y="1148"/>
                </a:lnTo>
                <a:lnTo>
                  <a:pt x="118" y="1148"/>
                </a:lnTo>
                <a:lnTo>
                  <a:pt x="105" y="1135"/>
                </a:lnTo>
                <a:lnTo>
                  <a:pt x="92" y="1135"/>
                </a:lnTo>
                <a:lnTo>
                  <a:pt x="92" y="1122"/>
                </a:lnTo>
                <a:lnTo>
                  <a:pt x="79" y="1122"/>
                </a:lnTo>
                <a:lnTo>
                  <a:pt x="66" y="1109"/>
                </a:lnTo>
                <a:lnTo>
                  <a:pt x="53" y="1096"/>
                </a:lnTo>
                <a:lnTo>
                  <a:pt x="53" y="1083"/>
                </a:lnTo>
                <a:lnTo>
                  <a:pt x="39" y="1070"/>
                </a:lnTo>
                <a:lnTo>
                  <a:pt x="26" y="1056"/>
                </a:lnTo>
                <a:lnTo>
                  <a:pt x="26" y="1043"/>
                </a:lnTo>
                <a:lnTo>
                  <a:pt x="13" y="1030"/>
                </a:lnTo>
                <a:lnTo>
                  <a:pt x="13" y="1017"/>
                </a:lnTo>
                <a:lnTo>
                  <a:pt x="13" y="1004"/>
                </a:lnTo>
                <a:lnTo>
                  <a:pt x="0" y="978"/>
                </a:lnTo>
                <a:lnTo>
                  <a:pt x="0" y="965"/>
                </a:lnTo>
                <a:lnTo>
                  <a:pt x="0" y="952"/>
                </a:lnTo>
                <a:lnTo>
                  <a:pt x="0" y="939"/>
                </a:lnTo>
                <a:lnTo>
                  <a:pt x="0" y="926"/>
                </a:lnTo>
                <a:lnTo>
                  <a:pt x="0" y="235"/>
                </a:lnTo>
                <a:lnTo>
                  <a:pt x="0" y="222"/>
                </a:lnTo>
                <a:lnTo>
                  <a:pt x="0" y="196"/>
                </a:lnTo>
                <a:lnTo>
                  <a:pt x="0" y="183"/>
                </a:lnTo>
                <a:lnTo>
                  <a:pt x="13" y="170"/>
                </a:lnTo>
                <a:lnTo>
                  <a:pt x="13" y="157"/>
                </a:lnTo>
                <a:lnTo>
                  <a:pt x="13" y="144"/>
                </a:lnTo>
                <a:lnTo>
                  <a:pt x="26" y="131"/>
                </a:lnTo>
                <a:lnTo>
                  <a:pt x="26" y="104"/>
                </a:lnTo>
                <a:lnTo>
                  <a:pt x="39" y="91"/>
                </a:lnTo>
                <a:lnTo>
                  <a:pt x="39" y="78"/>
                </a:lnTo>
                <a:lnTo>
                  <a:pt x="53" y="65"/>
                </a:lnTo>
                <a:lnTo>
                  <a:pt x="66" y="65"/>
                </a:lnTo>
                <a:lnTo>
                  <a:pt x="66" y="52"/>
                </a:lnTo>
                <a:lnTo>
                  <a:pt x="79" y="39"/>
                </a:lnTo>
                <a:lnTo>
                  <a:pt x="92" y="26"/>
                </a:lnTo>
                <a:lnTo>
                  <a:pt x="105" y="26"/>
                </a:lnTo>
                <a:lnTo>
                  <a:pt x="118" y="13"/>
                </a:lnTo>
                <a:lnTo>
                  <a:pt x="131" y="13"/>
                </a:lnTo>
                <a:lnTo>
                  <a:pt x="144" y="13"/>
                </a:lnTo>
                <a:lnTo>
                  <a:pt x="157" y="0"/>
                </a:lnTo>
                <a:lnTo>
                  <a:pt x="170" y="0"/>
                </a:lnTo>
                <a:lnTo>
                  <a:pt x="183" y="0"/>
                </a:lnTo>
                <a:lnTo>
                  <a:pt x="183" y="0"/>
                </a:lnTo>
                <a:lnTo>
                  <a:pt x="183" y="0"/>
                </a:lnTo>
                <a:lnTo>
                  <a:pt x="196" y="0"/>
                </a:lnTo>
                <a:lnTo>
                  <a:pt x="209" y="0"/>
                </a:lnTo>
                <a:lnTo>
                  <a:pt x="222" y="0"/>
                </a:lnTo>
                <a:lnTo>
                  <a:pt x="236" y="13"/>
                </a:lnTo>
                <a:lnTo>
                  <a:pt x="249" y="13"/>
                </a:lnTo>
                <a:lnTo>
                  <a:pt x="262" y="26"/>
                </a:lnTo>
                <a:lnTo>
                  <a:pt x="275" y="26"/>
                </a:lnTo>
                <a:lnTo>
                  <a:pt x="275" y="39"/>
                </a:lnTo>
                <a:lnTo>
                  <a:pt x="288" y="39"/>
                </a:lnTo>
                <a:lnTo>
                  <a:pt x="301" y="52"/>
                </a:lnTo>
                <a:lnTo>
                  <a:pt x="314" y="65"/>
                </a:lnTo>
                <a:lnTo>
                  <a:pt x="314" y="78"/>
                </a:lnTo>
                <a:lnTo>
                  <a:pt x="327" y="91"/>
                </a:lnTo>
                <a:lnTo>
                  <a:pt x="340" y="104"/>
                </a:lnTo>
                <a:lnTo>
                  <a:pt x="340" y="117"/>
                </a:lnTo>
                <a:lnTo>
                  <a:pt x="353" y="131"/>
                </a:lnTo>
                <a:lnTo>
                  <a:pt x="353" y="144"/>
                </a:lnTo>
                <a:lnTo>
                  <a:pt x="353" y="157"/>
                </a:lnTo>
                <a:lnTo>
                  <a:pt x="366" y="183"/>
                </a:lnTo>
                <a:lnTo>
                  <a:pt x="366" y="196"/>
                </a:lnTo>
                <a:lnTo>
                  <a:pt x="366" y="209"/>
                </a:lnTo>
                <a:lnTo>
                  <a:pt x="366" y="222"/>
                </a:lnTo>
                <a:lnTo>
                  <a:pt x="366" y="235"/>
                </a:lnTo>
                <a:lnTo>
                  <a:pt x="366" y="926"/>
                </a:lnTo>
                <a:close/>
                <a:moveTo>
                  <a:pt x="340" y="926"/>
                </a:moveTo>
                <a:lnTo>
                  <a:pt x="340" y="939"/>
                </a:lnTo>
                <a:lnTo>
                  <a:pt x="340" y="952"/>
                </a:lnTo>
                <a:lnTo>
                  <a:pt x="340" y="965"/>
                </a:lnTo>
                <a:lnTo>
                  <a:pt x="340" y="978"/>
                </a:lnTo>
                <a:lnTo>
                  <a:pt x="327" y="991"/>
                </a:lnTo>
                <a:lnTo>
                  <a:pt x="327" y="1017"/>
                </a:lnTo>
                <a:lnTo>
                  <a:pt x="327" y="1030"/>
                </a:lnTo>
                <a:lnTo>
                  <a:pt x="314" y="1030"/>
                </a:lnTo>
                <a:lnTo>
                  <a:pt x="314" y="1043"/>
                </a:lnTo>
                <a:lnTo>
                  <a:pt x="301" y="1056"/>
                </a:lnTo>
                <a:lnTo>
                  <a:pt x="301" y="1070"/>
                </a:lnTo>
                <a:lnTo>
                  <a:pt x="288" y="1083"/>
                </a:lnTo>
                <a:lnTo>
                  <a:pt x="275" y="1096"/>
                </a:lnTo>
                <a:lnTo>
                  <a:pt x="275" y="1096"/>
                </a:lnTo>
                <a:lnTo>
                  <a:pt x="262" y="1109"/>
                </a:lnTo>
                <a:lnTo>
                  <a:pt x="249" y="1109"/>
                </a:lnTo>
                <a:lnTo>
                  <a:pt x="236" y="1122"/>
                </a:lnTo>
                <a:lnTo>
                  <a:pt x="236" y="1122"/>
                </a:lnTo>
                <a:lnTo>
                  <a:pt x="222" y="1135"/>
                </a:lnTo>
                <a:lnTo>
                  <a:pt x="209" y="1135"/>
                </a:lnTo>
                <a:lnTo>
                  <a:pt x="196" y="1135"/>
                </a:lnTo>
                <a:lnTo>
                  <a:pt x="183" y="1135"/>
                </a:lnTo>
                <a:lnTo>
                  <a:pt x="183" y="1135"/>
                </a:lnTo>
                <a:lnTo>
                  <a:pt x="183" y="1135"/>
                </a:lnTo>
                <a:lnTo>
                  <a:pt x="170" y="1135"/>
                </a:lnTo>
                <a:lnTo>
                  <a:pt x="157" y="1135"/>
                </a:lnTo>
                <a:lnTo>
                  <a:pt x="157" y="1135"/>
                </a:lnTo>
                <a:lnTo>
                  <a:pt x="144" y="1122"/>
                </a:lnTo>
                <a:lnTo>
                  <a:pt x="131" y="1122"/>
                </a:lnTo>
                <a:lnTo>
                  <a:pt x="118" y="1122"/>
                </a:lnTo>
                <a:lnTo>
                  <a:pt x="105" y="1109"/>
                </a:lnTo>
                <a:lnTo>
                  <a:pt x="105" y="1109"/>
                </a:lnTo>
                <a:lnTo>
                  <a:pt x="92" y="1096"/>
                </a:lnTo>
                <a:lnTo>
                  <a:pt x="79" y="1083"/>
                </a:lnTo>
                <a:lnTo>
                  <a:pt x="79" y="1083"/>
                </a:lnTo>
                <a:lnTo>
                  <a:pt x="66" y="1070"/>
                </a:lnTo>
                <a:lnTo>
                  <a:pt x="66" y="1056"/>
                </a:lnTo>
                <a:lnTo>
                  <a:pt x="53" y="1043"/>
                </a:lnTo>
                <a:lnTo>
                  <a:pt x="53" y="1030"/>
                </a:lnTo>
                <a:lnTo>
                  <a:pt x="39" y="1017"/>
                </a:lnTo>
                <a:lnTo>
                  <a:pt x="39" y="1004"/>
                </a:lnTo>
                <a:lnTo>
                  <a:pt x="39" y="991"/>
                </a:lnTo>
                <a:lnTo>
                  <a:pt x="26" y="978"/>
                </a:lnTo>
                <a:lnTo>
                  <a:pt x="26" y="965"/>
                </a:lnTo>
                <a:lnTo>
                  <a:pt x="26" y="952"/>
                </a:lnTo>
                <a:lnTo>
                  <a:pt x="26" y="939"/>
                </a:lnTo>
                <a:lnTo>
                  <a:pt x="26" y="926"/>
                </a:lnTo>
                <a:lnTo>
                  <a:pt x="26" y="235"/>
                </a:lnTo>
                <a:lnTo>
                  <a:pt x="26" y="222"/>
                </a:lnTo>
                <a:lnTo>
                  <a:pt x="26" y="209"/>
                </a:lnTo>
                <a:lnTo>
                  <a:pt x="26" y="196"/>
                </a:lnTo>
                <a:lnTo>
                  <a:pt x="26" y="183"/>
                </a:lnTo>
                <a:lnTo>
                  <a:pt x="39" y="170"/>
                </a:lnTo>
                <a:lnTo>
                  <a:pt x="39" y="144"/>
                </a:lnTo>
                <a:lnTo>
                  <a:pt x="39" y="131"/>
                </a:lnTo>
                <a:lnTo>
                  <a:pt x="53" y="131"/>
                </a:lnTo>
                <a:lnTo>
                  <a:pt x="53" y="117"/>
                </a:lnTo>
                <a:lnTo>
                  <a:pt x="66" y="104"/>
                </a:lnTo>
                <a:lnTo>
                  <a:pt x="66" y="91"/>
                </a:lnTo>
                <a:lnTo>
                  <a:pt x="79" y="78"/>
                </a:lnTo>
                <a:lnTo>
                  <a:pt x="92" y="65"/>
                </a:lnTo>
                <a:lnTo>
                  <a:pt x="92" y="65"/>
                </a:lnTo>
                <a:lnTo>
                  <a:pt x="105" y="52"/>
                </a:lnTo>
                <a:lnTo>
                  <a:pt x="118" y="52"/>
                </a:lnTo>
                <a:lnTo>
                  <a:pt x="131" y="39"/>
                </a:lnTo>
                <a:lnTo>
                  <a:pt x="131" y="39"/>
                </a:lnTo>
                <a:lnTo>
                  <a:pt x="144" y="26"/>
                </a:lnTo>
                <a:lnTo>
                  <a:pt x="157" y="26"/>
                </a:lnTo>
                <a:lnTo>
                  <a:pt x="170" y="26"/>
                </a:lnTo>
                <a:lnTo>
                  <a:pt x="183" y="26"/>
                </a:lnTo>
                <a:lnTo>
                  <a:pt x="183" y="26"/>
                </a:lnTo>
                <a:lnTo>
                  <a:pt x="183" y="26"/>
                </a:lnTo>
                <a:lnTo>
                  <a:pt x="196" y="26"/>
                </a:lnTo>
                <a:lnTo>
                  <a:pt x="209" y="26"/>
                </a:lnTo>
                <a:lnTo>
                  <a:pt x="209" y="26"/>
                </a:lnTo>
                <a:lnTo>
                  <a:pt x="222" y="39"/>
                </a:lnTo>
                <a:lnTo>
                  <a:pt x="236" y="39"/>
                </a:lnTo>
                <a:lnTo>
                  <a:pt x="249" y="39"/>
                </a:lnTo>
                <a:lnTo>
                  <a:pt x="262" y="52"/>
                </a:lnTo>
                <a:lnTo>
                  <a:pt x="262" y="52"/>
                </a:lnTo>
                <a:lnTo>
                  <a:pt x="275" y="65"/>
                </a:lnTo>
                <a:lnTo>
                  <a:pt x="288" y="78"/>
                </a:lnTo>
                <a:lnTo>
                  <a:pt x="288" y="78"/>
                </a:lnTo>
                <a:lnTo>
                  <a:pt x="301" y="91"/>
                </a:lnTo>
                <a:lnTo>
                  <a:pt x="301" y="104"/>
                </a:lnTo>
                <a:lnTo>
                  <a:pt x="314" y="117"/>
                </a:lnTo>
                <a:lnTo>
                  <a:pt x="314" y="131"/>
                </a:lnTo>
                <a:lnTo>
                  <a:pt x="327" y="144"/>
                </a:lnTo>
                <a:lnTo>
                  <a:pt x="327" y="157"/>
                </a:lnTo>
                <a:lnTo>
                  <a:pt x="327" y="170"/>
                </a:lnTo>
                <a:lnTo>
                  <a:pt x="340" y="183"/>
                </a:lnTo>
                <a:lnTo>
                  <a:pt x="340" y="196"/>
                </a:lnTo>
                <a:lnTo>
                  <a:pt x="340" y="209"/>
                </a:lnTo>
                <a:lnTo>
                  <a:pt x="340" y="222"/>
                </a:lnTo>
                <a:lnTo>
                  <a:pt x="340" y="235"/>
                </a:lnTo>
                <a:lnTo>
                  <a:pt x="340" y="92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95680" y="4005360"/>
            <a:ext cx="3133800" cy="620640"/>
          </a:xfrm>
          <a:custGeom>
            <a:avLst/>
            <a:gdLst/>
            <a:ahLst/>
            <a:rect l="l" t="t" r="r" b="b"/>
            <a:pathLst>
              <a:path w="1974" h="391">
                <a:moveTo>
                  <a:pt x="1974" y="196"/>
                </a:moveTo>
                <a:lnTo>
                  <a:pt x="1974" y="209"/>
                </a:lnTo>
                <a:lnTo>
                  <a:pt x="1974" y="222"/>
                </a:lnTo>
                <a:lnTo>
                  <a:pt x="1974" y="235"/>
                </a:lnTo>
                <a:lnTo>
                  <a:pt x="1961" y="248"/>
                </a:lnTo>
                <a:lnTo>
                  <a:pt x="1961" y="261"/>
                </a:lnTo>
                <a:lnTo>
                  <a:pt x="1948" y="274"/>
                </a:lnTo>
                <a:lnTo>
                  <a:pt x="1948" y="287"/>
                </a:lnTo>
                <a:lnTo>
                  <a:pt x="1935" y="300"/>
                </a:lnTo>
                <a:lnTo>
                  <a:pt x="1935" y="313"/>
                </a:lnTo>
                <a:lnTo>
                  <a:pt x="1922" y="326"/>
                </a:lnTo>
                <a:lnTo>
                  <a:pt x="1909" y="326"/>
                </a:lnTo>
                <a:lnTo>
                  <a:pt x="1896" y="339"/>
                </a:lnTo>
                <a:lnTo>
                  <a:pt x="1883" y="352"/>
                </a:lnTo>
                <a:lnTo>
                  <a:pt x="1870" y="352"/>
                </a:lnTo>
                <a:lnTo>
                  <a:pt x="1857" y="365"/>
                </a:lnTo>
                <a:lnTo>
                  <a:pt x="1844" y="365"/>
                </a:lnTo>
                <a:lnTo>
                  <a:pt x="1830" y="378"/>
                </a:lnTo>
                <a:lnTo>
                  <a:pt x="1817" y="378"/>
                </a:lnTo>
                <a:lnTo>
                  <a:pt x="1791" y="391"/>
                </a:lnTo>
                <a:lnTo>
                  <a:pt x="1778" y="391"/>
                </a:lnTo>
                <a:lnTo>
                  <a:pt x="1765" y="391"/>
                </a:lnTo>
                <a:lnTo>
                  <a:pt x="1752" y="391"/>
                </a:lnTo>
                <a:lnTo>
                  <a:pt x="1739" y="391"/>
                </a:lnTo>
                <a:lnTo>
                  <a:pt x="236" y="391"/>
                </a:lnTo>
                <a:lnTo>
                  <a:pt x="222" y="391"/>
                </a:lnTo>
                <a:lnTo>
                  <a:pt x="196" y="391"/>
                </a:lnTo>
                <a:lnTo>
                  <a:pt x="183" y="391"/>
                </a:lnTo>
                <a:lnTo>
                  <a:pt x="170" y="378"/>
                </a:lnTo>
                <a:lnTo>
                  <a:pt x="157" y="378"/>
                </a:lnTo>
                <a:lnTo>
                  <a:pt x="144" y="378"/>
                </a:lnTo>
                <a:lnTo>
                  <a:pt x="131" y="365"/>
                </a:lnTo>
                <a:lnTo>
                  <a:pt x="105" y="365"/>
                </a:lnTo>
                <a:lnTo>
                  <a:pt x="92" y="352"/>
                </a:lnTo>
                <a:lnTo>
                  <a:pt x="79" y="339"/>
                </a:lnTo>
                <a:lnTo>
                  <a:pt x="66" y="339"/>
                </a:lnTo>
                <a:lnTo>
                  <a:pt x="66" y="326"/>
                </a:lnTo>
                <a:lnTo>
                  <a:pt x="53" y="313"/>
                </a:lnTo>
                <a:lnTo>
                  <a:pt x="39" y="300"/>
                </a:lnTo>
                <a:lnTo>
                  <a:pt x="26" y="300"/>
                </a:lnTo>
                <a:lnTo>
                  <a:pt x="26" y="287"/>
                </a:lnTo>
                <a:lnTo>
                  <a:pt x="13" y="274"/>
                </a:lnTo>
                <a:lnTo>
                  <a:pt x="13" y="261"/>
                </a:lnTo>
                <a:lnTo>
                  <a:pt x="13" y="248"/>
                </a:lnTo>
                <a:lnTo>
                  <a:pt x="0" y="235"/>
                </a:lnTo>
                <a:lnTo>
                  <a:pt x="0" y="222"/>
                </a:lnTo>
                <a:lnTo>
                  <a:pt x="0" y="209"/>
                </a:lnTo>
                <a:lnTo>
                  <a:pt x="0" y="196"/>
                </a:lnTo>
                <a:lnTo>
                  <a:pt x="0" y="196"/>
                </a:lnTo>
                <a:lnTo>
                  <a:pt x="0" y="183"/>
                </a:lnTo>
                <a:lnTo>
                  <a:pt x="0" y="170"/>
                </a:lnTo>
                <a:lnTo>
                  <a:pt x="0" y="157"/>
                </a:lnTo>
                <a:lnTo>
                  <a:pt x="13" y="144"/>
                </a:lnTo>
                <a:lnTo>
                  <a:pt x="13" y="130"/>
                </a:lnTo>
                <a:lnTo>
                  <a:pt x="26" y="117"/>
                </a:lnTo>
                <a:lnTo>
                  <a:pt x="26" y="104"/>
                </a:lnTo>
                <a:lnTo>
                  <a:pt x="39" y="91"/>
                </a:lnTo>
                <a:lnTo>
                  <a:pt x="39" y="78"/>
                </a:lnTo>
                <a:lnTo>
                  <a:pt x="53" y="65"/>
                </a:lnTo>
                <a:lnTo>
                  <a:pt x="66" y="65"/>
                </a:lnTo>
                <a:lnTo>
                  <a:pt x="79" y="52"/>
                </a:lnTo>
                <a:lnTo>
                  <a:pt x="92" y="39"/>
                </a:lnTo>
                <a:lnTo>
                  <a:pt x="105" y="39"/>
                </a:lnTo>
                <a:lnTo>
                  <a:pt x="118" y="26"/>
                </a:lnTo>
                <a:lnTo>
                  <a:pt x="131" y="26"/>
                </a:lnTo>
                <a:lnTo>
                  <a:pt x="144" y="13"/>
                </a:lnTo>
                <a:lnTo>
                  <a:pt x="157" y="13"/>
                </a:lnTo>
                <a:lnTo>
                  <a:pt x="183" y="0"/>
                </a:lnTo>
                <a:lnTo>
                  <a:pt x="196" y="0"/>
                </a:lnTo>
                <a:lnTo>
                  <a:pt x="209" y="0"/>
                </a:lnTo>
                <a:lnTo>
                  <a:pt x="222" y="0"/>
                </a:lnTo>
                <a:lnTo>
                  <a:pt x="236" y="0"/>
                </a:lnTo>
                <a:lnTo>
                  <a:pt x="1739" y="0"/>
                </a:lnTo>
                <a:lnTo>
                  <a:pt x="1752" y="0"/>
                </a:lnTo>
                <a:lnTo>
                  <a:pt x="1778" y="0"/>
                </a:lnTo>
                <a:lnTo>
                  <a:pt x="1791" y="0"/>
                </a:lnTo>
                <a:lnTo>
                  <a:pt x="1804" y="13"/>
                </a:lnTo>
                <a:lnTo>
                  <a:pt x="1817" y="13"/>
                </a:lnTo>
                <a:lnTo>
                  <a:pt x="1830" y="13"/>
                </a:lnTo>
                <a:lnTo>
                  <a:pt x="1844" y="26"/>
                </a:lnTo>
                <a:lnTo>
                  <a:pt x="1870" y="26"/>
                </a:lnTo>
                <a:lnTo>
                  <a:pt x="1883" y="39"/>
                </a:lnTo>
                <a:lnTo>
                  <a:pt x="1896" y="52"/>
                </a:lnTo>
                <a:lnTo>
                  <a:pt x="1909" y="52"/>
                </a:lnTo>
                <a:lnTo>
                  <a:pt x="1909" y="65"/>
                </a:lnTo>
                <a:lnTo>
                  <a:pt x="1922" y="78"/>
                </a:lnTo>
                <a:lnTo>
                  <a:pt x="1935" y="91"/>
                </a:lnTo>
                <a:lnTo>
                  <a:pt x="1948" y="104"/>
                </a:lnTo>
                <a:lnTo>
                  <a:pt x="1948" y="104"/>
                </a:lnTo>
                <a:lnTo>
                  <a:pt x="1961" y="117"/>
                </a:lnTo>
                <a:lnTo>
                  <a:pt x="1961" y="130"/>
                </a:lnTo>
                <a:lnTo>
                  <a:pt x="1961" y="144"/>
                </a:lnTo>
                <a:lnTo>
                  <a:pt x="1974" y="157"/>
                </a:lnTo>
                <a:lnTo>
                  <a:pt x="1974" y="170"/>
                </a:lnTo>
                <a:lnTo>
                  <a:pt x="1974" y="183"/>
                </a:lnTo>
                <a:lnTo>
                  <a:pt x="1974" y="196"/>
                </a:lnTo>
                <a:lnTo>
                  <a:pt x="1974" y="196"/>
                </a:lnTo>
                <a:close/>
                <a:moveTo>
                  <a:pt x="1948" y="196"/>
                </a:moveTo>
                <a:lnTo>
                  <a:pt x="1948" y="209"/>
                </a:lnTo>
                <a:lnTo>
                  <a:pt x="1948" y="222"/>
                </a:lnTo>
                <a:lnTo>
                  <a:pt x="1948" y="235"/>
                </a:lnTo>
                <a:lnTo>
                  <a:pt x="1935" y="248"/>
                </a:lnTo>
                <a:lnTo>
                  <a:pt x="1935" y="248"/>
                </a:lnTo>
                <a:lnTo>
                  <a:pt x="1935" y="261"/>
                </a:lnTo>
                <a:lnTo>
                  <a:pt x="1922" y="274"/>
                </a:lnTo>
                <a:lnTo>
                  <a:pt x="1922" y="287"/>
                </a:lnTo>
                <a:lnTo>
                  <a:pt x="1909" y="300"/>
                </a:lnTo>
                <a:lnTo>
                  <a:pt x="1896" y="300"/>
                </a:lnTo>
                <a:lnTo>
                  <a:pt x="1896" y="313"/>
                </a:lnTo>
                <a:lnTo>
                  <a:pt x="1883" y="326"/>
                </a:lnTo>
                <a:lnTo>
                  <a:pt x="1870" y="326"/>
                </a:lnTo>
                <a:lnTo>
                  <a:pt x="1857" y="339"/>
                </a:lnTo>
                <a:lnTo>
                  <a:pt x="1844" y="339"/>
                </a:lnTo>
                <a:lnTo>
                  <a:pt x="1830" y="352"/>
                </a:lnTo>
                <a:lnTo>
                  <a:pt x="1817" y="352"/>
                </a:lnTo>
                <a:lnTo>
                  <a:pt x="1804" y="352"/>
                </a:lnTo>
                <a:lnTo>
                  <a:pt x="1791" y="365"/>
                </a:lnTo>
                <a:lnTo>
                  <a:pt x="1778" y="365"/>
                </a:lnTo>
                <a:lnTo>
                  <a:pt x="1765" y="365"/>
                </a:lnTo>
                <a:lnTo>
                  <a:pt x="1752" y="365"/>
                </a:lnTo>
                <a:lnTo>
                  <a:pt x="1739" y="365"/>
                </a:lnTo>
                <a:lnTo>
                  <a:pt x="236" y="365"/>
                </a:lnTo>
                <a:lnTo>
                  <a:pt x="222" y="365"/>
                </a:lnTo>
                <a:lnTo>
                  <a:pt x="209" y="365"/>
                </a:lnTo>
                <a:lnTo>
                  <a:pt x="196" y="365"/>
                </a:lnTo>
                <a:lnTo>
                  <a:pt x="183" y="352"/>
                </a:lnTo>
                <a:lnTo>
                  <a:pt x="170" y="352"/>
                </a:lnTo>
                <a:lnTo>
                  <a:pt x="144" y="352"/>
                </a:lnTo>
                <a:lnTo>
                  <a:pt x="131" y="339"/>
                </a:lnTo>
                <a:lnTo>
                  <a:pt x="131" y="339"/>
                </a:lnTo>
                <a:lnTo>
                  <a:pt x="118" y="339"/>
                </a:lnTo>
                <a:lnTo>
                  <a:pt x="105" y="326"/>
                </a:lnTo>
                <a:lnTo>
                  <a:pt x="92" y="313"/>
                </a:lnTo>
                <a:lnTo>
                  <a:pt x="79" y="313"/>
                </a:lnTo>
                <a:lnTo>
                  <a:pt x="66" y="300"/>
                </a:lnTo>
                <a:lnTo>
                  <a:pt x="66" y="287"/>
                </a:lnTo>
                <a:lnTo>
                  <a:pt x="53" y="287"/>
                </a:lnTo>
                <a:lnTo>
                  <a:pt x="53" y="274"/>
                </a:lnTo>
                <a:lnTo>
                  <a:pt x="39" y="261"/>
                </a:lnTo>
                <a:lnTo>
                  <a:pt x="39" y="248"/>
                </a:lnTo>
                <a:lnTo>
                  <a:pt x="26" y="235"/>
                </a:lnTo>
                <a:lnTo>
                  <a:pt x="26" y="222"/>
                </a:lnTo>
                <a:lnTo>
                  <a:pt x="26" y="209"/>
                </a:lnTo>
                <a:lnTo>
                  <a:pt x="26" y="196"/>
                </a:lnTo>
                <a:lnTo>
                  <a:pt x="26" y="196"/>
                </a:lnTo>
                <a:lnTo>
                  <a:pt x="26" y="196"/>
                </a:lnTo>
                <a:lnTo>
                  <a:pt x="26" y="183"/>
                </a:lnTo>
                <a:lnTo>
                  <a:pt x="26" y="170"/>
                </a:lnTo>
                <a:lnTo>
                  <a:pt x="26" y="157"/>
                </a:lnTo>
                <a:lnTo>
                  <a:pt x="39" y="144"/>
                </a:lnTo>
                <a:lnTo>
                  <a:pt x="39" y="144"/>
                </a:lnTo>
                <a:lnTo>
                  <a:pt x="39" y="130"/>
                </a:lnTo>
                <a:lnTo>
                  <a:pt x="53" y="117"/>
                </a:lnTo>
                <a:lnTo>
                  <a:pt x="53" y="104"/>
                </a:lnTo>
                <a:lnTo>
                  <a:pt x="66" y="91"/>
                </a:lnTo>
                <a:lnTo>
                  <a:pt x="79" y="91"/>
                </a:lnTo>
                <a:lnTo>
                  <a:pt x="79" y="78"/>
                </a:lnTo>
                <a:lnTo>
                  <a:pt x="92" y="65"/>
                </a:lnTo>
                <a:lnTo>
                  <a:pt x="105" y="65"/>
                </a:lnTo>
                <a:lnTo>
                  <a:pt x="118" y="52"/>
                </a:lnTo>
                <a:lnTo>
                  <a:pt x="131" y="52"/>
                </a:lnTo>
                <a:lnTo>
                  <a:pt x="144" y="39"/>
                </a:lnTo>
                <a:lnTo>
                  <a:pt x="157" y="39"/>
                </a:lnTo>
                <a:lnTo>
                  <a:pt x="170" y="39"/>
                </a:lnTo>
                <a:lnTo>
                  <a:pt x="183" y="26"/>
                </a:lnTo>
                <a:lnTo>
                  <a:pt x="196" y="26"/>
                </a:lnTo>
                <a:lnTo>
                  <a:pt x="209" y="26"/>
                </a:lnTo>
                <a:lnTo>
                  <a:pt x="222" y="26"/>
                </a:lnTo>
                <a:lnTo>
                  <a:pt x="236" y="26"/>
                </a:lnTo>
                <a:lnTo>
                  <a:pt x="1739" y="26"/>
                </a:lnTo>
                <a:lnTo>
                  <a:pt x="1752" y="26"/>
                </a:lnTo>
                <a:lnTo>
                  <a:pt x="1765" y="26"/>
                </a:lnTo>
                <a:lnTo>
                  <a:pt x="1778" y="26"/>
                </a:lnTo>
                <a:lnTo>
                  <a:pt x="1791" y="39"/>
                </a:lnTo>
                <a:lnTo>
                  <a:pt x="1804" y="39"/>
                </a:lnTo>
                <a:lnTo>
                  <a:pt x="1830" y="39"/>
                </a:lnTo>
                <a:lnTo>
                  <a:pt x="1844" y="52"/>
                </a:lnTo>
                <a:lnTo>
                  <a:pt x="1844" y="52"/>
                </a:lnTo>
                <a:lnTo>
                  <a:pt x="1857" y="52"/>
                </a:lnTo>
                <a:lnTo>
                  <a:pt x="1870" y="65"/>
                </a:lnTo>
                <a:lnTo>
                  <a:pt x="1883" y="78"/>
                </a:lnTo>
                <a:lnTo>
                  <a:pt x="1896" y="78"/>
                </a:lnTo>
                <a:lnTo>
                  <a:pt x="1909" y="91"/>
                </a:lnTo>
                <a:lnTo>
                  <a:pt x="1909" y="104"/>
                </a:lnTo>
                <a:lnTo>
                  <a:pt x="1922" y="117"/>
                </a:lnTo>
                <a:lnTo>
                  <a:pt x="1922" y="117"/>
                </a:lnTo>
                <a:lnTo>
                  <a:pt x="1935" y="130"/>
                </a:lnTo>
                <a:lnTo>
                  <a:pt x="1935" y="144"/>
                </a:lnTo>
                <a:lnTo>
                  <a:pt x="1948" y="157"/>
                </a:lnTo>
                <a:lnTo>
                  <a:pt x="1948" y="170"/>
                </a:lnTo>
                <a:lnTo>
                  <a:pt x="1948" y="183"/>
                </a:lnTo>
                <a:lnTo>
                  <a:pt x="1948" y="196"/>
                </a:lnTo>
                <a:lnTo>
                  <a:pt x="1948" y="196"/>
                </a:lnTo>
                <a:lnTo>
                  <a:pt x="1948" y="196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800440" y="3174840"/>
            <a:ext cx="2863800" cy="1533600"/>
            <a:chOff x="2800440" y="3174840"/>
            <a:chExt cx="2863800" cy="1533600"/>
          </a:xfrm>
        </p:grpSpPr>
        <p:sp>
          <p:nvSpPr>
            <p:cNvPr id="887" name=""/>
            <p:cNvSpPr/>
            <p:nvPr/>
          </p:nvSpPr>
          <p:spPr>
            <a:xfrm>
              <a:off x="2820960" y="3176640"/>
              <a:ext cx="2843280" cy="20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00440" y="3174840"/>
              <a:ext cx="20520" cy="153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20960" y="3943080"/>
              <a:ext cx="2843280" cy="2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820960" y="4687920"/>
              <a:ext cx="2843280" cy="20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25840" y="3176640"/>
              <a:ext cx="20880" cy="1531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32520" y="3176640"/>
              <a:ext cx="20520" cy="1531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37040" y="3176640"/>
              <a:ext cx="20880" cy="1531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43720" y="3176640"/>
              <a:ext cx="20520" cy="1531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3505320" y="2617920"/>
            <a:ext cx="1452600" cy="41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11640" y="2287440"/>
            <a:ext cx="1389240" cy="414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43240" y="3922560"/>
            <a:ext cx="41040" cy="765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0600" y="3508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98440" y="21430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14080" y="2473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085200" y="41259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99800" y="413388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453920" y="413388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58200" y="3344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809160" y="335268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472640" y="335268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201640" y="3371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01640" y="414324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cc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88560" y="838080"/>
            <a:ext cx="397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ff0099"/>
                </a:solidFill>
                <a:uFillTx/>
                <a:latin typeface="Arial"/>
              </a:rPr>
              <a:t>Simplification (tableau de Karnau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995400" y="1324080"/>
            <a:ext cx="4932360" cy="424440"/>
            <a:chOff x="995400" y="1324080"/>
            <a:chExt cx="4932360" cy="424440"/>
          </a:xfrm>
        </p:grpSpPr>
        <p:sp>
          <p:nvSpPr>
            <p:cNvPr id="911" name=""/>
            <p:cNvSpPr/>
            <p:nvPr/>
          </p:nvSpPr>
          <p:spPr>
            <a:xfrm>
              <a:off x="995400" y="1443240"/>
              <a:ext cx="4932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=(a.b.c)+(a.b.c)+(a.b.c)+(a.b.c)+(a.b.c)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11880" y="1324080"/>
              <a:ext cx="145440" cy="162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44640" y="1324080"/>
              <a:ext cx="145080" cy="16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27920" y="1324080"/>
              <a:ext cx="145080" cy="16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89240" y="1324080"/>
              <a:ext cx="143640" cy="162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55440" y="1324080"/>
              <a:ext cx="145080" cy="16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38720" y="1324080"/>
              <a:ext cx="143640" cy="162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0320" y="1327680"/>
              <a:ext cx="145080" cy="162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6049080" y="41068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ff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5058360" y="5019840"/>
            <a:ext cx="423000" cy="407520"/>
            <a:chOff x="5058360" y="5019840"/>
            <a:chExt cx="423000" cy="407520"/>
          </a:xfrm>
        </p:grpSpPr>
        <p:sp>
          <p:nvSpPr>
            <p:cNvPr id="921" name=""/>
            <p:cNvSpPr/>
            <p:nvPr/>
          </p:nvSpPr>
          <p:spPr>
            <a:xfrm>
              <a:off x="5058360" y="507672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dd"/>
                  </a:solidFill>
                  <a:latin typeface="Arial"/>
                </a:rPr>
                <a:t>b.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330520" y="5019840"/>
              <a:ext cx="145800" cy="4104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1523880" y="5715000"/>
            <a:ext cx="2097000" cy="684360"/>
            <a:chOff x="1523880" y="5715000"/>
            <a:chExt cx="2097000" cy="684360"/>
          </a:xfrm>
        </p:grpSpPr>
        <p:sp>
          <p:nvSpPr>
            <p:cNvPr id="924" name=""/>
            <p:cNvSpPr/>
            <p:nvPr/>
          </p:nvSpPr>
          <p:spPr>
            <a:xfrm>
              <a:off x="1523880" y="5715000"/>
              <a:ext cx="2097000" cy="414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23880" y="5756400"/>
              <a:ext cx="42840" cy="6015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23880" y="6357960"/>
              <a:ext cx="2097000" cy="414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79480" y="5756400"/>
              <a:ext cx="41400" cy="60156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85480" y="27432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53720" y="276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58600" y="276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44400" y="27637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30080" y="3446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30080" y="4213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19320" y="1219320"/>
            <a:ext cx="838080" cy="68580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104920" y="1228680"/>
            <a:ext cx="838440" cy="68580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19320"/>
            <a:ext cx="838080" cy="68580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1219320"/>
            <a:ext cx="838080" cy="68580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00600" y="1228680"/>
            <a:ext cx="838080" cy="685800"/>
          </a:xfrm>
          <a:prstGeom prst="ellipse">
            <a:avLst/>
          </a:prstGeom>
          <a:noFill/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97800" y="59198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c00ff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02720" y="59198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806560" y="5919840"/>
            <a:ext cx="618120" cy="350640"/>
            <a:chOff x="2806560" y="5919840"/>
            <a:chExt cx="618120" cy="350640"/>
          </a:xfrm>
        </p:grpSpPr>
        <p:sp>
          <p:nvSpPr>
            <p:cNvPr id="942" name=""/>
            <p:cNvSpPr/>
            <p:nvPr/>
          </p:nvSpPr>
          <p:spPr>
            <a:xfrm>
              <a:off x="2806560" y="5919840"/>
              <a:ext cx="618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66cc"/>
                  </a:solidFill>
                  <a:latin typeface="Arial"/>
                </a:rPr>
                <a:t>(b.c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88880" y="5919840"/>
              <a:ext cx="15228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1664640" y="5843520"/>
            <a:ext cx="430200" cy="426960"/>
            <a:chOff x="1664640" y="5843520"/>
            <a:chExt cx="430200" cy="426960"/>
          </a:xfrm>
        </p:grpSpPr>
        <p:sp>
          <p:nvSpPr>
            <p:cNvPr id="945" name=""/>
            <p:cNvSpPr/>
            <p:nvPr/>
          </p:nvSpPr>
          <p:spPr>
            <a:xfrm>
              <a:off x="1664640" y="5919840"/>
              <a:ext cx="43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65360" y="5843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2697120" y="3268800"/>
            <a:ext cx="1600200" cy="533160"/>
          </a:xfrm>
          <a:custGeom>
            <a:avLst/>
            <a:gdLst/>
            <a:ahLst/>
            <a:rect l="l" t="t" r="r" b="b"/>
            <a:pathLst>
              <a:path w="1974" h="391">
                <a:moveTo>
                  <a:pt x="1974" y="196"/>
                </a:moveTo>
                <a:lnTo>
                  <a:pt x="1974" y="209"/>
                </a:lnTo>
                <a:lnTo>
                  <a:pt x="1974" y="222"/>
                </a:lnTo>
                <a:lnTo>
                  <a:pt x="1974" y="235"/>
                </a:lnTo>
                <a:lnTo>
                  <a:pt x="1961" y="248"/>
                </a:lnTo>
                <a:lnTo>
                  <a:pt x="1961" y="261"/>
                </a:lnTo>
                <a:lnTo>
                  <a:pt x="1948" y="274"/>
                </a:lnTo>
                <a:lnTo>
                  <a:pt x="1948" y="287"/>
                </a:lnTo>
                <a:lnTo>
                  <a:pt x="1935" y="300"/>
                </a:lnTo>
                <a:lnTo>
                  <a:pt x="1935" y="313"/>
                </a:lnTo>
                <a:lnTo>
                  <a:pt x="1922" y="326"/>
                </a:lnTo>
                <a:lnTo>
                  <a:pt x="1909" y="326"/>
                </a:lnTo>
                <a:lnTo>
                  <a:pt x="1896" y="339"/>
                </a:lnTo>
                <a:lnTo>
                  <a:pt x="1883" y="352"/>
                </a:lnTo>
                <a:lnTo>
                  <a:pt x="1870" y="352"/>
                </a:lnTo>
                <a:lnTo>
                  <a:pt x="1857" y="365"/>
                </a:lnTo>
                <a:lnTo>
                  <a:pt x="1844" y="365"/>
                </a:lnTo>
                <a:lnTo>
                  <a:pt x="1830" y="378"/>
                </a:lnTo>
                <a:lnTo>
                  <a:pt x="1817" y="378"/>
                </a:lnTo>
                <a:lnTo>
                  <a:pt x="1791" y="391"/>
                </a:lnTo>
                <a:lnTo>
                  <a:pt x="1778" y="391"/>
                </a:lnTo>
                <a:lnTo>
                  <a:pt x="1765" y="391"/>
                </a:lnTo>
                <a:lnTo>
                  <a:pt x="1752" y="391"/>
                </a:lnTo>
                <a:lnTo>
                  <a:pt x="1739" y="391"/>
                </a:lnTo>
                <a:lnTo>
                  <a:pt x="236" y="391"/>
                </a:lnTo>
                <a:lnTo>
                  <a:pt x="222" y="391"/>
                </a:lnTo>
                <a:lnTo>
                  <a:pt x="196" y="391"/>
                </a:lnTo>
                <a:lnTo>
                  <a:pt x="183" y="391"/>
                </a:lnTo>
                <a:lnTo>
                  <a:pt x="170" y="378"/>
                </a:lnTo>
                <a:lnTo>
                  <a:pt x="157" y="378"/>
                </a:lnTo>
                <a:lnTo>
                  <a:pt x="144" y="378"/>
                </a:lnTo>
                <a:lnTo>
                  <a:pt x="131" y="365"/>
                </a:lnTo>
                <a:lnTo>
                  <a:pt x="105" y="365"/>
                </a:lnTo>
                <a:lnTo>
                  <a:pt x="92" y="352"/>
                </a:lnTo>
                <a:lnTo>
                  <a:pt x="79" y="339"/>
                </a:lnTo>
                <a:lnTo>
                  <a:pt x="66" y="339"/>
                </a:lnTo>
                <a:lnTo>
                  <a:pt x="66" y="326"/>
                </a:lnTo>
                <a:lnTo>
                  <a:pt x="53" y="313"/>
                </a:lnTo>
                <a:lnTo>
                  <a:pt x="39" y="300"/>
                </a:lnTo>
                <a:lnTo>
                  <a:pt x="26" y="300"/>
                </a:lnTo>
                <a:lnTo>
                  <a:pt x="26" y="287"/>
                </a:lnTo>
                <a:lnTo>
                  <a:pt x="13" y="274"/>
                </a:lnTo>
                <a:lnTo>
                  <a:pt x="13" y="261"/>
                </a:lnTo>
                <a:lnTo>
                  <a:pt x="13" y="248"/>
                </a:lnTo>
                <a:lnTo>
                  <a:pt x="0" y="235"/>
                </a:lnTo>
                <a:lnTo>
                  <a:pt x="0" y="222"/>
                </a:lnTo>
                <a:lnTo>
                  <a:pt x="0" y="209"/>
                </a:lnTo>
                <a:lnTo>
                  <a:pt x="0" y="196"/>
                </a:lnTo>
                <a:lnTo>
                  <a:pt x="0" y="196"/>
                </a:lnTo>
                <a:lnTo>
                  <a:pt x="0" y="183"/>
                </a:lnTo>
                <a:lnTo>
                  <a:pt x="0" y="170"/>
                </a:lnTo>
                <a:lnTo>
                  <a:pt x="0" y="157"/>
                </a:lnTo>
                <a:lnTo>
                  <a:pt x="13" y="144"/>
                </a:lnTo>
                <a:lnTo>
                  <a:pt x="13" y="130"/>
                </a:lnTo>
                <a:lnTo>
                  <a:pt x="26" y="117"/>
                </a:lnTo>
                <a:lnTo>
                  <a:pt x="26" y="104"/>
                </a:lnTo>
                <a:lnTo>
                  <a:pt x="39" y="91"/>
                </a:lnTo>
                <a:lnTo>
                  <a:pt x="39" y="78"/>
                </a:lnTo>
                <a:lnTo>
                  <a:pt x="53" y="65"/>
                </a:lnTo>
                <a:lnTo>
                  <a:pt x="66" y="65"/>
                </a:lnTo>
                <a:lnTo>
                  <a:pt x="79" y="52"/>
                </a:lnTo>
                <a:lnTo>
                  <a:pt x="92" y="39"/>
                </a:lnTo>
                <a:lnTo>
                  <a:pt x="105" y="39"/>
                </a:lnTo>
                <a:lnTo>
                  <a:pt x="118" y="26"/>
                </a:lnTo>
                <a:lnTo>
                  <a:pt x="131" y="26"/>
                </a:lnTo>
                <a:lnTo>
                  <a:pt x="144" y="13"/>
                </a:lnTo>
                <a:lnTo>
                  <a:pt x="157" y="13"/>
                </a:lnTo>
                <a:lnTo>
                  <a:pt x="183" y="0"/>
                </a:lnTo>
                <a:lnTo>
                  <a:pt x="196" y="0"/>
                </a:lnTo>
                <a:lnTo>
                  <a:pt x="209" y="0"/>
                </a:lnTo>
                <a:lnTo>
                  <a:pt x="222" y="0"/>
                </a:lnTo>
                <a:lnTo>
                  <a:pt x="236" y="0"/>
                </a:lnTo>
                <a:lnTo>
                  <a:pt x="1739" y="0"/>
                </a:lnTo>
                <a:lnTo>
                  <a:pt x="1752" y="0"/>
                </a:lnTo>
                <a:lnTo>
                  <a:pt x="1778" y="0"/>
                </a:lnTo>
                <a:lnTo>
                  <a:pt x="1791" y="0"/>
                </a:lnTo>
                <a:lnTo>
                  <a:pt x="1804" y="13"/>
                </a:lnTo>
                <a:lnTo>
                  <a:pt x="1817" y="13"/>
                </a:lnTo>
                <a:lnTo>
                  <a:pt x="1830" y="13"/>
                </a:lnTo>
                <a:lnTo>
                  <a:pt x="1844" y="26"/>
                </a:lnTo>
                <a:lnTo>
                  <a:pt x="1870" y="26"/>
                </a:lnTo>
                <a:lnTo>
                  <a:pt x="1883" y="39"/>
                </a:lnTo>
                <a:lnTo>
                  <a:pt x="1896" y="52"/>
                </a:lnTo>
                <a:lnTo>
                  <a:pt x="1909" y="52"/>
                </a:lnTo>
                <a:lnTo>
                  <a:pt x="1909" y="65"/>
                </a:lnTo>
                <a:lnTo>
                  <a:pt x="1922" y="78"/>
                </a:lnTo>
                <a:lnTo>
                  <a:pt x="1935" y="91"/>
                </a:lnTo>
                <a:lnTo>
                  <a:pt x="1948" y="104"/>
                </a:lnTo>
                <a:lnTo>
                  <a:pt x="1948" y="104"/>
                </a:lnTo>
                <a:lnTo>
                  <a:pt x="1961" y="117"/>
                </a:lnTo>
                <a:lnTo>
                  <a:pt x="1961" y="130"/>
                </a:lnTo>
                <a:lnTo>
                  <a:pt x="1961" y="144"/>
                </a:lnTo>
                <a:lnTo>
                  <a:pt x="1974" y="157"/>
                </a:lnTo>
                <a:lnTo>
                  <a:pt x="1974" y="170"/>
                </a:lnTo>
                <a:lnTo>
                  <a:pt x="1974" y="183"/>
                </a:lnTo>
                <a:lnTo>
                  <a:pt x="1974" y="196"/>
                </a:lnTo>
                <a:lnTo>
                  <a:pt x="1974" y="196"/>
                </a:lnTo>
                <a:close/>
                <a:moveTo>
                  <a:pt x="1948" y="196"/>
                </a:moveTo>
                <a:lnTo>
                  <a:pt x="1948" y="209"/>
                </a:lnTo>
                <a:lnTo>
                  <a:pt x="1948" y="222"/>
                </a:lnTo>
                <a:lnTo>
                  <a:pt x="1948" y="235"/>
                </a:lnTo>
                <a:lnTo>
                  <a:pt x="1935" y="248"/>
                </a:lnTo>
                <a:lnTo>
                  <a:pt x="1935" y="248"/>
                </a:lnTo>
                <a:lnTo>
                  <a:pt x="1935" y="261"/>
                </a:lnTo>
                <a:lnTo>
                  <a:pt x="1922" y="274"/>
                </a:lnTo>
                <a:lnTo>
                  <a:pt x="1922" y="287"/>
                </a:lnTo>
                <a:lnTo>
                  <a:pt x="1909" y="300"/>
                </a:lnTo>
                <a:lnTo>
                  <a:pt x="1896" y="300"/>
                </a:lnTo>
                <a:lnTo>
                  <a:pt x="1896" y="313"/>
                </a:lnTo>
                <a:lnTo>
                  <a:pt x="1883" y="326"/>
                </a:lnTo>
                <a:lnTo>
                  <a:pt x="1870" y="326"/>
                </a:lnTo>
                <a:lnTo>
                  <a:pt x="1857" y="339"/>
                </a:lnTo>
                <a:lnTo>
                  <a:pt x="1844" y="339"/>
                </a:lnTo>
                <a:lnTo>
                  <a:pt x="1830" y="352"/>
                </a:lnTo>
                <a:lnTo>
                  <a:pt x="1817" y="352"/>
                </a:lnTo>
                <a:lnTo>
                  <a:pt x="1804" y="352"/>
                </a:lnTo>
                <a:lnTo>
                  <a:pt x="1791" y="365"/>
                </a:lnTo>
                <a:lnTo>
                  <a:pt x="1778" y="365"/>
                </a:lnTo>
                <a:lnTo>
                  <a:pt x="1765" y="365"/>
                </a:lnTo>
                <a:lnTo>
                  <a:pt x="1752" y="365"/>
                </a:lnTo>
                <a:lnTo>
                  <a:pt x="1739" y="365"/>
                </a:lnTo>
                <a:lnTo>
                  <a:pt x="236" y="365"/>
                </a:lnTo>
                <a:lnTo>
                  <a:pt x="222" y="365"/>
                </a:lnTo>
                <a:lnTo>
                  <a:pt x="209" y="365"/>
                </a:lnTo>
                <a:lnTo>
                  <a:pt x="196" y="365"/>
                </a:lnTo>
                <a:lnTo>
                  <a:pt x="183" y="352"/>
                </a:lnTo>
                <a:lnTo>
                  <a:pt x="170" y="352"/>
                </a:lnTo>
                <a:lnTo>
                  <a:pt x="144" y="352"/>
                </a:lnTo>
                <a:lnTo>
                  <a:pt x="131" y="339"/>
                </a:lnTo>
                <a:lnTo>
                  <a:pt x="131" y="339"/>
                </a:lnTo>
                <a:lnTo>
                  <a:pt x="118" y="339"/>
                </a:lnTo>
                <a:lnTo>
                  <a:pt x="105" y="326"/>
                </a:lnTo>
                <a:lnTo>
                  <a:pt x="92" y="313"/>
                </a:lnTo>
                <a:lnTo>
                  <a:pt x="79" y="313"/>
                </a:lnTo>
                <a:lnTo>
                  <a:pt x="66" y="300"/>
                </a:lnTo>
                <a:lnTo>
                  <a:pt x="66" y="287"/>
                </a:lnTo>
                <a:lnTo>
                  <a:pt x="53" y="287"/>
                </a:lnTo>
                <a:lnTo>
                  <a:pt x="53" y="274"/>
                </a:lnTo>
                <a:lnTo>
                  <a:pt x="39" y="261"/>
                </a:lnTo>
                <a:lnTo>
                  <a:pt x="39" y="248"/>
                </a:lnTo>
                <a:lnTo>
                  <a:pt x="26" y="235"/>
                </a:lnTo>
                <a:lnTo>
                  <a:pt x="26" y="222"/>
                </a:lnTo>
                <a:lnTo>
                  <a:pt x="26" y="209"/>
                </a:lnTo>
                <a:lnTo>
                  <a:pt x="26" y="196"/>
                </a:lnTo>
                <a:lnTo>
                  <a:pt x="26" y="196"/>
                </a:lnTo>
                <a:lnTo>
                  <a:pt x="26" y="196"/>
                </a:lnTo>
                <a:lnTo>
                  <a:pt x="26" y="183"/>
                </a:lnTo>
                <a:lnTo>
                  <a:pt x="26" y="170"/>
                </a:lnTo>
                <a:lnTo>
                  <a:pt x="26" y="157"/>
                </a:lnTo>
                <a:lnTo>
                  <a:pt x="39" y="144"/>
                </a:lnTo>
                <a:lnTo>
                  <a:pt x="39" y="144"/>
                </a:lnTo>
                <a:lnTo>
                  <a:pt x="39" y="130"/>
                </a:lnTo>
                <a:lnTo>
                  <a:pt x="53" y="117"/>
                </a:lnTo>
                <a:lnTo>
                  <a:pt x="53" y="104"/>
                </a:lnTo>
                <a:lnTo>
                  <a:pt x="66" y="91"/>
                </a:lnTo>
                <a:lnTo>
                  <a:pt x="79" y="91"/>
                </a:lnTo>
                <a:lnTo>
                  <a:pt x="79" y="78"/>
                </a:lnTo>
                <a:lnTo>
                  <a:pt x="92" y="65"/>
                </a:lnTo>
                <a:lnTo>
                  <a:pt x="105" y="65"/>
                </a:lnTo>
                <a:lnTo>
                  <a:pt x="118" y="52"/>
                </a:lnTo>
                <a:lnTo>
                  <a:pt x="131" y="52"/>
                </a:lnTo>
                <a:lnTo>
                  <a:pt x="144" y="39"/>
                </a:lnTo>
                <a:lnTo>
                  <a:pt x="157" y="39"/>
                </a:lnTo>
                <a:lnTo>
                  <a:pt x="170" y="39"/>
                </a:lnTo>
                <a:lnTo>
                  <a:pt x="183" y="26"/>
                </a:lnTo>
                <a:lnTo>
                  <a:pt x="196" y="26"/>
                </a:lnTo>
                <a:lnTo>
                  <a:pt x="209" y="26"/>
                </a:lnTo>
                <a:lnTo>
                  <a:pt x="222" y="26"/>
                </a:lnTo>
                <a:lnTo>
                  <a:pt x="236" y="26"/>
                </a:lnTo>
                <a:lnTo>
                  <a:pt x="1739" y="26"/>
                </a:lnTo>
                <a:lnTo>
                  <a:pt x="1752" y="26"/>
                </a:lnTo>
                <a:lnTo>
                  <a:pt x="1765" y="26"/>
                </a:lnTo>
                <a:lnTo>
                  <a:pt x="1778" y="26"/>
                </a:lnTo>
                <a:lnTo>
                  <a:pt x="1791" y="39"/>
                </a:lnTo>
                <a:lnTo>
                  <a:pt x="1804" y="39"/>
                </a:lnTo>
                <a:lnTo>
                  <a:pt x="1830" y="39"/>
                </a:lnTo>
                <a:lnTo>
                  <a:pt x="1844" y="52"/>
                </a:lnTo>
                <a:lnTo>
                  <a:pt x="1844" y="52"/>
                </a:lnTo>
                <a:lnTo>
                  <a:pt x="1857" y="52"/>
                </a:lnTo>
                <a:lnTo>
                  <a:pt x="1870" y="65"/>
                </a:lnTo>
                <a:lnTo>
                  <a:pt x="1883" y="78"/>
                </a:lnTo>
                <a:lnTo>
                  <a:pt x="1896" y="78"/>
                </a:lnTo>
                <a:lnTo>
                  <a:pt x="1909" y="91"/>
                </a:lnTo>
                <a:lnTo>
                  <a:pt x="1909" y="104"/>
                </a:lnTo>
                <a:lnTo>
                  <a:pt x="1922" y="117"/>
                </a:lnTo>
                <a:lnTo>
                  <a:pt x="1922" y="117"/>
                </a:lnTo>
                <a:lnTo>
                  <a:pt x="1935" y="130"/>
                </a:lnTo>
                <a:lnTo>
                  <a:pt x="1935" y="144"/>
                </a:lnTo>
                <a:lnTo>
                  <a:pt x="1948" y="157"/>
                </a:lnTo>
                <a:lnTo>
                  <a:pt x="1948" y="170"/>
                </a:lnTo>
                <a:lnTo>
                  <a:pt x="1948" y="183"/>
                </a:lnTo>
                <a:lnTo>
                  <a:pt x="1948" y="196"/>
                </a:lnTo>
                <a:lnTo>
                  <a:pt x="1948" y="196"/>
                </a:lnTo>
                <a:lnTo>
                  <a:pt x="1948" y="19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82920" y="3192480"/>
            <a:ext cx="1600200" cy="685800"/>
          </a:xfrm>
          <a:custGeom>
            <a:avLst/>
            <a:gdLst/>
            <a:ahLst/>
            <a:rect l="l" t="t" r="r" b="b"/>
            <a:pathLst>
              <a:path w="1974" h="391">
                <a:moveTo>
                  <a:pt x="1974" y="196"/>
                </a:moveTo>
                <a:lnTo>
                  <a:pt x="1974" y="209"/>
                </a:lnTo>
                <a:lnTo>
                  <a:pt x="1974" y="222"/>
                </a:lnTo>
                <a:lnTo>
                  <a:pt x="1974" y="235"/>
                </a:lnTo>
                <a:lnTo>
                  <a:pt x="1961" y="248"/>
                </a:lnTo>
                <a:lnTo>
                  <a:pt x="1961" y="261"/>
                </a:lnTo>
                <a:lnTo>
                  <a:pt x="1948" y="274"/>
                </a:lnTo>
                <a:lnTo>
                  <a:pt x="1948" y="287"/>
                </a:lnTo>
                <a:lnTo>
                  <a:pt x="1935" y="300"/>
                </a:lnTo>
                <a:lnTo>
                  <a:pt x="1935" y="313"/>
                </a:lnTo>
                <a:lnTo>
                  <a:pt x="1922" y="326"/>
                </a:lnTo>
                <a:lnTo>
                  <a:pt x="1909" y="326"/>
                </a:lnTo>
                <a:lnTo>
                  <a:pt x="1896" y="339"/>
                </a:lnTo>
                <a:lnTo>
                  <a:pt x="1883" y="352"/>
                </a:lnTo>
                <a:lnTo>
                  <a:pt x="1870" y="352"/>
                </a:lnTo>
                <a:lnTo>
                  <a:pt x="1857" y="365"/>
                </a:lnTo>
                <a:lnTo>
                  <a:pt x="1844" y="365"/>
                </a:lnTo>
                <a:lnTo>
                  <a:pt x="1830" y="378"/>
                </a:lnTo>
                <a:lnTo>
                  <a:pt x="1817" y="378"/>
                </a:lnTo>
                <a:lnTo>
                  <a:pt x="1791" y="391"/>
                </a:lnTo>
                <a:lnTo>
                  <a:pt x="1778" y="391"/>
                </a:lnTo>
                <a:lnTo>
                  <a:pt x="1765" y="391"/>
                </a:lnTo>
                <a:lnTo>
                  <a:pt x="1752" y="391"/>
                </a:lnTo>
                <a:lnTo>
                  <a:pt x="1739" y="391"/>
                </a:lnTo>
                <a:lnTo>
                  <a:pt x="236" y="391"/>
                </a:lnTo>
                <a:lnTo>
                  <a:pt x="222" y="391"/>
                </a:lnTo>
                <a:lnTo>
                  <a:pt x="196" y="391"/>
                </a:lnTo>
                <a:lnTo>
                  <a:pt x="183" y="391"/>
                </a:lnTo>
                <a:lnTo>
                  <a:pt x="170" y="378"/>
                </a:lnTo>
                <a:lnTo>
                  <a:pt x="157" y="378"/>
                </a:lnTo>
                <a:lnTo>
                  <a:pt x="144" y="378"/>
                </a:lnTo>
                <a:lnTo>
                  <a:pt x="131" y="365"/>
                </a:lnTo>
                <a:lnTo>
                  <a:pt x="105" y="365"/>
                </a:lnTo>
                <a:lnTo>
                  <a:pt x="92" y="352"/>
                </a:lnTo>
                <a:lnTo>
                  <a:pt x="79" y="339"/>
                </a:lnTo>
                <a:lnTo>
                  <a:pt x="66" y="339"/>
                </a:lnTo>
                <a:lnTo>
                  <a:pt x="66" y="326"/>
                </a:lnTo>
                <a:lnTo>
                  <a:pt x="53" y="313"/>
                </a:lnTo>
                <a:lnTo>
                  <a:pt x="39" y="300"/>
                </a:lnTo>
                <a:lnTo>
                  <a:pt x="26" y="300"/>
                </a:lnTo>
                <a:lnTo>
                  <a:pt x="26" y="287"/>
                </a:lnTo>
                <a:lnTo>
                  <a:pt x="13" y="274"/>
                </a:lnTo>
                <a:lnTo>
                  <a:pt x="13" y="261"/>
                </a:lnTo>
                <a:lnTo>
                  <a:pt x="13" y="248"/>
                </a:lnTo>
                <a:lnTo>
                  <a:pt x="0" y="235"/>
                </a:lnTo>
                <a:lnTo>
                  <a:pt x="0" y="222"/>
                </a:lnTo>
                <a:lnTo>
                  <a:pt x="0" y="209"/>
                </a:lnTo>
                <a:lnTo>
                  <a:pt x="0" y="196"/>
                </a:lnTo>
                <a:lnTo>
                  <a:pt x="0" y="196"/>
                </a:lnTo>
                <a:lnTo>
                  <a:pt x="0" y="183"/>
                </a:lnTo>
                <a:lnTo>
                  <a:pt x="0" y="170"/>
                </a:lnTo>
                <a:lnTo>
                  <a:pt x="0" y="157"/>
                </a:lnTo>
                <a:lnTo>
                  <a:pt x="13" y="144"/>
                </a:lnTo>
                <a:lnTo>
                  <a:pt x="13" y="130"/>
                </a:lnTo>
                <a:lnTo>
                  <a:pt x="26" y="117"/>
                </a:lnTo>
                <a:lnTo>
                  <a:pt x="26" y="104"/>
                </a:lnTo>
                <a:lnTo>
                  <a:pt x="39" y="91"/>
                </a:lnTo>
                <a:lnTo>
                  <a:pt x="39" y="78"/>
                </a:lnTo>
                <a:lnTo>
                  <a:pt x="53" y="65"/>
                </a:lnTo>
                <a:lnTo>
                  <a:pt x="66" y="65"/>
                </a:lnTo>
                <a:lnTo>
                  <a:pt x="79" y="52"/>
                </a:lnTo>
                <a:lnTo>
                  <a:pt x="92" y="39"/>
                </a:lnTo>
                <a:lnTo>
                  <a:pt x="105" y="39"/>
                </a:lnTo>
                <a:lnTo>
                  <a:pt x="118" y="26"/>
                </a:lnTo>
                <a:lnTo>
                  <a:pt x="131" y="26"/>
                </a:lnTo>
                <a:lnTo>
                  <a:pt x="144" y="13"/>
                </a:lnTo>
                <a:lnTo>
                  <a:pt x="157" y="13"/>
                </a:lnTo>
                <a:lnTo>
                  <a:pt x="183" y="0"/>
                </a:lnTo>
                <a:lnTo>
                  <a:pt x="196" y="0"/>
                </a:lnTo>
                <a:lnTo>
                  <a:pt x="209" y="0"/>
                </a:lnTo>
                <a:lnTo>
                  <a:pt x="222" y="0"/>
                </a:lnTo>
                <a:lnTo>
                  <a:pt x="236" y="0"/>
                </a:lnTo>
                <a:lnTo>
                  <a:pt x="1739" y="0"/>
                </a:lnTo>
                <a:lnTo>
                  <a:pt x="1752" y="0"/>
                </a:lnTo>
                <a:lnTo>
                  <a:pt x="1778" y="0"/>
                </a:lnTo>
                <a:lnTo>
                  <a:pt x="1791" y="0"/>
                </a:lnTo>
                <a:lnTo>
                  <a:pt x="1804" y="13"/>
                </a:lnTo>
                <a:lnTo>
                  <a:pt x="1817" y="13"/>
                </a:lnTo>
                <a:lnTo>
                  <a:pt x="1830" y="13"/>
                </a:lnTo>
                <a:lnTo>
                  <a:pt x="1844" y="26"/>
                </a:lnTo>
                <a:lnTo>
                  <a:pt x="1870" y="26"/>
                </a:lnTo>
                <a:lnTo>
                  <a:pt x="1883" y="39"/>
                </a:lnTo>
                <a:lnTo>
                  <a:pt x="1896" y="52"/>
                </a:lnTo>
                <a:lnTo>
                  <a:pt x="1909" y="52"/>
                </a:lnTo>
                <a:lnTo>
                  <a:pt x="1909" y="65"/>
                </a:lnTo>
                <a:lnTo>
                  <a:pt x="1922" y="78"/>
                </a:lnTo>
                <a:lnTo>
                  <a:pt x="1935" y="91"/>
                </a:lnTo>
                <a:lnTo>
                  <a:pt x="1948" y="104"/>
                </a:lnTo>
                <a:lnTo>
                  <a:pt x="1948" y="104"/>
                </a:lnTo>
                <a:lnTo>
                  <a:pt x="1961" y="117"/>
                </a:lnTo>
                <a:lnTo>
                  <a:pt x="1961" y="130"/>
                </a:lnTo>
                <a:lnTo>
                  <a:pt x="1961" y="144"/>
                </a:lnTo>
                <a:lnTo>
                  <a:pt x="1974" y="157"/>
                </a:lnTo>
                <a:lnTo>
                  <a:pt x="1974" y="170"/>
                </a:lnTo>
                <a:lnTo>
                  <a:pt x="1974" y="183"/>
                </a:lnTo>
                <a:lnTo>
                  <a:pt x="1974" y="196"/>
                </a:lnTo>
                <a:lnTo>
                  <a:pt x="1974" y="196"/>
                </a:lnTo>
                <a:close/>
                <a:moveTo>
                  <a:pt x="1948" y="196"/>
                </a:moveTo>
                <a:lnTo>
                  <a:pt x="1948" y="209"/>
                </a:lnTo>
                <a:lnTo>
                  <a:pt x="1948" y="222"/>
                </a:lnTo>
                <a:lnTo>
                  <a:pt x="1948" y="235"/>
                </a:lnTo>
                <a:lnTo>
                  <a:pt x="1935" y="248"/>
                </a:lnTo>
                <a:lnTo>
                  <a:pt x="1935" y="248"/>
                </a:lnTo>
                <a:lnTo>
                  <a:pt x="1935" y="261"/>
                </a:lnTo>
                <a:lnTo>
                  <a:pt x="1922" y="274"/>
                </a:lnTo>
                <a:lnTo>
                  <a:pt x="1922" y="287"/>
                </a:lnTo>
                <a:lnTo>
                  <a:pt x="1909" y="300"/>
                </a:lnTo>
                <a:lnTo>
                  <a:pt x="1896" y="300"/>
                </a:lnTo>
                <a:lnTo>
                  <a:pt x="1896" y="313"/>
                </a:lnTo>
                <a:lnTo>
                  <a:pt x="1883" y="326"/>
                </a:lnTo>
                <a:lnTo>
                  <a:pt x="1870" y="326"/>
                </a:lnTo>
                <a:lnTo>
                  <a:pt x="1857" y="339"/>
                </a:lnTo>
                <a:lnTo>
                  <a:pt x="1844" y="339"/>
                </a:lnTo>
                <a:lnTo>
                  <a:pt x="1830" y="352"/>
                </a:lnTo>
                <a:lnTo>
                  <a:pt x="1817" y="352"/>
                </a:lnTo>
                <a:lnTo>
                  <a:pt x="1804" y="352"/>
                </a:lnTo>
                <a:lnTo>
                  <a:pt x="1791" y="365"/>
                </a:lnTo>
                <a:lnTo>
                  <a:pt x="1778" y="365"/>
                </a:lnTo>
                <a:lnTo>
                  <a:pt x="1765" y="365"/>
                </a:lnTo>
                <a:lnTo>
                  <a:pt x="1752" y="365"/>
                </a:lnTo>
                <a:lnTo>
                  <a:pt x="1739" y="365"/>
                </a:lnTo>
                <a:lnTo>
                  <a:pt x="236" y="365"/>
                </a:lnTo>
                <a:lnTo>
                  <a:pt x="222" y="365"/>
                </a:lnTo>
                <a:lnTo>
                  <a:pt x="209" y="365"/>
                </a:lnTo>
                <a:lnTo>
                  <a:pt x="196" y="365"/>
                </a:lnTo>
                <a:lnTo>
                  <a:pt x="183" y="352"/>
                </a:lnTo>
                <a:lnTo>
                  <a:pt x="170" y="352"/>
                </a:lnTo>
                <a:lnTo>
                  <a:pt x="144" y="352"/>
                </a:lnTo>
                <a:lnTo>
                  <a:pt x="131" y="339"/>
                </a:lnTo>
                <a:lnTo>
                  <a:pt x="131" y="339"/>
                </a:lnTo>
                <a:lnTo>
                  <a:pt x="118" y="339"/>
                </a:lnTo>
                <a:lnTo>
                  <a:pt x="105" y="326"/>
                </a:lnTo>
                <a:lnTo>
                  <a:pt x="92" y="313"/>
                </a:lnTo>
                <a:lnTo>
                  <a:pt x="79" y="313"/>
                </a:lnTo>
                <a:lnTo>
                  <a:pt x="66" y="300"/>
                </a:lnTo>
                <a:lnTo>
                  <a:pt x="66" y="287"/>
                </a:lnTo>
                <a:lnTo>
                  <a:pt x="53" y="287"/>
                </a:lnTo>
                <a:lnTo>
                  <a:pt x="53" y="274"/>
                </a:lnTo>
                <a:lnTo>
                  <a:pt x="39" y="261"/>
                </a:lnTo>
                <a:lnTo>
                  <a:pt x="39" y="248"/>
                </a:lnTo>
                <a:lnTo>
                  <a:pt x="26" y="235"/>
                </a:lnTo>
                <a:lnTo>
                  <a:pt x="26" y="222"/>
                </a:lnTo>
                <a:lnTo>
                  <a:pt x="26" y="209"/>
                </a:lnTo>
                <a:lnTo>
                  <a:pt x="26" y="196"/>
                </a:lnTo>
                <a:lnTo>
                  <a:pt x="26" y="196"/>
                </a:lnTo>
                <a:lnTo>
                  <a:pt x="26" y="196"/>
                </a:lnTo>
                <a:lnTo>
                  <a:pt x="26" y="183"/>
                </a:lnTo>
                <a:lnTo>
                  <a:pt x="26" y="170"/>
                </a:lnTo>
                <a:lnTo>
                  <a:pt x="26" y="157"/>
                </a:lnTo>
                <a:lnTo>
                  <a:pt x="39" y="144"/>
                </a:lnTo>
                <a:lnTo>
                  <a:pt x="39" y="144"/>
                </a:lnTo>
                <a:lnTo>
                  <a:pt x="39" y="130"/>
                </a:lnTo>
                <a:lnTo>
                  <a:pt x="53" y="117"/>
                </a:lnTo>
                <a:lnTo>
                  <a:pt x="53" y="104"/>
                </a:lnTo>
                <a:lnTo>
                  <a:pt x="66" y="91"/>
                </a:lnTo>
                <a:lnTo>
                  <a:pt x="79" y="91"/>
                </a:lnTo>
                <a:lnTo>
                  <a:pt x="79" y="78"/>
                </a:lnTo>
                <a:lnTo>
                  <a:pt x="92" y="65"/>
                </a:lnTo>
                <a:lnTo>
                  <a:pt x="105" y="65"/>
                </a:lnTo>
                <a:lnTo>
                  <a:pt x="118" y="52"/>
                </a:lnTo>
                <a:lnTo>
                  <a:pt x="131" y="52"/>
                </a:lnTo>
                <a:lnTo>
                  <a:pt x="144" y="39"/>
                </a:lnTo>
                <a:lnTo>
                  <a:pt x="157" y="39"/>
                </a:lnTo>
                <a:lnTo>
                  <a:pt x="170" y="39"/>
                </a:lnTo>
                <a:lnTo>
                  <a:pt x="183" y="26"/>
                </a:lnTo>
                <a:lnTo>
                  <a:pt x="196" y="26"/>
                </a:lnTo>
                <a:lnTo>
                  <a:pt x="209" y="26"/>
                </a:lnTo>
                <a:lnTo>
                  <a:pt x="222" y="26"/>
                </a:lnTo>
                <a:lnTo>
                  <a:pt x="236" y="26"/>
                </a:lnTo>
                <a:lnTo>
                  <a:pt x="1739" y="26"/>
                </a:lnTo>
                <a:lnTo>
                  <a:pt x="1752" y="26"/>
                </a:lnTo>
                <a:lnTo>
                  <a:pt x="1765" y="26"/>
                </a:lnTo>
                <a:lnTo>
                  <a:pt x="1778" y="26"/>
                </a:lnTo>
                <a:lnTo>
                  <a:pt x="1791" y="39"/>
                </a:lnTo>
                <a:lnTo>
                  <a:pt x="1804" y="39"/>
                </a:lnTo>
                <a:lnTo>
                  <a:pt x="1830" y="39"/>
                </a:lnTo>
                <a:lnTo>
                  <a:pt x="1844" y="52"/>
                </a:lnTo>
                <a:lnTo>
                  <a:pt x="1844" y="52"/>
                </a:lnTo>
                <a:lnTo>
                  <a:pt x="1857" y="52"/>
                </a:lnTo>
                <a:lnTo>
                  <a:pt x="1870" y="65"/>
                </a:lnTo>
                <a:lnTo>
                  <a:pt x="1883" y="78"/>
                </a:lnTo>
                <a:lnTo>
                  <a:pt x="1896" y="78"/>
                </a:lnTo>
                <a:lnTo>
                  <a:pt x="1909" y="91"/>
                </a:lnTo>
                <a:lnTo>
                  <a:pt x="1909" y="104"/>
                </a:lnTo>
                <a:lnTo>
                  <a:pt x="1922" y="117"/>
                </a:lnTo>
                <a:lnTo>
                  <a:pt x="1922" y="117"/>
                </a:lnTo>
                <a:lnTo>
                  <a:pt x="1935" y="130"/>
                </a:lnTo>
                <a:lnTo>
                  <a:pt x="1935" y="144"/>
                </a:lnTo>
                <a:lnTo>
                  <a:pt x="1948" y="157"/>
                </a:lnTo>
                <a:lnTo>
                  <a:pt x="1948" y="170"/>
                </a:lnTo>
                <a:lnTo>
                  <a:pt x="1948" y="183"/>
                </a:lnTo>
                <a:lnTo>
                  <a:pt x="1948" y="196"/>
                </a:lnTo>
                <a:lnTo>
                  <a:pt x="1948" y="196"/>
                </a:lnTo>
                <a:lnTo>
                  <a:pt x="1948" y="19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6324480" y="5105520"/>
            <a:ext cx="2438280" cy="683640"/>
            <a:chOff x="6324480" y="5105520"/>
            <a:chExt cx="2438280" cy="683640"/>
          </a:xfrm>
        </p:grpSpPr>
        <p:sp>
          <p:nvSpPr>
            <p:cNvPr id="950" name=""/>
            <p:cNvSpPr/>
            <p:nvPr/>
          </p:nvSpPr>
          <p:spPr>
            <a:xfrm>
              <a:off x="6324480" y="5105520"/>
              <a:ext cx="2438280" cy="410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324480" y="5146560"/>
              <a:ext cx="49680" cy="6012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24480" y="5748120"/>
              <a:ext cx="2438280" cy="410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714880" y="5146560"/>
              <a:ext cx="47880" cy="6012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7771680" y="53150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580160" y="5900760"/>
            <a:ext cx="15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457320" y="5286240"/>
            <a:ext cx="43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5924160" y="1676520"/>
            <a:ext cx="3219840" cy="713520"/>
            <a:chOff x="5924160" y="1676520"/>
            <a:chExt cx="3219840" cy="713520"/>
          </a:xfrm>
        </p:grpSpPr>
        <p:grpSp>
          <p:nvGrpSpPr>
            <p:cNvPr id="958" name=""/>
            <p:cNvGrpSpPr/>
            <p:nvPr/>
          </p:nvGrpSpPr>
          <p:grpSpPr>
            <a:xfrm>
              <a:off x="5924160" y="1676520"/>
              <a:ext cx="3219840" cy="713520"/>
              <a:chOff x="5924160" y="1676520"/>
              <a:chExt cx="3219840" cy="713520"/>
            </a:xfrm>
          </p:grpSpPr>
          <p:sp>
            <p:nvSpPr>
              <p:cNvPr id="959" name=""/>
              <p:cNvSpPr/>
              <p:nvPr/>
            </p:nvSpPr>
            <p:spPr>
              <a:xfrm>
                <a:off x="5924160" y="1749600"/>
                <a:ext cx="6181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L=  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86600" y="1749600"/>
                <a:ext cx="17136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+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96400" y="1749600"/>
                <a:ext cx="17136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+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2" name=""/>
              <p:cNvGrpSpPr/>
              <p:nvPr/>
            </p:nvGrpSpPr>
            <p:grpSpPr>
              <a:xfrm>
                <a:off x="6229440" y="1676520"/>
                <a:ext cx="837720" cy="713520"/>
                <a:chOff x="6229440" y="1676520"/>
                <a:chExt cx="837720" cy="7135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6229440" y="1749600"/>
                  <a:ext cx="83772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(a.b.c)  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322680" y="1676520"/>
                  <a:ext cx="9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0320" y="1676520"/>
                  <a:ext cx="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6729480" y="1676520"/>
                  <a:ext cx="9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257960" y="1676520"/>
                <a:ext cx="838080" cy="713520"/>
                <a:chOff x="7257960" y="1676520"/>
                <a:chExt cx="838080" cy="71352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257960" y="1749600"/>
                  <a:ext cx="83808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100" spc="-1" strike="noStrike">
                      <a:solidFill>
                        <a:srgbClr val="000000"/>
                      </a:solidFill>
                      <a:latin typeface="Arial"/>
                    </a:rPr>
                    <a:t>(a.b.c)   </a:t>
                  </a:r>
                  <a:endParaRPr b="0" lang="en-US" sz="2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7350120" y="1676520"/>
                  <a:ext cx="93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37320" y="1676520"/>
                  <a:ext cx="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8305920" y="1749600"/>
                <a:ext cx="83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(a.b.c)  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 flipH="1">
              <a:off x="8445240" y="1738440"/>
              <a:ext cx="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200640" y="1523880"/>
            <a:ext cx="8384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229520" y="1552680"/>
            <a:ext cx="8380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277120" y="1571760"/>
            <a:ext cx="8384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086560" y="3106800"/>
            <a:ext cx="423000" cy="360000"/>
            <a:chOff x="2086560" y="3106800"/>
            <a:chExt cx="423000" cy="360000"/>
          </a:xfrm>
        </p:grpSpPr>
        <p:sp>
          <p:nvSpPr>
            <p:cNvPr id="977" name=""/>
            <p:cNvSpPr/>
            <p:nvPr/>
          </p:nvSpPr>
          <p:spPr>
            <a:xfrm>
              <a:off x="2086560" y="311616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a.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87640" y="3116160"/>
              <a:ext cx="151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44320" y="310680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5972400" y="3344760"/>
            <a:ext cx="407520" cy="350640"/>
            <a:chOff x="5972400" y="3344760"/>
            <a:chExt cx="407520" cy="350640"/>
          </a:xfrm>
        </p:grpSpPr>
        <p:sp>
          <p:nvSpPr>
            <p:cNvPr id="981" name=""/>
            <p:cNvSpPr/>
            <p:nvPr/>
          </p:nvSpPr>
          <p:spPr>
            <a:xfrm>
              <a:off x="5972400" y="33447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Arial"/>
                </a:rPr>
                <a:t>a.c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73840" y="3344760"/>
              <a:ext cx="1522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989400" y="5257800"/>
            <a:ext cx="618120" cy="369360"/>
            <a:chOff x="6989400" y="5257800"/>
            <a:chExt cx="618120" cy="369360"/>
          </a:xfrm>
        </p:grpSpPr>
        <p:sp>
          <p:nvSpPr>
            <p:cNvPr id="984" name=""/>
            <p:cNvSpPr/>
            <p:nvPr/>
          </p:nvSpPr>
          <p:spPr>
            <a:xfrm>
              <a:off x="6989400" y="5276520"/>
              <a:ext cx="618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(a.b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86600" y="526716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3360" y="525780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8027640" y="5276880"/>
            <a:ext cx="602640" cy="350640"/>
            <a:chOff x="8027640" y="5276880"/>
            <a:chExt cx="602640" cy="350640"/>
          </a:xfrm>
        </p:grpSpPr>
        <p:sp>
          <p:nvSpPr>
            <p:cNvPr id="988" name=""/>
            <p:cNvSpPr/>
            <p:nvPr/>
          </p:nvSpPr>
          <p:spPr>
            <a:xfrm>
              <a:off x="8027640" y="5276880"/>
              <a:ext cx="60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Arial"/>
                </a:rPr>
                <a:t>(a.c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134200" y="5295600"/>
              <a:ext cx="1522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324480" y="5943600"/>
            <a:ext cx="2285640" cy="685440"/>
            <a:chOff x="6324480" y="5943600"/>
            <a:chExt cx="2285640" cy="685440"/>
          </a:xfrm>
        </p:grpSpPr>
        <p:sp>
          <p:nvSpPr>
            <p:cNvPr id="991" name=""/>
            <p:cNvSpPr/>
            <p:nvPr/>
          </p:nvSpPr>
          <p:spPr>
            <a:xfrm>
              <a:off x="6324480" y="5943600"/>
              <a:ext cx="2285640" cy="414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24480" y="5985000"/>
              <a:ext cx="46440" cy="6026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24480" y="6587640"/>
              <a:ext cx="2285640" cy="414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565120" y="5985000"/>
              <a:ext cx="45000" cy="60264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552360" y="6134040"/>
            <a:ext cx="43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464240" y="60897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7095960" y="6076800"/>
            <a:ext cx="172800" cy="388800"/>
            <a:chOff x="7095960" y="6076800"/>
            <a:chExt cx="172800" cy="388800"/>
          </a:xfrm>
        </p:grpSpPr>
        <p:sp>
          <p:nvSpPr>
            <p:cNvPr id="998" name=""/>
            <p:cNvSpPr/>
            <p:nvPr/>
          </p:nvSpPr>
          <p:spPr>
            <a:xfrm>
              <a:off x="7104960" y="611496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95960" y="607680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693920" y="6086520"/>
            <a:ext cx="707760" cy="398160"/>
            <a:chOff x="7693920" y="6086520"/>
            <a:chExt cx="707760" cy="398160"/>
          </a:xfrm>
        </p:grpSpPr>
        <p:sp>
          <p:nvSpPr>
            <p:cNvPr id="1001" name=""/>
            <p:cNvSpPr/>
            <p:nvPr/>
          </p:nvSpPr>
          <p:spPr>
            <a:xfrm>
              <a:off x="7693920" y="6134040"/>
              <a:ext cx="707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Arial"/>
                </a:rPr>
                <a:t>(b+c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91480" y="6086520"/>
              <a:ext cx="1522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7238880" y="3181320"/>
            <a:ext cx="45720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221240" y="3105000"/>
            <a:ext cx="473400" cy="343800"/>
            <a:chOff x="7221240" y="3105000"/>
            <a:chExt cx="473400" cy="343800"/>
          </a:xfrm>
        </p:grpSpPr>
        <p:sp>
          <p:nvSpPr>
            <p:cNvPr id="1005" name=""/>
            <p:cNvSpPr/>
            <p:nvPr/>
          </p:nvSpPr>
          <p:spPr>
            <a:xfrm>
              <a:off x="7221240" y="3105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11680" y="311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849800" y="3048120"/>
            <a:ext cx="282960" cy="508680"/>
            <a:chOff x="7849800" y="3048120"/>
            <a:chExt cx="282960" cy="508680"/>
          </a:xfrm>
        </p:grpSpPr>
        <p:sp>
          <p:nvSpPr>
            <p:cNvPr id="1008" name=""/>
            <p:cNvSpPr/>
            <p:nvPr/>
          </p:nvSpPr>
          <p:spPr>
            <a:xfrm>
              <a:off x="7849800" y="3048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849800" y="321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688080" y="3924360"/>
            <a:ext cx="806760" cy="337320"/>
            <a:chOff x="6688080" y="3924360"/>
            <a:chExt cx="806760" cy="337320"/>
          </a:xfrm>
        </p:grpSpPr>
        <p:sp>
          <p:nvSpPr>
            <p:cNvPr id="1011" name=""/>
            <p:cNvSpPr/>
            <p:nvPr/>
          </p:nvSpPr>
          <p:spPr>
            <a:xfrm>
              <a:off x="6688080" y="3924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59440" y="3924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40160" y="3924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11880" y="3924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669080" y="3648240"/>
            <a:ext cx="292320" cy="908640"/>
            <a:chOff x="7669080" y="3648240"/>
            <a:chExt cx="292320" cy="908640"/>
          </a:xfrm>
        </p:grpSpPr>
        <p:sp>
          <p:nvSpPr>
            <p:cNvPr id="1016" name=""/>
            <p:cNvSpPr/>
            <p:nvPr/>
          </p:nvSpPr>
          <p:spPr>
            <a:xfrm>
              <a:off x="7678440" y="3648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69080" y="3848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69080" y="4048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69080" y="4219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8259480" y="3819600"/>
            <a:ext cx="492480" cy="556200"/>
            <a:chOff x="8259480" y="3819600"/>
            <a:chExt cx="492480" cy="556200"/>
          </a:xfrm>
        </p:grpSpPr>
        <p:sp>
          <p:nvSpPr>
            <p:cNvPr id="1021" name=""/>
            <p:cNvSpPr/>
            <p:nvPr/>
          </p:nvSpPr>
          <p:spPr>
            <a:xfrm>
              <a:off x="8269200" y="3819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25948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69000" y="3819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45964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6705720" y="4010040"/>
            <a:ext cx="78084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886880" y="3095640"/>
            <a:ext cx="209520" cy="44784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447840"/>
              <a:gd name="textAreaBottom" fmla="*/ 437760 h 447840"/>
            </a:gdLst>
            <a:ahLst/>
            <a:rect l="textAreaLeft" t="textAreaTop" r="textAreaRight" b="textAreaBottom"/>
            <a:pathLst>
              <a:path w="21600" h="46127">
                <a:moveTo>
                  <a:pt x="3600" y="0"/>
                </a:moveTo>
                <a:arcTo wR="3600" hR="3600" stAng="16200000" swAng="-5400000"/>
                <a:lnTo>
                  <a:pt x="0" y="42527"/>
                </a:lnTo>
                <a:arcTo wR="3600" hR="3600" stAng="10800000" swAng="-5400000"/>
                <a:lnTo>
                  <a:pt x="18000" y="461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686720" y="3724200"/>
            <a:ext cx="257040" cy="8287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828720"/>
              <a:gd name="textAreaBottom" fmla="*/ 816480 h 828720"/>
            </a:gdLst>
            <a:ahLst/>
            <a:rect l="textAreaLeft" t="textAreaTop" r="textAreaRight" b="textAreaBottom"/>
            <a:pathLst>
              <a:path w="21600" h="69573">
                <a:moveTo>
                  <a:pt x="3600" y="0"/>
                </a:moveTo>
                <a:arcTo wR="3600" hR="3600" stAng="16200000" swAng="-5400000"/>
                <a:lnTo>
                  <a:pt x="0" y="65973"/>
                </a:lnTo>
                <a:arcTo wR="3600" hR="3600" stAng="10800000" swAng="-5400000"/>
                <a:lnTo>
                  <a:pt x="18000" y="69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77120" y="3886200"/>
            <a:ext cx="457200" cy="4856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485640"/>
              <a:gd name="textAreaBottom" fmla="*/ 463320 h 485640"/>
            </a:gdLst>
            <a:ahLst/>
            <a:rect l="textAreaLeft" t="textAreaTop" r="textAreaRight" b="textAreaBottom"/>
            <a:pathLst>
              <a:path w="21600" h="22943">
                <a:moveTo>
                  <a:pt x="3600" y="0"/>
                </a:moveTo>
                <a:arcTo wR="3600" hR="3600" stAng="16200000" swAng="-5400000"/>
                <a:lnTo>
                  <a:pt x="0" y="19343"/>
                </a:lnTo>
                <a:arcTo wR="3600" hR="3600" stAng="10800000" swAng="-5400000"/>
                <a:lnTo>
                  <a:pt x="18000" y="22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1239840" y="1341360"/>
            <a:ext cx="376200" cy="444600"/>
            <a:chOff x="1239840" y="1341360"/>
            <a:chExt cx="376200" cy="444600"/>
          </a:xfrm>
        </p:grpSpPr>
        <p:sp>
          <p:nvSpPr>
            <p:cNvPr id="1030" name=""/>
            <p:cNvSpPr/>
            <p:nvPr/>
          </p:nvSpPr>
          <p:spPr>
            <a:xfrm>
              <a:off x="1239840" y="1579680"/>
              <a:ext cx="376200" cy="206280"/>
            </a:xfrm>
            <a:custGeom>
              <a:avLst/>
              <a:gdLst/>
              <a:ahLst/>
              <a:rect l="l" t="t" r="r" b="b"/>
              <a:pathLst>
                <a:path w="237" h="130">
                  <a:moveTo>
                    <a:pt x="218" y="0"/>
                  </a:moveTo>
                  <a:lnTo>
                    <a:pt x="237" y="0"/>
                  </a:lnTo>
                  <a:lnTo>
                    <a:pt x="237" y="20"/>
                  </a:lnTo>
                  <a:lnTo>
                    <a:pt x="20" y="130"/>
                  </a:lnTo>
                  <a:lnTo>
                    <a:pt x="0" y="130"/>
                  </a:lnTo>
                  <a:lnTo>
                    <a:pt x="0" y="110"/>
                  </a:lnTo>
                  <a:lnTo>
                    <a:pt x="218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48920" y="1341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1239840" y="1928880"/>
            <a:ext cx="376200" cy="396720"/>
            <a:chOff x="1239840" y="1928880"/>
            <a:chExt cx="376200" cy="396720"/>
          </a:xfrm>
        </p:grpSpPr>
        <p:sp>
          <p:nvSpPr>
            <p:cNvPr id="1033" name=""/>
            <p:cNvSpPr/>
            <p:nvPr/>
          </p:nvSpPr>
          <p:spPr>
            <a:xfrm>
              <a:off x="1239840" y="2119320"/>
              <a:ext cx="376200" cy="206280"/>
            </a:xfrm>
            <a:custGeom>
              <a:avLst/>
              <a:gdLst/>
              <a:ahLst/>
              <a:rect l="l" t="t" r="r" b="b"/>
              <a:pathLst>
                <a:path w="237" h="130">
                  <a:moveTo>
                    <a:pt x="218" y="0"/>
                  </a:moveTo>
                  <a:lnTo>
                    <a:pt x="237" y="0"/>
                  </a:lnTo>
                  <a:lnTo>
                    <a:pt x="237" y="20"/>
                  </a:lnTo>
                  <a:lnTo>
                    <a:pt x="20" y="130"/>
                  </a:lnTo>
                  <a:lnTo>
                    <a:pt x="0" y="130"/>
                  </a:lnTo>
                  <a:lnTo>
                    <a:pt x="0" y="110"/>
                  </a:lnTo>
                  <a:lnTo>
                    <a:pt x="218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48920" y="19288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1239840" y="2451240"/>
            <a:ext cx="376200" cy="412560"/>
            <a:chOff x="1239840" y="2451240"/>
            <a:chExt cx="376200" cy="412560"/>
          </a:xfrm>
        </p:grpSpPr>
        <p:sp>
          <p:nvSpPr>
            <p:cNvPr id="1036" name=""/>
            <p:cNvSpPr/>
            <p:nvPr/>
          </p:nvSpPr>
          <p:spPr>
            <a:xfrm>
              <a:off x="1239840" y="2657520"/>
              <a:ext cx="376200" cy="206280"/>
            </a:xfrm>
            <a:custGeom>
              <a:avLst/>
              <a:gdLst/>
              <a:ahLst/>
              <a:rect l="l" t="t" r="r" b="b"/>
              <a:pathLst>
                <a:path w="237" h="130">
                  <a:moveTo>
                    <a:pt x="218" y="0"/>
                  </a:moveTo>
                  <a:lnTo>
                    <a:pt x="237" y="0"/>
                  </a:lnTo>
                  <a:lnTo>
                    <a:pt x="237" y="20"/>
                  </a:lnTo>
                  <a:lnTo>
                    <a:pt x="20" y="130"/>
                  </a:lnTo>
                  <a:lnTo>
                    <a:pt x="0" y="130"/>
                  </a:lnTo>
                  <a:lnTo>
                    <a:pt x="0" y="110"/>
                  </a:lnTo>
                  <a:lnTo>
                    <a:pt x="218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48920" y="2451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670720" y="1484280"/>
            <a:ext cx="519120" cy="762120"/>
            <a:chOff x="5670720" y="1484280"/>
            <a:chExt cx="519120" cy="762120"/>
          </a:xfrm>
        </p:grpSpPr>
        <p:sp>
          <p:nvSpPr>
            <p:cNvPr id="1039" name=""/>
            <p:cNvSpPr/>
            <p:nvPr/>
          </p:nvSpPr>
          <p:spPr>
            <a:xfrm>
              <a:off x="5670720" y="1722600"/>
              <a:ext cx="519120" cy="523800"/>
            </a:xfrm>
            <a:custGeom>
              <a:avLst/>
              <a:gdLst/>
              <a:ahLst/>
              <a:rect l="l" t="t" r="r" b="b"/>
              <a:pathLst>
                <a:path w="327" h="330">
                  <a:moveTo>
                    <a:pt x="169" y="0"/>
                  </a:moveTo>
                  <a:lnTo>
                    <a:pt x="178" y="0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08" y="10"/>
                  </a:lnTo>
                  <a:lnTo>
                    <a:pt x="218" y="10"/>
                  </a:lnTo>
                  <a:lnTo>
                    <a:pt x="228" y="10"/>
                  </a:lnTo>
                  <a:lnTo>
                    <a:pt x="238" y="20"/>
                  </a:lnTo>
                  <a:lnTo>
                    <a:pt x="248" y="30"/>
                  </a:lnTo>
                  <a:lnTo>
                    <a:pt x="258" y="30"/>
                  </a:lnTo>
                  <a:lnTo>
                    <a:pt x="268" y="40"/>
                  </a:lnTo>
                  <a:lnTo>
                    <a:pt x="277" y="50"/>
                  </a:lnTo>
                  <a:lnTo>
                    <a:pt x="287" y="50"/>
                  </a:lnTo>
                  <a:lnTo>
                    <a:pt x="297" y="60"/>
                  </a:lnTo>
                  <a:lnTo>
                    <a:pt x="297" y="70"/>
                  </a:lnTo>
                  <a:lnTo>
                    <a:pt x="307" y="80"/>
                  </a:lnTo>
                  <a:lnTo>
                    <a:pt x="307" y="90"/>
                  </a:lnTo>
                  <a:lnTo>
                    <a:pt x="317" y="100"/>
                  </a:lnTo>
                  <a:lnTo>
                    <a:pt x="317" y="110"/>
                  </a:lnTo>
                  <a:lnTo>
                    <a:pt x="327" y="130"/>
                  </a:lnTo>
                  <a:lnTo>
                    <a:pt x="327" y="140"/>
                  </a:lnTo>
                  <a:lnTo>
                    <a:pt x="327" y="150"/>
                  </a:lnTo>
                  <a:lnTo>
                    <a:pt x="327" y="160"/>
                  </a:lnTo>
                  <a:lnTo>
                    <a:pt x="327" y="170"/>
                  </a:lnTo>
                  <a:lnTo>
                    <a:pt x="327" y="180"/>
                  </a:lnTo>
                  <a:lnTo>
                    <a:pt x="327" y="190"/>
                  </a:lnTo>
                  <a:lnTo>
                    <a:pt x="327" y="200"/>
                  </a:lnTo>
                  <a:lnTo>
                    <a:pt x="317" y="220"/>
                  </a:lnTo>
                  <a:lnTo>
                    <a:pt x="317" y="230"/>
                  </a:lnTo>
                  <a:lnTo>
                    <a:pt x="307" y="240"/>
                  </a:lnTo>
                  <a:lnTo>
                    <a:pt x="307" y="250"/>
                  </a:lnTo>
                  <a:lnTo>
                    <a:pt x="297" y="260"/>
                  </a:lnTo>
                  <a:lnTo>
                    <a:pt x="297" y="270"/>
                  </a:lnTo>
                  <a:lnTo>
                    <a:pt x="287" y="280"/>
                  </a:lnTo>
                  <a:lnTo>
                    <a:pt x="277" y="280"/>
                  </a:lnTo>
                  <a:lnTo>
                    <a:pt x="268" y="290"/>
                  </a:lnTo>
                  <a:lnTo>
                    <a:pt x="258" y="300"/>
                  </a:lnTo>
                  <a:lnTo>
                    <a:pt x="248" y="300"/>
                  </a:lnTo>
                  <a:lnTo>
                    <a:pt x="238" y="310"/>
                  </a:lnTo>
                  <a:lnTo>
                    <a:pt x="228" y="320"/>
                  </a:lnTo>
                  <a:lnTo>
                    <a:pt x="218" y="320"/>
                  </a:lnTo>
                  <a:lnTo>
                    <a:pt x="208" y="320"/>
                  </a:lnTo>
                  <a:lnTo>
                    <a:pt x="198" y="330"/>
                  </a:lnTo>
                  <a:lnTo>
                    <a:pt x="188" y="330"/>
                  </a:lnTo>
                  <a:lnTo>
                    <a:pt x="178" y="330"/>
                  </a:lnTo>
                  <a:lnTo>
                    <a:pt x="169" y="330"/>
                  </a:lnTo>
                  <a:lnTo>
                    <a:pt x="149" y="330"/>
                  </a:lnTo>
                  <a:lnTo>
                    <a:pt x="139" y="330"/>
                  </a:lnTo>
                  <a:lnTo>
                    <a:pt x="129" y="330"/>
                  </a:lnTo>
                  <a:lnTo>
                    <a:pt x="119" y="320"/>
                  </a:lnTo>
                  <a:lnTo>
                    <a:pt x="109" y="320"/>
                  </a:lnTo>
                  <a:lnTo>
                    <a:pt x="99" y="320"/>
                  </a:lnTo>
                  <a:lnTo>
                    <a:pt x="89" y="310"/>
                  </a:lnTo>
                  <a:lnTo>
                    <a:pt x="79" y="300"/>
                  </a:lnTo>
                  <a:lnTo>
                    <a:pt x="70" y="300"/>
                  </a:lnTo>
                  <a:lnTo>
                    <a:pt x="60" y="290"/>
                  </a:lnTo>
                  <a:lnTo>
                    <a:pt x="50" y="280"/>
                  </a:lnTo>
                  <a:lnTo>
                    <a:pt x="40" y="280"/>
                  </a:lnTo>
                  <a:lnTo>
                    <a:pt x="30" y="270"/>
                  </a:lnTo>
                  <a:lnTo>
                    <a:pt x="30" y="260"/>
                  </a:lnTo>
                  <a:lnTo>
                    <a:pt x="20" y="250"/>
                  </a:lnTo>
                  <a:lnTo>
                    <a:pt x="20" y="240"/>
                  </a:lnTo>
                  <a:lnTo>
                    <a:pt x="10" y="230"/>
                  </a:lnTo>
                  <a:lnTo>
                    <a:pt x="10" y="220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10" y="110"/>
                  </a:lnTo>
                  <a:lnTo>
                    <a:pt x="10" y="100"/>
                  </a:lnTo>
                  <a:lnTo>
                    <a:pt x="20" y="90"/>
                  </a:lnTo>
                  <a:lnTo>
                    <a:pt x="20" y="80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50" y="50"/>
                  </a:lnTo>
                  <a:lnTo>
                    <a:pt x="60" y="40"/>
                  </a:lnTo>
                  <a:lnTo>
                    <a:pt x="70" y="30"/>
                  </a:lnTo>
                  <a:lnTo>
                    <a:pt x="79" y="30"/>
                  </a:lnTo>
                  <a:lnTo>
                    <a:pt x="89" y="20"/>
                  </a:lnTo>
                  <a:lnTo>
                    <a:pt x="99" y="10"/>
                  </a:lnTo>
                  <a:lnTo>
                    <a:pt x="109" y="10"/>
                  </a:lnTo>
                  <a:lnTo>
                    <a:pt x="119" y="1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49" y="0"/>
                  </a:lnTo>
                  <a:lnTo>
                    <a:pt x="169" y="0"/>
                  </a:lnTo>
                  <a:lnTo>
                    <a:pt x="169" y="170"/>
                  </a:lnTo>
                  <a:lnTo>
                    <a:pt x="169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670720" y="1722600"/>
              <a:ext cx="519120" cy="523800"/>
            </a:xfrm>
            <a:custGeom>
              <a:avLst/>
              <a:gdLst/>
              <a:ahLst/>
              <a:rect l="l" t="t" r="r" b="b"/>
              <a:pathLst>
                <a:path w="327" h="330">
                  <a:moveTo>
                    <a:pt x="169" y="0"/>
                  </a:moveTo>
                  <a:lnTo>
                    <a:pt x="178" y="0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08" y="10"/>
                  </a:lnTo>
                  <a:lnTo>
                    <a:pt x="218" y="10"/>
                  </a:lnTo>
                  <a:lnTo>
                    <a:pt x="228" y="10"/>
                  </a:lnTo>
                  <a:lnTo>
                    <a:pt x="238" y="20"/>
                  </a:lnTo>
                  <a:lnTo>
                    <a:pt x="248" y="30"/>
                  </a:lnTo>
                  <a:lnTo>
                    <a:pt x="258" y="30"/>
                  </a:lnTo>
                  <a:lnTo>
                    <a:pt x="268" y="40"/>
                  </a:lnTo>
                  <a:lnTo>
                    <a:pt x="277" y="50"/>
                  </a:lnTo>
                  <a:lnTo>
                    <a:pt x="287" y="50"/>
                  </a:lnTo>
                  <a:lnTo>
                    <a:pt x="297" y="60"/>
                  </a:lnTo>
                  <a:lnTo>
                    <a:pt x="297" y="70"/>
                  </a:lnTo>
                  <a:lnTo>
                    <a:pt x="307" y="80"/>
                  </a:lnTo>
                  <a:lnTo>
                    <a:pt x="307" y="90"/>
                  </a:lnTo>
                  <a:lnTo>
                    <a:pt x="317" y="100"/>
                  </a:lnTo>
                  <a:lnTo>
                    <a:pt x="317" y="110"/>
                  </a:lnTo>
                  <a:lnTo>
                    <a:pt x="327" y="130"/>
                  </a:lnTo>
                  <a:lnTo>
                    <a:pt x="327" y="140"/>
                  </a:lnTo>
                  <a:lnTo>
                    <a:pt x="327" y="150"/>
                  </a:lnTo>
                  <a:lnTo>
                    <a:pt x="327" y="160"/>
                  </a:lnTo>
                  <a:lnTo>
                    <a:pt x="327" y="170"/>
                  </a:lnTo>
                  <a:lnTo>
                    <a:pt x="327" y="180"/>
                  </a:lnTo>
                  <a:lnTo>
                    <a:pt x="327" y="190"/>
                  </a:lnTo>
                  <a:lnTo>
                    <a:pt x="327" y="200"/>
                  </a:lnTo>
                  <a:lnTo>
                    <a:pt x="317" y="220"/>
                  </a:lnTo>
                  <a:lnTo>
                    <a:pt x="317" y="230"/>
                  </a:lnTo>
                  <a:lnTo>
                    <a:pt x="307" y="240"/>
                  </a:lnTo>
                  <a:lnTo>
                    <a:pt x="307" y="250"/>
                  </a:lnTo>
                  <a:lnTo>
                    <a:pt x="297" y="260"/>
                  </a:lnTo>
                  <a:lnTo>
                    <a:pt x="297" y="270"/>
                  </a:lnTo>
                  <a:lnTo>
                    <a:pt x="287" y="280"/>
                  </a:lnTo>
                  <a:lnTo>
                    <a:pt x="277" y="280"/>
                  </a:lnTo>
                  <a:lnTo>
                    <a:pt x="268" y="290"/>
                  </a:lnTo>
                  <a:lnTo>
                    <a:pt x="258" y="300"/>
                  </a:lnTo>
                  <a:lnTo>
                    <a:pt x="248" y="300"/>
                  </a:lnTo>
                  <a:lnTo>
                    <a:pt x="238" y="310"/>
                  </a:lnTo>
                  <a:lnTo>
                    <a:pt x="228" y="320"/>
                  </a:lnTo>
                  <a:lnTo>
                    <a:pt x="218" y="320"/>
                  </a:lnTo>
                  <a:lnTo>
                    <a:pt x="208" y="320"/>
                  </a:lnTo>
                  <a:lnTo>
                    <a:pt x="198" y="330"/>
                  </a:lnTo>
                  <a:lnTo>
                    <a:pt x="188" y="330"/>
                  </a:lnTo>
                  <a:lnTo>
                    <a:pt x="178" y="330"/>
                  </a:lnTo>
                  <a:lnTo>
                    <a:pt x="169" y="330"/>
                  </a:lnTo>
                  <a:lnTo>
                    <a:pt x="149" y="330"/>
                  </a:lnTo>
                  <a:lnTo>
                    <a:pt x="139" y="330"/>
                  </a:lnTo>
                  <a:lnTo>
                    <a:pt x="129" y="330"/>
                  </a:lnTo>
                  <a:lnTo>
                    <a:pt x="119" y="320"/>
                  </a:lnTo>
                  <a:lnTo>
                    <a:pt x="109" y="320"/>
                  </a:lnTo>
                  <a:lnTo>
                    <a:pt x="99" y="320"/>
                  </a:lnTo>
                  <a:lnTo>
                    <a:pt x="89" y="310"/>
                  </a:lnTo>
                  <a:lnTo>
                    <a:pt x="79" y="300"/>
                  </a:lnTo>
                  <a:lnTo>
                    <a:pt x="70" y="300"/>
                  </a:lnTo>
                  <a:lnTo>
                    <a:pt x="60" y="290"/>
                  </a:lnTo>
                  <a:lnTo>
                    <a:pt x="50" y="280"/>
                  </a:lnTo>
                  <a:lnTo>
                    <a:pt x="40" y="280"/>
                  </a:lnTo>
                  <a:lnTo>
                    <a:pt x="30" y="270"/>
                  </a:lnTo>
                  <a:lnTo>
                    <a:pt x="30" y="260"/>
                  </a:lnTo>
                  <a:lnTo>
                    <a:pt x="20" y="250"/>
                  </a:lnTo>
                  <a:lnTo>
                    <a:pt x="20" y="240"/>
                  </a:lnTo>
                  <a:lnTo>
                    <a:pt x="10" y="230"/>
                  </a:lnTo>
                  <a:lnTo>
                    <a:pt x="10" y="220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70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40"/>
                  </a:lnTo>
                  <a:lnTo>
                    <a:pt x="0" y="130"/>
                  </a:lnTo>
                  <a:lnTo>
                    <a:pt x="10" y="110"/>
                  </a:lnTo>
                  <a:lnTo>
                    <a:pt x="10" y="100"/>
                  </a:lnTo>
                  <a:lnTo>
                    <a:pt x="20" y="90"/>
                  </a:lnTo>
                  <a:lnTo>
                    <a:pt x="20" y="80"/>
                  </a:lnTo>
                  <a:lnTo>
                    <a:pt x="30" y="70"/>
                  </a:lnTo>
                  <a:lnTo>
                    <a:pt x="30" y="60"/>
                  </a:lnTo>
                  <a:lnTo>
                    <a:pt x="40" y="50"/>
                  </a:lnTo>
                  <a:lnTo>
                    <a:pt x="50" y="50"/>
                  </a:lnTo>
                  <a:lnTo>
                    <a:pt x="60" y="40"/>
                  </a:lnTo>
                  <a:lnTo>
                    <a:pt x="70" y="30"/>
                  </a:lnTo>
                  <a:lnTo>
                    <a:pt x="79" y="30"/>
                  </a:lnTo>
                  <a:lnTo>
                    <a:pt x="89" y="20"/>
                  </a:lnTo>
                  <a:lnTo>
                    <a:pt x="99" y="10"/>
                  </a:lnTo>
                  <a:lnTo>
                    <a:pt x="109" y="10"/>
                  </a:lnTo>
                  <a:lnTo>
                    <a:pt x="119" y="1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49" y="0"/>
                  </a:lnTo>
                  <a:lnTo>
                    <a:pt x="169" y="0"/>
                  </a:lnTo>
                </a:path>
              </a:pathLst>
            </a:custGeom>
            <a:noFill/>
            <a:ln w="1584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66120" y="1801800"/>
              <a:ext cx="360360" cy="3650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22" y="23"/>
                  </a:lnTo>
                  <a:lnTo>
                    <a:pt x="23" y="23"/>
                  </a:lnTo>
                </a:path>
              </a:pathLst>
            </a:custGeom>
            <a:noFill/>
            <a:ln w="1584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66120" y="1801800"/>
              <a:ext cx="344520" cy="3650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15840">
              <a:solidFill>
                <a:srgbClr val="0000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91040" y="14842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4460760" y="1754280"/>
            <a:ext cx="455760" cy="460440"/>
            <a:chOff x="4460760" y="1754280"/>
            <a:chExt cx="455760" cy="460440"/>
          </a:xfrm>
        </p:grpSpPr>
        <p:sp>
          <p:nvSpPr>
            <p:cNvPr id="1045" name=""/>
            <p:cNvSpPr/>
            <p:nvPr/>
          </p:nvSpPr>
          <p:spPr>
            <a:xfrm>
              <a:off x="4460760" y="1754280"/>
              <a:ext cx="455760" cy="460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60760" y="1754280"/>
              <a:ext cx="455760" cy="15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60760" y="1770120"/>
              <a:ext cx="15840" cy="428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460760" y="2198520"/>
              <a:ext cx="455760" cy="16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900320" y="1770120"/>
              <a:ext cx="16200" cy="428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92520" y="1760400"/>
              <a:ext cx="3016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893880" y="1327320"/>
            <a:ext cx="5688000" cy="1679400"/>
            <a:chOff x="893880" y="1327320"/>
            <a:chExt cx="5688000" cy="1679400"/>
          </a:xfrm>
        </p:grpSpPr>
        <p:sp>
          <p:nvSpPr>
            <p:cNvPr id="1052" name=""/>
            <p:cNvSpPr/>
            <p:nvPr/>
          </p:nvSpPr>
          <p:spPr>
            <a:xfrm>
              <a:off x="1600560" y="1595520"/>
              <a:ext cx="377640" cy="15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00560" y="2135160"/>
              <a:ext cx="377640" cy="15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02280" y="2135160"/>
              <a:ext cx="282600" cy="15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00560" y="2673360"/>
              <a:ext cx="1054080" cy="15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05680" y="1992240"/>
              <a:ext cx="376200" cy="1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6040" y="1579680"/>
              <a:ext cx="15840" cy="729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880" y="1992240"/>
              <a:ext cx="769680" cy="15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93880" y="1327320"/>
              <a:ext cx="15840" cy="16794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93880" y="1595520"/>
              <a:ext cx="378000" cy="154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93880" y="2135160"/>
              <a:ext cx="378000" cy="154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93880" y="2673360"/>
              <a:ext cx="378000" cy="154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40520" y="2405160"/>
              <a:ext cx="549000" cy="154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70480" y="2514600"/>
              <a:ext cx="328680" cy="154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70480" y="2514600"/>
              <a:ext cx="14400" cy="1742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973680" y="2087640"/>
              <a:ext cx="503280" cy="154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73680" y="2087640"/>
              <a:ext cx="15840" cy="3330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70480" y="2135160"/>
              <a:ext cx="14400" cy="1900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70480" y="2309760"/>
              <a:ext cx="328680" cy="154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97320" y="1595520"/>
              <a:ext cx="1492200" cy="1548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73680" y="1595520"/>
              <a:ext cx="15840" cy="28512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73680" y="1865160"/>
              <a:ext cx="503280" cy="1548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2513160" y="1263600"/>
            <a:ext cx="116640" cy="277920"/>
            <a:chOff x="2513160" y="1263600"/>
            <a:chExt cx="116640" cy="277920"/>
          </a:xfrm>
        </p:grpSpPr>
        <p:sp>
          <p:nvSpPr>
            <p:cNvPr id="1074" name=""/>
            <p:cNvSpPr/>
            <p:nvPr/>
          </p:nvSpPr>
          <p:spPr>
            <a:xfrm>
              <a:off x="2513160" y="1263600"/>
              <a:ext cx="93600" cy="158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22520" y="1312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2518920" y="1768320"/>
            <a:ext cx="116640" cy="323640"/>
            <a:chOff x="2518920" y="1768320"/>
            <a:chExt cx="116640" cy="323640"/>
          </a:xfrm>
        </p:grpSpPr>
        <p:sp>
          <p:nvSpPr>
            <p:cNvPr id="1077" name=""/>
            <p:cNvSpPr/>
            <p:nvPr/>
          </p:nvSpPr>
          <p:spPr>
            <a:xfrm>
              <a:off x="2518920" y="1863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19280" y="1768320"/>
              <a:ext cx="109440" cy="1584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517560" y="2087640"/>
            <a:ext cx="334440" cy="307800"/>
            <a:chOff x="3517560" y="2087640"/>
            <a:chExt cx="334440" cy="307800"/>
          </a:xfrm>
        </p:grpSpPr>
        <p:sp>
          <p:nvSpPr>
            <p:cNvPr id="1080" name=""/>
            <p:cNvSpPr/>
            <p:nvPr/>
          </p:nvSpPr>
          <p:spPr>
            <a:xfrm>
              <a:off x="3517560" y="2166840"/>
              <a:ext cx="33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+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17920" y="2087640"/>
              <a:ext cx="109440" cy="158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015160" y="1612800"/>
            <a:ext cx="622440" cy="324000"/>
            <a:chOff x="5015160" y="1612800"/>
            <a:chExt cx="622440" cy="324000"/>
          </a:xfrm>
        </p:grpSpPr>
        <p:sp>
          <p:nvSpPr>
            <p:cNvPr id="1083" name=""/>
            <p:cNvSpPr/>
            <p:nvPr/>
          </p:nvSpPr>
          <p:spPr>
            <a:xfrm>
              <a:off x="5015160" y="1708200"/>
              <a:ext cx="62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.(b+c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62680" y="1612800"/>
              <a:ext cx="15840" cy="158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235840" y="1612800"/>
              <a:ext cx="109440" cy="158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62680" y="1612800"/>
              <a:ext cx="15840" cy="1584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016600" y="1612800"/>
              <a:ext cx="93600" cy="158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3972240" y="914400"/>
            <a:ext cx="177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ff0099"/>
                </a:solidFill>
                <a:uFillTx/>
                <a:latin typeface="Arial"/>
              </a:rPr>
              <a:t>Diagramme log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962000" y="1374840"/>
            <a:ext cx="519120" cy="459360"/>
            <a:chOff x="1962000" y="1374840"/>
            <a:chExt cx="519120" cy="459360"/>
          </a:xfrm>
        </p:grpSpPr>
        <p:sp>
          <p:nvSpPr>
            <p:cNvPr id="1090" name=""/>
            <p:cNvSpPr/>
            <p:nvPr/>
          </p:nvSpPr>
          <p:spPr>
            <a:xfrm>
              <a:off x="1962000" y="1374840"/>
              <a:ext cx="439920" cy="4428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62000" y="1374840"/>
              <a:ext cx="439920" cy="158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62000" y="1390680"/>
              <a:ext cx="15840" cy="4111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962000" y="1801800"/>
              <a:ext cx="439920" cy="1584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85720" y="1390680"/>
              <a:ext cx="16200" cy="41112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01920" y="1547640"/>
              <a:ext cx="7920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3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01920" y="1547640"/>
              <a:ext cx="7920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097000" y="1392120"/>
              <a:ext cx="270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962000" y="1906560"/>
            <a:ext cx="519120" cy="450720"/>
            <a:chOff x="1962000" y="1906560"/>
            <a:chExt cx="519120" cy="450720"/>
          </a:xfrm>
        </p:grpSpPr>
        <p:sp>
          <p:nvSpPr>
            <p:cNvPr id="1099" name=""/>
            <p:cNvSpPr/>
            <p:nvPr/>
          </p:nvSpPr>
          <p:spPr>
            <a:xfrm>
              <a:off x="1962000" y="1913040"/>
              <a:ext cx="439920" cy="44424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62000" y="1913040"/>
              <a:ext cx="439920" cy="1584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962000" y="1928880"/>
              <a:ext cx="15840" cy="41256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962000" y="2341440"/>
              <a:ext cx="439920" cy="1584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85720" y="1928880"/>
              <a:ext cx="16200" cy="41256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01920" y="2087640"/>
              <a:ext cx="7920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30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401920" y="2087640"/>
              <a:ext cx="7920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074680" y="1906560"/>
              <a:ext cx="177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865920" y="1168560"/>
            <a:ext cx="596880" cy="601560"/>
            <a:chOff x="6865920" y="1168560"/>
            <a:chExt cx="596880" cy="601560"/>
          </a:xfrm>
        </p:grpSpPr>
        <p:sp>
          <p:nvSpPr>
            <p:cNvPr id="1108" name=""/>
            <p:cNvSpPr/>
            <p:nvPr/>
          </p:nvSpPr>
          <p:spPr>
            <a:xfrm>
              <a:off x="7180200" y="1168560"/>
              <a:ext cx="14400" cy="60156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5920" y="1484280"/>
              <a:ext cx="596880" cy="1584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7585920" y="1452600"/>
            <a:ext cx="1285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 se touchent p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75280" y="2357280"/>
            <a:ext cx="84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 touch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6880320" y="2119320"/>
            <a:ext cx="598320" cy="601560"/>
            <a:chOff x="6880320" y="2119320"/>
            <a:chExt cx="598320" cy="601560"/>
          </a:xfrm>
        </p:grpSpPr>
        <p:sp>
          <p:nvSpPr>
            <p:cNvPr id="1113" name=""/>
            <p:cNvSpPr/>
            <p:nvPr/>
          </p:nvSpPr>
          <p:spPr>
            <a:xfrm>
              <a:off x="7194600" y="2119320"/>
              <a:ext cx="15840" cy="60156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80320" y="2436840"/>
              <a:ext cx="598320" cy="1584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74080" y="240192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30"/>
                  </a:lnTo>
                  <a:lnTo>
                    <a:pt x="2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74080" y="2401920"/>
              <a:ext cx="61920" cy="7920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2984400" y="2158920"/>
            <a:ext cx="455760" cy="472320"/>
            <a:chOff x="2984400" y="2158920"/>
            <a:chExt cx="455760" cy="472320"/>
          </a:xfrm>
        </p:grpSpPr>
        <p:sp>
          <p:nvSpPr>
            <p:cNvPr id="1118" name=""/>
            <p:cNvSpPr/>
            <p:nvPr/>
          </p:nvSpPr>
          <p:spPr>
            <a:xfrm>
              <a:off x="3212280" y="21589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2984400" y="2158920"/>
              <a:ext cx="455760" cy="472320"/>
              <a:chOff x="2984400" y="2158920"/>
              <a:chExt cx="455760" cy="472320"/>
            </a:xfrm>
          </p:grpSpPr>
          <p:sp>
            <p:nvSpPr>
              <p:cNvPr id="1120" name=""/>
              <p:cNvSpPr/>
              <p:nvPr/>
            </p:nvSpPr>
            <p:spPr>
              <a:xfrm>
                <a:off x="2984400" y="2158920"/>
                <a:ext cx="455760" cy="1584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984400" y="2174760"/>
                <a:ext cx="14400" cy="41148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84400" y="2586240"/>
                <a:ext cx="455760" cy="1584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423960" y="2174760"/>
                <a:ext cx="16200" cy="41148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013920" y="2189160"/>
                <a:ext cx="2156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017880" y="2479680"/>
                <a:ext cx="204480" cy="93600"/>
              </a:xfrm>
              <a:custGeom>
                <a:avLst/>
                <a:gdLst/>
                <a:ahLst/>
                <a:rect l="l" t="t" r="r" b="b"/>
                <a:pathLst>
                  <a:path w="129" h="59">
                    <a:moveTo>
                      <a:pt x="109" y="0"/>
                    </a:moveTo>
                    <a:lnTo>
                      <a:pt x="129" y="0"/>
                    </a:lnTo>
                    <a:lnTo>
                      <a:pt x="129" y="19"/>
                    </a:lnTo>
                    <a:lnTo>
                      <a:pt x="20" y="59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109" y="0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104480" y="4519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104480" y="47782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104480" y="5035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964960" y="45212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686040" y="4202280"/>
            <a:ext cx="5329440" cy="2230200"/>
            <a:chOff x="3686040" y="4202280"/>
            <a:chExt cx="5329440" cy="2230200"/>
          </a:xfrm>
        </p:grpSpPr>
        <p:sp>
          <p:nvSpPr>
            <p:cNvPr id="1132" name=""/>
            <p:cNvSpPr/>
            <p:nvPr/>
          </p:nvSpPr>
          <p:spPr>
            <a:xfrm>
              <a:off x="3686040" y="4202280"/>
              <a:ext cx="30240" cy="22302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62600" y="4794120"/>
              <a:ext cx="976320" cy="3024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218440" y="4794120"/>
              <a:ext cx="797040" cy="3024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985240" y="4218120"/>
              <a:ext cx="30240" cy="22143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86040" y="4794120"/>
              <a:ext cx="750960" cy="3024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86040" y="5749920"/>
              <a:ext cx="750960" cy="3024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6520" y="4794120"/>
              <a:ext cx="1920960" cy="302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46520" y="5749920"/>
              <a:ext cx="781200" cy="3024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97480" y="4794120"/>
              <a:ext cx="30240" cy="98604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7723080" y="4249800"/>
            <a:ext cx="480960" cy="1106280"/>
            <a:chOff x="7723080" y="4249800"/>
            <a:chExt cx="480960" cy="1106280"/>
          </a:xfrm>
        </p:grpSpPr>
        <p:sp>
          <p:nvSpPr>
            <p:cNvPr id="1142" name=""/>
            <p:cNvSpPr/>
            <p:nvPr/>
          </p:nvSpPr>
          <p:spPr>
            <a:xfrm>
              <a:off x="7723080" y="4505400"/>
              <a:ext cx="480960" cy="652320"/>
            </a:xfrm>
            <a:custGeom>
              <a:avLst/>
              <a:gdLst/>
              <a:ahLst/>
              <a:rect l="l" t="t" r="r" b="b"/>
              <a:pathLst>
                <a:path w="303" h="411">
                  <a:moveTo>
                    <a:pt x="152" y="0"/>
                  </a:moveTo>
                  <a:lnTo>
                    <a:pt x="161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90" y="10"/>
                  </a:lnTo>
                  <a:lnTo>
                    <a:pt x="199" y="10"/>
                  </a:lnTo>
                  <a:lnTo>
                    <a:pt x="218" y="19"/>
                  </a:lnTo>
                  <a:lnTo>
                    <a:pt x="227" y="29"/>
                  </a:lnTo>
                  <a:lnTo>
                    <a:pt x="227" y="29"/>
                  </a:lnTo>
                  <a:lnTo>
                    <a:pt x="237" y="38"/>
                  </a:lnTo>
                  <a:lnTo>
                    <a:pt x="246" y="48"/>
                  </a:lnTo>
                  <a:lnTo>
                    <a:pt x="256" y="58"/>
                  </a:lnTo>
                  <a:lnTo>
                    <a:pt x="265" y="67"/>
                  </a:lnTo>
                  <a:lnTo>
                    <a:pt x="275" y="77"/>
                  </a:lnTo>
                  <a:lnTo>
                    <a:pt x="275" y="86"/>
                  </a:lnTo>
                  <a:lnTo>
                    <a:pt x="284" y="105"/>
                  </a:lnTo>
                  <a:lnTo>
                    <a:pt x="284" y="115"/>
                  </a:lnTo>
                  <a:lnTo>
                    <a:pt x="294" y="125"/>
                  </a:lnTo>
                  <a:lnTo>
                    <a:pt x="294" y="144"/>
                  </a:lnTo>
                  <a:lnTo>
                    <a:pt x="303" y="153"/>
                  </a:lnTo>
                  <a:lnTo>
                    <a:pt x="303" y="172"/>
                  </a:lnTo>
                  <a:lnTo>
                    <a:pt x="303" y="182"/>
                  </a:lnTo>
                  <a:lnTo>
                    <a:pt x="303" y="201"/>
                  </a:lnTo>
                  <a:lnTo>
                    <a:pt x="303" y="211"/>
                  </a:lnTo>
                  <a:lnTo>
                    <a:pt x="303" y="230"/>
                  </a:lnTo>
                  <a:lnTo>
                    <a:pt x="303" y="239"/>
                  </a:lnTo>
                  <a:lnTo>
                    <a:pt x="303" y="258"/>
                  </a:lnTo>
                  <a:lnTo>
                    <a:pt x="294" y="268"/>
                  </a:lnTo>
                  <a:lnTo>
                    <a:pt x="294" y="287"/>
                  </a:lnTo>
                  <a:lnTo>
                    <a:pt x="284" y="297"/>
                  </a:lnTo>
                  <a:lnTo>
                    <a:pt x="284" y="306"/>
                  </a:lnTo>
                  <a:lnTo>
                    <a:pt x="275" y="325"/>
                  </a:lnTo>
                  <a:lnTo>
                    <a:pt x="275" y="335"/>
                  </a:lnTo>
                  <a:lnTo>
                    <a:pt x="265" y="344"/>
                  </a:lnTo>
                  <a:lnTo>
                    <a:pt x="256" y="354"/>
                  </a:lnTo>
                  <a:lnTo>
                    <a:pt x="246" y="364"/>
                  </a:lnTo>
                  <a:lnTo>
                    <a:pt x="237" y="373"/>
                  </a:lnTo>
                  <a:lnTo>
                    <a:pt x="227" y="383"/>
                  </a:lnTo>
                  <a:lnTo>
                    <a:pt x="227" y="383"/>
                  </a:lnTo>
                  <a:lnTo>
                    <a:pt x="218" y="392"/>
                  </a:lnTo>
                  <a:lnTo>
                    <a:pt x="199" y="402"/>
                  </a:lnTo>
                  <a:lnTo>
                    <a:pt x="190" y="402"/>
                  </a:lnTo>
                  <a:lnTo>
                    <a:pt x="180" y="411"/>
                  </a:lnTo>
                  <a:lnTo>
                    <a:pt x="171" y="411"/>
                  </a:lnTo>
                  <a:lnTo>
                    <a:pt x="161" y="411"/>
                  </a:lnTo>
                  <a:lnTo>
                    <a:pt x="152" y="411"/>
                  </a:lnTo>
                  <a:lnTo>
                    <a:pt x="142" y="411"/>
                  </a:lnTo>
                  <a:lnTo>
                    <a:pt x="133" y="411"/>
                  </a:lnTo>
                  <a:lnTo>
                    <a:pt x="123" y="411"/>
                  </a:lnTo>
                  <a:lnTo>
                    <a:pt x="114" y="402"/>
                  </a:lnTo>
                  <a:lnTo>
                    <a:pt x="104" y="402"/>
                  </a:lnTo>
                  <a:lnTo>
                    <a:pt x="86" y="392"/>
                  </a:lnTo>
                  <a:lnTo>
                    <a:pt x="76" y="383"/>
                  </a:lnTo>
                  <a:lnTo>
                    <a:pt x="76" y="383"/>
                  </a:lnTo>
                  <a:lnTo>
                    <a:pt x="67" y="373"/>
                  </a:lnTo>
                  <a:lnTo>
                    <a:pt x="57" y="364"/>
                  </a:lnTo>
                  <a:lnTo>
                    <a:pt x="48" y="354"/>
                  </a:lnTo>
                  <a:lnTo>
                    <a:pt x="38" y="344"/>
                  </a:lnTo>
                  <a:lnTo>
                    <a:pt x="29" y="335"/>
                  </a:lnTo>
                  <a:lnTo>
                    <a:pt x="29" y="325"/>
                  </a:lnTo>
                  <a:lnTo>
                    <a:pt x="19" y="306"/>
                  </a:lnTo>
                  <a:lnTo>
                    <a:pt x="19" y="297"/>
                  </a:lnTo>
                  <a:lnTo>
                    <a:pt x="10" y="287"/>
                  </a:lnTo>
                  <a:lnTo>
                    <a:pt x="10" y="268"/>
                  </a:lnTo>
                  <a:lnTo>
                    <a:pt x="0" y="258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0" y="211"/>
                  </a:lnTo>
                  <a:lnTo>
                    <a:pt x="0" y="201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0" y="153"/>
                  </a:lnTo>
                  <a:lnTo>
                    <a:pt x="10" y="144"/>
                  </a:lnTo>
                  <a:lnTo>
                    <a:pt x="10" y="125"/>
                  </a:lnTo>
                  <a:lnTo>
                    <a:pt x="19" y="115"/>
                  </a:lnTo>
                  <a:lnTo>
                    <a:pt x="19" y="105"/>
                  </a:lnTo>
                  <a:lnTo>
                    <a:pt x="29" y="86"/>
                  </a:lnTo>
                  <a:lnTo>
                    <a:pt x="29" y="77"/>
                  </a:lnTo>
                  <a:lnTo>
                    <a:pt x="38" y="67"/>
                  </a:lnTo>
                  <a:lnTo>
                    <a:pt x="48" y="58"/>
                  </a:lnTo>
                  <a:lnTo>
                    <a:pt x="57" y="48"/>
                  </a:lnTo>
                  <a:lnTo>
                    <a:pt x="67" y="38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6" y="19"/>
                  </a:lnTo>
                  <a:lnTo>
                    <a:pt x="104" y="10"/>
                  </a:lnTo>
                  <a:lnTo>
                    <a:pt x="114" y="10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211"/>
                  </a:lnTo>
                  <a:lnTo>
                    <a:pt x="152" y="0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23080" y="4505400"/>
              <a:ext cx="480960" cy="652320"/>
            </a:xfrm>
            <a:custGeom>
              <a:avLst/>
              <a:gdLst/>
              <a:ahLst/>
              <a:rect l="l" t="t" r="r" b="b"/>
              <a:pathLst>
                <a:path w="303" h="411">
                  <a:moveTo>
                    <a:pt x="152" y="0"/>
                  </a:moveTo>
                  <a:lnTo>
                    <a:pt x="161" y="0"/>
                  </a:lnTo>
                  <a:lnTo>
                    <a:pt x="171" y="0"/>
                  </a:lnTo>
                  <a:lnTo>
                    <a:pt x="180" y="0"/>
                  </a:lnTo>
                  <a:lnTo>
                    <a:pt x="190" y="10"/>
                  </a:lnTo>
                  <a:lnTo>
                    <a:pt x="199" y="10"/>
                  </a:lnTo>
                  <a:lnTo>
                    <a:pt x="218" y="19"/>
                  </a:lnTo>
                  <a:lnTo>
                    <a:pt x="227" y="29"/>
                  </a:lnTo>
                  <a:lnTo>
                    <a:pt x="227" y="29"/>
                  </a:lnTo>
                  <a:lnTo>
                    <a:pt x="237" y="38"/>
                  </a:lnTo>
                  <a:lnTo>
                    <a:pt x="246" y="48"/>
                  </a:lnTo>
                  <a:lnTo>
                    <a:pt x="256" y="58"/>
                  </a:lnTo>
                  <a:lnTo>
                    <a:pt x="265" y="67"/>
                  </a:lnTo>
                  <a:lnTo>
                    <a:pt x="275" y="77"/>
                  </a:lnTo>
                  <a:lnTo>
                    <a:pt x="275" y="86"/>
                  </a:lnTo>
                  <a:lnTo>
                    <a:pt x="284" y="105"/>
                  </a:lnTo>
                  <a:lnTo>
                    <a:pt x="284" y="115"/>
                  </a:lnTo>
                  <a:lnTo>
                    <a:pt x="294" y="125"/>
                  </a:lnTo>
                  <a:lnTo>
                    <a:pt x="294" y="144"/>
                  </a:lnTo>
                  <a:lnTo>
                    <a:pt x="303" y="153"/>
                  </a:lnTo>
                  <a:lnTo>
                    <a:pt x="303" y="172"/>
                  </a:lnTo>
                  <a:lnTo>
                    <a:pt x="303" y="182"/>
                  </a:lnTo>
                  <a:lnTo>
                    <a:pt x="303" y="201"/>
                  </a:lnTo>
                  <a:lnTo>
                    <a:pt x="303" y="211"/>
                  </a:lnTo>
                  <a:lnTo>
                    <a:pt x="303" y="230"/>
                  </a:lnTo>
                  <a:lnTo>
                    <a:pt x="303" y="239"/>
                  </a:lnTo>
                  <a:lnTo>
                    <a:pt x="303" y="258"/>
                  </a:lnTo>
                  <a:lnTo>
                    <a:pt x="294" y="268"/>
                  </a:lnTo>
                  <a:lnTo>
                    <a:pt x="294" y="287"/>
                  </a:lnTo>
                  <a:lnTo>
                    <a:pt x="284" y="297"/>
                  </a:lnTo>
                  <a:lnTo>
                    <a:pt x="284" y="306"/>
                  </a:lnTo>
                  <a:lnTo>
                    <a:pt x="275" y="325"/>
                  </a:lnTo>
                  <a:lnTo>
                    <a:pt x="275" y="335"/>
                  </a:lnTo>
                  <a:lnTo>
                    <a:pt x="265" y="344"/>
                  </a:lnTo>
                  <a:lnTo>
                    <a:pt x="256" y="354"/>
                  </a:lnTo>
                  <a:lnTo>
                    <a:pt x="246" y="364"/>
                  </a:lnTo>
                  <a:lnTo>
                    <a:pt x="237" y="373"/>
                  </a:lnTo>
                  <a:lnTo>
                    <a:pt x="227" y="383"/>
                  </a:lnTo>
                  <a:lnTo>
                    <a:pt x="227" y="383"/>
                  </a:lnTo>
                  <a:lnTo>
                    <a:pt x="218" y="392"/>
                  </a:lnTo>
                  <a:lnTo>
                    <a:pt x="199" y="402"/>
                  </a:lnTo>
                  <a:lnTo>
                    <a:pt x="190" y="402"/>
                  </a:lnTo>
                  <a:lnTo>
                    <a:pt x="180" y="411"/>
                  </a:lnTo>
                  <a:lnTo>
                    <a:pt x="171" y="411"/>
                  </a:lnTo>
                  <a:lnTo>
                    <a:pt x="161" y="411"/>
                  </a:lnTo>
                  <a:lnTo>
                    <a:pt x="152" y="411"/>
                  </a:lnTo>
                  <a:lnTo>
                    <a:pt x="142" y="411"/>
                  </a:lnTo>
                  <a:lnTo>
                    <a:pt x="133" y="411"/>
                  </a:lnTo>
                  <a:lnTo>
                    <a:pt x="123" y="411"/>
                  </a:lnTo>
                  <a:lnTo>
                    <a:pt x="114" y="402"/>
                  </a:lnTo>
                  <a:lnTo>
                    <a:pt x="104" y="402"/>
                  </a:lnTo>
                  <a:lnTo>
                    <a:pt x="86" y="392"/>
                  </a:lnTo>
                  <a:lnTo>
                    <a:pt x="76" y="383"/>
                  </a:lnTo>
                  <a:lnTo>
                    <a:pt x="76" y="383"/>
                  </a:lnTo>
                  <a:lnTo>
                    <a:pt x="67" y="373"/>
                  </a:lnTo>
                  <a:lnTo>
                    <a:pt x="57" y="364"/>
                  </a:lnTo>
                  <a:lnTo>
                    <a:pt x="48" y="354"/>
                  </a:lnTo>
                  <a:lnTo>
                    <a:pt x="38" y="344"/>
                  </a:lnTo>
                  <a:lnTo>
                    <a:pt x="29" y="335"/>
                  </a:lnTo>
                  <a:lnTo>
                    <a:pt x="29" y="325"/>
                  </a:lnTo>
                  <a:lnTo>
                    <a:pt x="19" y="306"/>
                  </a:lnTo>
                  <a:lnTo>
                    <a:pt x="19" y="297"/>
                  </a:lnTo>
                  <a:lnTo>
                    <a:pt x="10" y="287"/>
                  </a:lnTo>
                  <a:lnTo>
                    <a:pt x="10" y="268"/>
                  </a:lnTo>
                  <a:lnTo>
                    <a:pt x="0" y="258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0" y="211"/>
                  </a:lnTo>
                  <a:lnTo>
                    <a:pt x="0" y="201"/>
                  </a:lnTo>
                  <a:lnTo>
                    <a:pt x="0" y="182"/>
                  </a:lnTo>
                  <a:lnTo>
                    <a:pt x="0" y="172"/>
                  </a:lnTo>
                  <a:lnTo>
                    <a:pt x="0" y="153"/>
                  </a:lnTo>
                  <a:lnTo>
                    <a:pt x="10" y="144"/>
                  </a:lnTo>
                  <a:lnTo>
                    <a:pt x="10" y="125"/>
                  </a:lnTo>
                  <a:lnTo>
                    <a:pt x="19" y="115"/>
                  </a:lnTo>
                  <a:lnTo>
                    <a:pt x="19" y="105"/>
                  </a:lnTo>
                  <a:lnTo>
                    <a:pt x="29" y="86"/>
                  </a:lnTo>
                  <a:lnTo>
                    <a:pt x="29" y="77"/>
                  </a:lnTo>
                  <a:lnTo>
                    <a:pt x="38" y="67"/>
                  </a:lnTo>
                  <a:lnTo>
                    <a:pt x="48" y="58"/>
                  </a:lnTo>
                  <a:lnTo>
                    <a:pt x="57" y="48"/>
                  </a:lnTo>
                  <a:lnTo>
                    <a:pt x="67" y="38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6" y="19"/>
                  </a:lnTo>
                  <a:lnTo>
                    <a:pt x="104" y="10"/>
                  </a:lnTo>
                  <a:lnTo>
                    <a:pt x="114" y="10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2" y="0"/>
                  </a:lnTo>
                  <a:close/>
                  <a:moveTo>
                    <a:pt x="152" y="19"/>
                  </a:moveTo>
                  <a:lnTo>
                    <a:pt x="161" y="19"/>
                  </a:lnTo>
                  <a:lnTo>
                    <a:pt x="171" y="19"/>
                  </a:lnTo>
                  <a:lnTo>
                    <a:pt x="180" y="19"/>
                  </a:lnTo>
                  <a:lnTo>
                    <a:pt x="190" y="29"/>
                  </a:lnTo>
                  <a:lnTo>
                    <a:pt x="199" y="29"/>
                  </a:lnTo>
                  <a:lnTo>
                    <a:pt x="208" y="38"/>
                  </a:lnTo>
                  <a:lnTo>
                    <a:pt x="218" y="38"/>
                  </a:lnTo>
                  <a:lnTo>
                    <a:pt x="218" y="48"/>
                  </a:lnTo>
                  <a:lnTo>
                    <a:pt x="227" y="58"/>
                  </a:lnTo>
                  <a:lnTo>
                    <a:pt x="237" y="67"/>
                  </a:lnTo>
                  <a:lnTo>
                    <a:pt x="246" y="67"/>
                  </a:lnTo>
                  <a:lnTo>
                    <a:pt x="246" y="77"/>
                  </a:lnTo>
                  <a:lnTo>
                    <a:pt x="256" y="86"/>
                  </a:lnTo>
                  <a:lnTo>
                    <a:pt x="265" y="105"/>
                  </a:lnTo>
                  <a:lnTo>
                    <a:pt x="265" y="115"/>
                  </a:lnTo>
                  <a:lnTo>
                    <a:pt x="275" y="125"/>
                  </a:lnTo>
                  <a:lnTo>
                    <a:pt x="275" y="134"/>
                  </a:lnTo>
                  <a:lnTo>
                    <a:pt x="275" y="144"/>
                  </a:lnTo>
                  <a:lnTo>
                    <a:pt x="284" y="163"/>
                  </a:lnTo>
                  <a:lnTo>
                    <a:pt x="284" y="172"/>
                  </a:lnTo>
                  <a:lnTo>
                    <a:pt x="284" y="182"/>
                  </a:lnTo>
                  <a:lnTo>
                    <a:pt x="284" y="201"/>
                  </a:lnTo>
                  <a:lnTo>
                    <a:pt x="284" y="211"/>
                  </a:lnTo>
                  <a:lnTo>
                    <a:pt x="284" y="230"/>
                  </a:lnTo>
                  <a:lnTo>
                    <a:pt x="284" y="239"/>
                  </a:lnTo>
                  <a:lnTo>
                    <a:pt x="284" y="249"/>
                  </a:lnTo>
                  <a:lnTo>
                    <a:pt x="275" y="268"/>
                  </a:lnTo>
                  <a:lnTo>
                    <a:pt x="275" y="277"/>
                  </a:lnTo>
                  <a:lnTo>
                    <a:pt x="275" y="287"/>
                  </a:lnTo>
                  <a:lnTo>
                    <a:pt x="265" y="297"/>
                  </a:lnTo>
                  <a:lnTo>
                    <a:pt x="265" y="306"/>
                  </a:lnTo>
                  <a:lnTo>
                    <a:pt x="256" y="325"/>
                  </a:lnTo>
                  <a:lnTo>
                    <a:pt x="246" y="335"/>
                  </a:lnTo>
                  <a:lnTo>
                    <a:pt x="246" y="344"/>
                  </a:lnTo>
                  <a:lnTo>
                    <a:pt x="237" y="344"/>
                  </a:lnTo>
                  <a:lnTo>
                    <a:pt x="227" y="354"/>
                  </a:lnTo>
                  <a:lnTo>
                    <a:pt x="218" y="364"/>
                  </a:lnTo>
                  <a:lnTo>
                    <a:pt x="218" y="373"/>
                  </a:lnTo>
                  <a:lnTo>
                    <a:pt x="208" y="373"/>
                  </a:lnTo>
                  <a:lnTo>
                    <a:pt x="199" y="383"/>
                  </a:lnTo>
                  <a:lnTo>
                    <a:pt x="190" y="383"/>
                  </a:lnTo>
                  <a:lnTo>
                    <a:pt x="180" y="392"/>
                  </a:lnTo>
                  <a:lnTo>
                    <a:pt x="171" y="392"/>
                  </a:lnTo>
                  <a:lnTo>
                    <a:pt x="161" y="392"/>
                  </a:lnTo>
                  <a:lnTo>
                    <a:pt x="152" y="392"/>
                  </a:lnTo>
                  <a:lnTo>
                    <a:pt x="142" y="392"/>
                  </a:lnTo>
                  <a:lnTo>
                    <a:pt x="133" y="392"/>
                  </a:lnTo>
                  <a:lnTo>
                    <a:pt x="123" y="392"/>
                  </a:lnTo>
                  <a:lnTo>
                    <a:pt x="114" y="383"/>
                  </a:lnTo>
                  <a:lnTo>
                    <a:pt x="104" y="383"/>
                  </a:lnTo>
                  <a:lnTo>
                    <a:pt x="95" y="373"/>
                  </a:lnTo>
                  <a:lnTo>
                    <a:pt x="86" y="373"/>
                  </a:lnTo>
                  <a:lnTo>
                    <a:pt x="86" y="364"/>
                  </a:lnTo>
                  <a:lnTo>
                    <a:pt x="76" y="354"/>
                  </a:lnTo>
                  <a:lnTo>
                    <a:pt x="67" y="344"/>
                  </a:lnTo>
                  <a:lnTo>
                    <a:pt x="57" y="344"/>
                  </a:lnTo>
                  <a:lnTo>
                    <a:pt x="57" y="335"/>
                  </a:lnTo>
                  <a:lnTo>
                    <a:pt x="48" y="325"/>
                  </a:lnTo>
                  <a:lnTo>
                    <a:pt x="38" y="306"/>
                  </a:lnTo>
                  <a:lnTo>
                    <a:pt x="38" y="297"/>
                  </a:lnTo>
                  <a:lnTo>
                    <a:pt x="29" y="287"/>
                  </a:lnTo>
                  <a:lnTo>
                    <a:pt x="29" y="277"/>
                  </a:lnTo>
                  <a:lnTo>
                    <a:pt x="29" y="268"/>
                  </a:lnTo>
                  <a:lnTo>
                    <a:pt x="19" y="249"/>
                  </a:lnTo>
                  <a:lnTo>
                    <a:pt x="19" y="239"/>
                  </a:lnTo>
                  <a:lnTo>
                    <a:pt x="19" y="230"/>
                  </a:lnTo>
                  <a:lnTo>
                    <a:pt x="19" y="211"/>
                  </a:lnTo>
                  <a:lnTo>
                    <a:pt x="19" y="201"/>
                  </a:lnTo>
                  <a:lnTo>
                    <a:pt x="19" y="182"/>
                  </a:lnTo>
                  <a:lnTo>
                    <a:pt x="19" y="172"/>
                  </a:lnTo>
                  <a:lnTo>
                    <a:pt x="19" y="163"/>
                  </a:lnTo>
                  <a:lnTo>
                    <a:pt x="29" y="144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8" y="115"/>
                  </a:lnTo>
                  <a:lnTo>
                    <a:pt x="38" y="105"/>
                  </a:lnTo>
                  <a:lnTo>
                    <a:pt x="48" y="86"/>
                  </a:lnTo>
                  <a:lnTo>
                    <a:pt x="57" y="77"/>
                  </a:lnTo>
                  <a:lnTo>
                    <a:pt x="57" y="67"/>
                  </a:lnTo>
                  <a:lnTo>
                    <a:pt x="67" y="67"/>
                  </a:lnTo>
                  <a:lnTo>
                    <a:pt x="76" y="58"/>
                  </a:lnTo>
                  <a:lnTo>
                    <a:pt x="86" y="48"/>
                  </a:lnTo>
                  <a:lnTo>
                    <a:pt x="86" y="38"/>
                  </a:lnTo>
                  <a:lnTo>
                    <a:pt x="95" y="38"/>
                  </a:lnTo>
                  <a:lnTo>
                    <a:pt x="104" y="29"/>
                  </a:lnTo>
                  <a:lnTo>
                    <a:pt x="114" y="29"/>
                  </a:lnTo>
                  <a:lnTo>
                    <a:pt x="123" y="19"/>
                  </a:lnTo>
                  <a:lnTo>
                    <a:pt x="133" y="19"/>
                  </a:lnTo>
                  <a:lnTo>
                    <a:pt x="142" y="19"/>
                  </a:lnTo>
                  <a:lnTo>
                    <a:pt x="152" y="19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29640" y="4249800"/>
              <a:ext cx="261720" cy="105732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29640" y="4278240"/>
              <a:ext cx="14040" cy="107784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34240" y="4925880"/>
              <a:ext cx="300240" cy="144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113680" y="4278240"/>
              <a:ext cx="15840" cy="10778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7771680" y="4114800"/>
            <a:ext cx="316440" cy="335520"/>
            <a:chOff x="7771680" y="4114800"/>
            <a:chExt cx="316440" cy="335520"/>
          </a:xfrm>
        </p:grpSpPr>
        <p:sp>
          <p:nvSpPr>
            <p:cNvPr id="1149" name=""/>
            <p:cNvSpPr/>
            <p:nvPr/>
          </p:nvSpPr>
          <p:spPr>
            <a:xfrm>
              <a:off x="7788240" y="4114800"/>
              <a:ext cx="299880" cy="1548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71680" y="419076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dd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07040" y="41907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dd"/>
                  </a:solidFill>
                  <a:latin typeface="Arial"/>
                </a:rPr>
                <a:t>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4421160" y="5477040"/>
            <a:ext cx="345960" cy="545760"/>
            <a:chOff x="4421160" y="5477040"/>
            <a:chExt cx="345960" cy="545760"/>
          </a:xfrm>
        </p:grpSpPr>
        <p:sp>
          <p:nvSpPr>
            <p:cNvPr id="1153" name=""/>
            <p:cNvSpPr/>
            <p:nvPr/>
          </p:nvSpPr>
          <p:spPr>
            <a:xfrm>
              <a:off x="4421160" y="5477040"/>
              <a:ext cx="30240" cy="54576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2480" y="5477040"/>
              <a:ext cx="29880" cy="54576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51400" y="5492880"/>
              <a:ext cx="315720" cy="1404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751280" y="5249880"/>
            <a:ext cx="15840" cy="24300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51400" y="5234040"/>
            <a:ext cx="315720" cy="1584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497480" y="4292640"/>
            <a:ext cx="314280" cy="1584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497480" y="4308480"/>
            <a:ext cx="14040" cy="2430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4302000" y="4551480"/>
            <a:ext cx="509760" cy="546120"/>
            <a:chOff x="4302000" y="4551480"/>
            <a:chExt cx="509760" cy="546120"/>
          </a:xfrm>
        </p:grpSpPr>
        <p:sp>
          <p:nvSpPr>
            <p:cNvPr id="1161" name=""/>
            <p:cNvSpPr/>
            <p:nvPr/>
          </p:nvSpPr>
          <p:spPr>
            <a:xfrm>
              <a:off x="4302000" y="4672080"/>
              <a:ext cx="509760" cy="349200"/>
            </a:xfrm>
            <a:custGeom>
              <a:avLst/>
              <a:gdLst/>
              <a:ahLst/>
              <a:rect l="l" t="t" r="r" b="b"/>
              <a:pathLst>
                <a:path w="321" h="220">
                  <a:moveTo>
                    <a:pt x="293" y="0"/>
                  </a:moveTo>
                  <a:lnTo>
                    <a:pt x="321" y="0"/>
                  </a:lnTo>
                  <a:lnTo>
                    <a:pt x="321" y="29"/>
                  </a:lnTo>
                  <a:lnTo>
                    <a:pt x="28" y="220"/>
                  </a:lnTo>
                  <a:lnTo>
                    <a:pt x="0" y="220"/>
                  </a:lnTo>
                  <a:lnTo>
                    <a:pt x="0" y="192"/>
                  </a:lnTo>
                  <a:lnTo>
                    <a:pt x="293" y="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21160" y="4551480"/>
              <a:ext cx="30240" cy="54612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32480" y="4551480"/>
              <a:ext cx="29880" cy="5461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7480" y="4551480"/>
              <a:ext cx="314280" cy="1404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4797360" y="4308480"/>
            <a:ext cx="14400" cy="2430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58040" y="3878280"/>
            <a:ext cx="285840" cy="1440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553080" y="4322880"/>
            <a:ext cx="14400" cy="2426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823080" y="4322880"/>
            <a:ext cx="15840" cy="24264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479600" y="4262400"/>
            <a:ext cx="1262160" cy="2049480"/>
            <a:chOff x="1479600" y="4262400"/>
            <a:chExt cx="1262160" cy="2049480"/>
          </a:xfrm>
        </p:grpSpPr>
        <p:sp>
          <p:nvSpPr>
            <p:cNvPr id="1170" name=""/>
            <p:cNvSpPr/>
            <p:nvPr/>
          </p:nvSpPr>
          <p:spPr>
            <a:xfrm>
              <a:off x="1479600" y="6281640"/>
              <a:ext cx="1262160" cy="3024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479600" y="4262400"/>
              <a:ext cx="1262160" cy="3024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479600" y="4292640"/>
              <a:ext cx="30240" cy="198900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711520" y="4292640"/>
              <a:ext cx="30240" cy="198900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1284120" y="4611600"/>
            <a:ext cx="225720" cy="1584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284120" y="4870440"/>
            <a:ext cx="225720" cy="144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265400" y="5154480"/>
            <a:ext cx="225360" cy="158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25560" y="4611600"/>
            <a:ext cx="195480" cy="158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98400" y="4541760"/>
            <a:ext cx="150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i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599120" y="480060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i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599120" y="505764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i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2427120" y="4521240"/>
            <a:ext cx="199800" cy="167760"/>
            <a:chOff x="2427120" y="4521240"/>
            <a:chExt cx="199800" cy="167760"/>
          </a:xfrm>
        </p:grpSpPr>
        <p:sp>
          <p:nvSpPr>
            <p:cNvPr id="1182" name=""/>
            <p:cNvSpPr/>
            <p:nvPr/>
          </p:nvSpPr>
          <p:spPr>
            <a:xfrm>
              <a:off x="2427120" y="452124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dd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16400" y="45212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dd"/>
                  </a:solidFill>
                  <a:latin typeface="Arial"/>
                </a:rPr>
                <a:t>Ø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1824480" y="6068880"/>
            <a:ext cx="64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tom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3863880" y="2876400"/>
            <a:ext cx="2097000" cy="684360"/>
            <a:chOff x="3863880" y="2876400"/>
            <a:chExt cx="2097000" cy="684360"/>
          </a:xfrm>
        </p:grpSpPr>
        <p:sp>
          <p:nvSpPr>
            <p:cNvPr id="1186" name=""/>
            <p:cNvSpPr/>
            <p:nvPr/>
          </p:nvSpPr>
          <p:spPr>
            <a:xfrm>
              <a:off x="3863880" y="2876400"/>
              <a:ext cx="2097000" cy="4140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3880" y="2917800"/>
              <a:ext cx="42840" cy="60156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63880" y="3519360"/>
              <a:ext cx="2097000" cy="4140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19480" y="2917800"/>
              <a:ext cx="41400" cy="60156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091760" y="3067200"/>
            <a:ext cx="43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91040" y="300996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644360" y="30481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35360" y="3009960"/>
            <a:ext cx="152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35480" y="3067200"/>
            <a:ext cx="238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b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1960" y="3019320"/>
            <a:ext cx="152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97840" y="3809880"/>
            <a:ext cx="163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ff0099"/>
                </a:solidFill>
                <a:uFillTx/>
                <a:latin typeface="Arial"/>
              </a:rPr>
              <a:t>Schéma autom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217520" y="3581280"/>
            <a:ext cx="164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 u="sng">
                <a:solidFill>
                  <a:srgbClr val="ff0099"/>
                </a:solidFill>
                <a:uFillTx/>
                <a:latin typeface="Arial"/>
              </a:rPr>
              <a:t>Cablage autom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37960" y="304812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60760" y="300996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130720" y="3035160"/>
            <a:ext cx="800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(    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6248520" y="5257800"/>
            <a:ext cx="2097000" cy="684360"/>
            <a:chOff x="6248520" y="5257800"/>
            <a:chExt cx="2097000" cy="684360"/>
          </a:xfrm>
        </p:grpSpPr>
        <p:sp>
          <p:nvSpPr>
            <p:cNvPr id="1202" name=""/>
            <p:cNvSpPr/>
            <p:nvPr/>
          </p:nvSpPr>
          <p:spPr>
            <a:xfrm>
              <a:off x="6248520" y="5257800"/>
              <a:ext cx="2097000" cy="4140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48520" y="5299200"/>
              <a:ext cx="42840" cy="60156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248520" y="5900760"/>
              <a:ext cx="2097000" cy="4140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304120" y="5299200"/>
              <a:ext cx="41400" cy="60156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773040" y="547056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299360" y="626112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7620120" y="5400720"/>
            <a:ext cx="237960" cy="398520"/>
            <a:chOff x="7620120" y="5400720"/>
            <a:chExt cx="237960" cy="398520"/>
          </a:xfrm>
        </p:grpSpPr>
        <p:sp>
          <p:nvSpPr>
            <p:cNvPr id="1209" name=""/>
            <p:cNvSpPr/>
            <p:nvPr/>
          </p:nvSpPr>
          <p:spPr>
            <a:xfrm>
              <a:off x="7620120" y="5448600"/>
              <a:ext cx="237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9900"/>
                  </a:solidFill>
                  <a:latin typeface="Arial"/>
                </a:rPr>
                <a:t>b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6240" y="5400720"/>
              <a:ext cx="152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8051040" y="544824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73480" y="5410080"/>
            <a:ext cx="35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515360" y="5416560"/>
            <a:ext cx="799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(    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89560" y="5135400"/>
            <a:ext cx="228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i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5160" y="42307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d0000"/>
                </a:solidFill>
                <a:latin typeface="Arial"/>
              </a:rPr>
              <a:t>i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6418440" y="4551480"/>
            <a:ext cx="525240" cy="546120"/>
            <a:chOff x="6418440" y="4551480"/>
            <a:chExt cx="525240" cy="546120"/>
          </a:xfrm>
        </p:grpSpPr>
        <p:sp>
          <p:nvSpPr>
            <p:cNvPr id="1217" name=""/>
            <p:cNvSpPr/>
            <p:nvPr/>
          </p:nvSpPr>
          <p:spPr>
            <a:xfrm>
              <a:off x="6418440" y="4672080"/>
              <a:ext cx="525240" cy="349200"/>
            </a:xfrm>
            <a:custGeom>
              <a:avLst/>
              <a:gdLst/>
              <a:ahLst/>
              <a:rect l="l" t="t" r="r" b="b"/>
              <a:pathLst>
                <a:path w="331" h="220">
                  <a:moveTo>
                    <a:pt x="302" y="0"/>
                  </a:moveTo>
                  <a:lnTo>
                    <a:pt x="331" y="0"/>
                  </a:lnTo>
                  <a:lnTo>
                    <a:pt x="331" y="29"/>
                  </a:lnTo>
                  <a:lnTo>
                    <a:pt x="28" y="220"/>
                  </a:lnTo>
                  <a:lnTo>
                    <a:pt x="0" y="220"/>
                  </a:lnTo>
                  <a:lnTo>
                    <a:pt x="0" y="192"/>
                  </a:lnTo>
                  <a:lnTo>
                    <a:pt x="302" y="0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553080" y="4551480"/>
              <a:ext cx="30240" cy="54612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62600" y="4551480"/>
              <a:ext cx="30240" cy="54612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53080" y="4565520"/>
              <a:ext cx="285840" cy="1584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6553440" y="4191120"/>
            <a:ext cx="22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dd0000"/>
                </a:solidFill>
                <a:latin typeface="Arial"/>
              </a:rPr>
              <a:t>i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242040" y="6105600"/>
            <a:ext cx="2097000" cy="683640"/>
            <a:chOff x="6242040" y="6105600"/>
            <a:chExt cx="2097000" cy="683640"/>
          </a:xfrm>
        </p:grpSpPr>
        <p:sp>
          <p:nvSpPr>
            <p:cNvPr id="1223" name=""/>
            <p:cNvSpPr/>
            <p:nvPr/>
          </p:nvSpPr>
          <p:spPr>
            <a:xfrm>
              <a:off x="6242040" y="6105600"/>
              <a:ext cx="2097000" cy="4104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2040" y="6146640"/>
              <a:ext cx="42840" cy="6012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2040" y="6748200"/>
              <a:ext cx="2097000" cy="4104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297640" y="6146640"/>
              <a:ext cx="41400" cy="6012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6331680" y="6248520"/>
            <a:ext cx="316440" cy="335520"/>
            <a:chOff x="6331680" y="6248520"/>
            <a:chExt cx="316440" cy="335520"/>
          </a:xfrm>
        </p:grpSpPr>
        <p:sp>
          <p:nvSpPr>
            <p:cNvPr id="1228" name=""/>
            <p:cNvSpPr/>
            <p:nvPr/>
          </p:nvSpPr>
          <p:spPr>
            <a:xfrm>
              <a:off x="6348240" y="6248520"/>
              <a:ext cx="299880" cy="1548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331680" y="632448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dd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467040" y="63244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dd"/>
                  </a:solidFill>
                  <a:latin typeface="Arial"/>
                </a:rPr>
                <a:t>Ø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697080" y="6308640"/>
            <a:ext cx="17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383600" y="5405400"/>
            <a:ext cx="8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7027920" y="5405400"/>
            <a:ext cx="172440" cy="388800"/>
            <a:chOff x="7027920" y="5405400"/>
            <a:chExt cx="172440" cy="388800"/>
          </a:xfrm>
        </p:grpSpPr>
        <p:sp>
          <p:nvSpPr>
            <p:cNvPr id="1234" name=""/>
            <p:cNvSpPr/>
            <p:nvPr/>
          </p:nvSpPr>
          <p:spPr>
            <a:xfrm>
              <a:off x="7036560" y="544356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27920" y="540540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7491240" y="6338880"/>
            <a:ext cx="34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/i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781760" y="6286680"/>
            <a:ext cx="235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928560" y="6316560"/>
            <a:ext cx="287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dd0000"/>
                </a:solidFill>
                <a:latin typeface="Arial"/>
              </a:rPr>
              <a:t>/i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010360" y="6332400"/>
            <a:ext cx="228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i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416720" y="6240600"/>
            <a:ext cx="94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00"/>
                </a:solidFill>
                <a:latin typeface="Arial"/>
              </a:rPr>
              <a:t>(     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492600" y="545616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434600" y="39607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cc33"/>
                </a:solidFill>
                <a:latin typeface="Times New Roman"/>
              </a:rPr>
              <a:t>(Im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135880" y="396072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imes New Roman"/>
              </a:rPr>
              <a:t>(Out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62280" y="39672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33"/>
                </a:solidFill>
                <a:latin typeface="Times New Roman"/>
              </a:rPr>
              <a:t>Ent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669040" y="397044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imes New Roman"/>
              </a:rPr>
              <a:t>Sor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70480" y="3297240"/>
            <a:ext cx="2133720" cy="1147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560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8160" y="5376960"/>
            <a:ext cx="507960" cy="37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9360" y="3660840"/>
            <a:ext cx="493920" cy="37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080" y="914400"/>
            <a:ext cx="18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66ff"/>
                </a:solidFill>
                <a:uFillTx/>
                <a:latin typeface="Arial"/>
              </a:rPr>
              <a:t>1-Algèbre de Bo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3360" y="1371600"/>
            <a:ext cx="796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logique de Boole repose sur une variable binaire (ou signal numérique) pouvant avoir uniqu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3240" y="1676520"/>
            <a:ext cx="228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ux valeurs qui sont 0 ou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5440" y="2209680"/>
            <a:ext cx="196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Organes à deux ét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1120" y="5332320"/>
            <a:ext cx="596880" cy="146160"/>
          </a:xfrm>
          <a:custGeom>
            <a:avLst/>
            <a:gdLst/>
            <a:ahLst/>
            <a:rect l="l" t="t" r="r" b="b"/>
            <a:pathLst>
              <a:path w="376" h="92">
                <a:moveTo>
                  <a:pt x="0" y="19"/>
                </a:moveTo>
                <a:lnTo>
                  <a:pt x="0" y="0"/>
                </a:lnTo>
                <a:lnTo>
                  <a:pt x="18" y="0"/>
                </a:lnTo>
                <a:lnTo>
                  <a:pt x="376" y="74"/>
                </a:lnTo>
                <a:lnTo>
                  <a:pt x="376" y="92"/>
                </a:lnTo>
                <a:lnTo>
                  <a:pt x="357" y="92"/>
                </a:lnTo>
                <a:lnTo>
                  <a:pt x="0" y="1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54200" y="5245200"/>
            <a:ext cx="28440" cy="23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0920" y="2890800"/>
            <a:ext cx="160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bole électr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9760" y="5783400"/>
            <a:ext cx="157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à 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835440"/>
            <a:ext cx="247680" cy="1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83120" y="4518000"/>
            <a:ext cx="28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eur 2/2 normalement ferm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1360" y="6248520"/>
            <a:ext cx="284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eur 2/2 normalement ouv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01600" y="3807000"/>
            <a:ext cx="1541520" cy="14040"/>
            <a:chOff x="1101600" y="3807000"/>
            <a:chExt cx="1541520" cy="14040"/>
          </a:xfrm>
        </p:grpSpPr>
        <p:sp>
          <p:nvSpPr>
            <p:cNvPr id="145" name=""/>
            <p:cNvSpPr/>
            <p:nvPr/>
          </p:nvSpPr>
          <p:spPr>
            <a:xfrm>
              <a:off x="2133720" y="3807000"/>
              <a:ext cx="509400" cy="140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01600" y="3807000"/>
              <a:ext cx="552600" cy="14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74680" y="5450040"/>
            <a:ext cx="3402000" cy="28440"/>
            <a:chOff x="1174680" y="5450040"/>
            <a:chExt cx="3402000" cy="28440"/>
          </a:xfrm>
        </p:grpSpPr>
        <p:sp>
          <p:nvSpPr>
            <p:cNvPr id="148" name=""/>
            <p:cNvSpPr/>
            <p:nvPr/>
          </p:nvSpPr>
          <p:spPr>
            <a:xfrm>
              <a:off x="1174680" y="5464080"/>
              <a:ext cx="507960" cy="1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63600" y="5464080"/>
              <a:ext cx="508320" cy="14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79800" y="5450040"/>
              <a:ext cx="625320" cy="14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4120" y="5450040"/>
              <a:ext cx="682560" cy="140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22760" y="5521320"/>
            <a:ext cx="247680" cy="14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1520" y="37339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962840" y="5410080"/>
            <a:ext cx="163800" cy="350640"/>
            <a:chOff x="7962840" y="5410080"/>
            <a:chExt cx="163800" cy="350640"/>
          </a:xfrm>
        </p:grpSpPr>
        <p:sp>
          <p:nvSpPr>
            <p:cNvPr id="155" name=""/>
            <p:cNvSpPr/>
            <p:nvPr/>
          </p:nvSpPr>
          <p:spPr>
            <a:xfrm>
              <a:off x="7962840" y="54403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dd0000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62840" y="5410080"/>
              <a:ext cx="129960" cy="302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44640" y="358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4400" y="2881440"/>
            <a:ext cx="157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bole autom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4720" y="328284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éc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04840" y="4154400"/>
            <a:ext cx="157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à ferme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7560" y="488160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écr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56600" y="3268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82800" y="51004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71000" y="49402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5240" y="2890800"/>
            <a:ext cx="186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ymbole pneumat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9600" y="3657600"/>
            <a:ext cx="4572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5334120"/>
            <a:ext cx="3808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809880"/>
            <a:ext cx="479160" cy="233640"/>
          </a:xfrm>
          <a:custGeom>
            <a:avLst/>
            <a:gdLst/>
            <a:ahLst/>
            <a:rect l="l" t="t" r="r" b="b"/>
            <a:pathLst>
              <a:path w="302" h="147">
                <a:moveTo>
                  <a:pt x="284" y="0"/>
                </a:moveTo>
                <a:lnTo>
                  <a:pt x="302" y="0"/>
                </a:lnTo>
                <a:lnTo>
                  <a:pt x="302" y="19"/>
                </a:lnTo>
                <a:lnTo>
                  <a:pt x="18" y="147"/>
                </a:lnTo>
                <a:lnTo>
                  <a:pt x="0" y="147"/>
                </a:lnTo>
                <a:lnTo>
                  <a:pt x="0" y="129"/>
                </a:lnTo>
                <a:lnTo>
                  <a:pt x="284" y="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696160" y="5430960"/>
            <a:ext cx="23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d0000"/>
                </a:solidFill>
                <a:latin typeface="Arial"/>
              </a:rPr>
              <a:t>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200" y="54864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743880" y="3460680"/>
            <a:ext cx="152280" cy="152280"/>
            <a:chOff x="6743880" y="3460680"/>
            <a:chExt cx="152280" cy="152280"/>
          </a:xfrm>
        </p:grpSpPr>
        <p:sp>
          <p:nvSpPr>
            <p:cNvPr id="172" name=""/>
            <p:cNvSpPr/>
            <p:nvPr/>
          </p:nvSpPr>
          <p:spPr>
            <a:xfrm>
              <a:off x="6819840" y="34606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43880" y="36129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118200" y="3451320"/>
            <a:ext cx="0" cy="677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741720" y="3993840"/>
            <a:ext cx="152280" cy="152280"/>
            <a:chOff x="6741720" y="3993840"/>
            <a:chExt cx="152280" cy="152280"/>
          </a:xfrm>
        </p:grpSpPr>
        <p:sp>
          <p:nvSpPr>
            <p:cNvPr id="176" name=""/>
            <p:cNvSpPr/>
            <p:nvPr/>
          </p:nvSpPr>
          <p:spPr>
            <a:xfrm flipV="1">
              <a:off x="6818040" y="39938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41720" y="3993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3760" y="5257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3400" y="358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95760" y="3581280"/>
            <a:ext cx="203040" cy="507960"/>
            <a:chOff x="3695760" y="3581280"/>
            <a:chExt cx="203040" cy="507960"/>
          </a:xfrm>
        </p:grpSpPr>
        <p:sp>
          <p:nvSpPr>
            <p:cNvPr id="181" name=""/>
            <p:cNvSpPr/>
            <p:nvPr/>
          </p:nvSpPr>
          <p:spPr>
            <a:xfrm>
              <a:off x="3695760" y="3581280"/>
              <a:ext cx="0" cy="49536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98800" y="3581280"/>
              <a:ext cx="0" cy="507960"/>
            </a:xfrm>
            <a:prstGeom prst="line">
              <a:avLst/>
            </a:prstGeom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81280" y="5207040"/>
            <a:ext cx="432000" cy="495360"/>
            <a:chOff x="3581280" y="5207040"/>
            <a:chExt cx="432000" cy="495360"/>
          </a:xfrm>
        </p:grpSpPr>
        <p:sp>
          <p:nvSpPr>
            <p:cNvPr id="184" name=""/>
            <p:cNvSpPr/>
            <p:nvPr/>
          </p:nvSpPr>
          <p:spPr>
            <a:xfrm flipV="1">
              <a:off x="3581280" y="5303520"/>
              <a:ext cx="432000" cy="25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95760" y="520704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98800" y="5207040"/>
              <a:ext cx="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730840" y="5122800"/>
            <a:ext cx="750960" cy="7081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53360" y="5151600"/>
            <a:ext cx="28440" cy="650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53360" y="5122800"/>
            <a:ext cx="750600" cy="7081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5124600"/>
            <a:ext cx="0" cy="677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27840" y="5143680"/>
            <a:ext cx="152280" cy="152280"/>
            <a:chOff x="6027840" y="5143680"/>
            <a:chExt cx="152280" cy="152280"/>
          </a:xfrm>
        </p:grpSpPr>
        <p:sp>
          <p:nvSpPr>
            <p:cNvPr id="192" name=""/>
            <p:cNvSpPr/>
            <p:nvPr/>
          </p:nvSpPr>
          <p:spPr>
            <a:xfrm>
              <a:off x="6103800" y="51436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7840" y="52959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19560" y="5654880"/>
            <a:ext cx="152280" cy="152280"/>
            <a:chOff x="6019560" y="5654880"/>
            <a:chExt cx="152280" cy="152280"/>
          </a:xfrm>
        </p:grpSpPr>
        <p:sp>
          <p:nvSpPr>
            <p:cNvPr id="195" name=""/>
            <p:cNvSpPr/>
            <p:nvPr/>
          </p:nvSpPr>
          <p:spPr>
            <a:xfrm flipV="1">
              <a:off x="6095880" y="5654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019560" y="5654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334120" y="4952880"/>
            <a:ext cx="2195280" cy="1184400"/>
            <a:chOff x="5334120" y="4952880"/>
            <a:chExt cx="2195280" cy="1184400"/>
          </a:xfrm>
        </p:grpSpPr>
        <p:pic>
          <p:nvPicPr>
            <p:cNvPr id="198" name="" descr=""/>
            <p:cNvPicPr/>
            <p:nvPr/>
          </p:nvPicPr>
          <p:blipFill>
            <a:blip r:embed="rId19"/>
            <a:stretch/>
          </p:blipFill>
          <p:spPr>
            <a:xfrm>
              <a:off x="6735600" y="5802480"/>
              <a:ext cx="2034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730840" y="5122800"/>
              <a:ext cx="750960" cy="288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0840" y="5151600"/>
              <a:ext cx="28440" cy="6508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30840" y="5802480"/>
              <a:ext cx="750960" cy="284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53360" y="5122800"/>
              <a:ext cx="750600" cy="288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3360" y="5151600"/>
              <a:ext cx="28440" cy="6508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53360" y="5802480"/>
              <a:ext cx="750600" cy="284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75520" y="5151600"/>
              <a:ext cx="28440" cy="6508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89640" y="5562720"/>
              <a:ext cx="269640" cy="27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89640" y="5562720"/>
              <a:ext cx="269640" cy="270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9640" y="5562720"/>
              <a:ext cx="269640" cy="270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89640" y="5802480"/>
              <a:ext cx="269640" cy="284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75520" y="5646600"/>
              <a:ext cx="112680" cy="14148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71" y="71"/>
                  </a:lnTo>
                  <a:lnTo>
                    <a:pt x="71" y="89"/>
                  </a:lnTo>
                  <a:lnTo>
                    <a:pt x="54" y="89"/>
                  </a:lnTo>
                  <a:lnTo>
                    <a:pt x="0" y="18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61200" y="5646600"/>
              <a:ext cx="98280" cy="141480"/>
            </a:xfrm>
            <a:custGeom>
              <a:avLst/>
              <a:gdLst/>
              <a:ahLst/>
              <a:rect l="l" t="t" r="r" b="b"/>
              <a:pathLst>
                <a:path w="62" h="89">
                  <a:moveTo>
                    <a:pt x="44" y="0"/>
                  </a:moveTo>
                  <a:lnTo>
                    <a:pt x="62" y="0"/>
                  </a:lnTo>
                  <a:lnTo>
                    <a:pt x="62" y="18"/>
                  </a:lnTo>
                  <a:lnTo>
                    <a:pt x="17" y="89"/>
                  </a:lnTo>
                  <a:lnTo>
                    <a:pt x="0" y="89"/>
                  </a:lnTo>
                  <a:lnTo>
                    <a:pt x="0" y="71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31040" y="5646600"/>
              <a:ext cx="114480" cy="14148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0" y="1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72" y="71"/>
                  </a:lnTo>
                  <a:lnTo>
                    <a:pt x="72" y="89"/>
                  </a:lnTo>
                  <a:lnTo>
                    <a:pt x="54" y="89"/>
                  </a:lnTo>
                  <a:lnTo>
                    <a:pt x="0" y="18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16720" y="5646600"/>
              <a:ext cx="112680" cy="14148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53" y="0"/>
                  </a:moveTo>
                  <a:lnTo>
                    <a:pt x="71" y="0"/>
                  </a:lnTo>
                  <a:lnTo>
                    <a:pt x="71" y="18"/>
                  </a:lnTo>
                  <a:lnTo>
                    <a:pt x="18" y="89"/>
                  </a:lnTo>
                  <a:lnTo>
                    <a:pt x="0" y="89"/>
                  </a:lnTo>
                  <a:lnTo>
                    <a:pt x="0" y="71"/>
                  </a:lnTo>
                  <a:lnTo>
                    <a:pt x="53" y="0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5689440"/>
              <a:ext cx="183960" cy="288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07240" y="4952880"/>
              <a:ext cx="28440" cy="18432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99000" y="5575320"/>
              <a:ext cx="0" cy="241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959200" y="3809880"/>
            <a:ext cx="1689120" cy="0"/>
            <a:chOff x="2959200" y="3809880"/>
            <a:chExt cx="1689120" cy="0"/>
          </a:xfrm>
        </p:grpSpPr>
        <p:sp>
          <p:nvSpPr>
            <p:cNvPr id="218" name=""/>
            <p:cNvSpPr/>
            <p:nvPr/>
          </p:nvSpPr>
          <p:spPr>
            <a:xfrm>
              <a:off x="2959200" y="380988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11760" y="380988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610480" y="5334120"/>
            <a:ext cx="3812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1676520"/>
            <a:ext cx="4876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Algèbre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2-Cablage d’un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Opérateurs 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-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-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92880" y="501156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60480" y="3805200"/>
            <a:ext cx="474840" cy="230400"/>
          </a:xfrm>
          <a:custGeom>
            <a:avLst/>
            <a:gdLst/>
            <a:ahLst/>
            <a:rect l="l" t="t" r="r" b="b"/>
            <a:pathLst>
              <a:path w="299" h="145">
                <a:moveTo>
                  <a:pt x="281" y="0"/>
                </a:moveTo>
                <a:lnTo>
                  <a:pt x="299" y="0"/>
                </a:lnTo>
                <a:lnTo>
                  <a:pt x="299" y="18"/>
                </a:lnTo>
                <a:lnTo>
                  <a:pt x="19" y="145"/>
                </a:lnTo>
                <a:lnTo>
                  <a:pt x="0" y="145"/>
                </a:lnTo>
                <a:lnTo>
                  <a:pt x="0" y="127"/>
                </a:lnTo>
                <a:lnTo>
                  <a:pt x="28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84760" y="3575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44600" y="3533760"/>
            <a:ext cx="2614680" cy="573120"/>
            <a:chOff x="1344600" y="3533760"/>
            <a:chExt cx="2614680" cy="573120"/>
          </a:xfrm>
        </p:grpSpPr>
        <p:sp>
          <p:nvSpPr>
            <p:cNvPr id="227" name=""/>
            <p:cNvSpPr/>
            <p:nvPr/>
          </p:nvSpPr>
          <p:spPr>
            <a:xfrm>
              <a:off x="2320920" y="3819600"/>
              <a:ext cx="574560" cy="14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44600" y="3819600"/>
              <a:ext cx="501840" cy="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0320" y="3819600"/>
              <a:ext cx="588960" cy="14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3533760"/>
              <a:ext cx="15840" cy="573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4600" y="3533760"/>
              <a:ext cx="14400" cy="57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284840" y="446580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71800" y="324468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05200" y="3287880"/>
            <a:ext cx="55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2960" y="3000240"/>
            <a:ext cx="125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99"/>
                </a:solidFill>
                <a:uFillTx/>
                <a:latin typeface="Arial"/>
              </a:rPr>
              <a:t>Table de vé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09360" y="379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98720" y="377676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4200" y="3505320"/>
            <a:ext cx="164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ff0099"/>
                </a:solidFill>
                <a:uFillTx/>
                <a:latin typeface="Arial"/>
              </a:rPr>
              <a:t>Equations log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8600" y="2743200"/>
            <a:ext cx="171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99"/>
                </a:solidFill>
                <a:uFillTx/>
                <a:latin typeface="Arial"/>
              </a:rPr>
              <a:t>Schémas à cont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25840" y="4508640"/>
            <a:ext cx="6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a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55360" y="472428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com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44960" y="3575160"/>
            <a:ext cx="71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a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80240" y="379080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pu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52480" y="4724280"/>
            <a:ext cx="51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6680" y="339084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dd"/>
                </a:solidFill>
                <a:latin typeface="Arial"/>
              </a:rPr>
              <a:t>entré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44720" y="3405240"/>
            <a:ext cx="34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d0000"/>
                </a:solidFill>
                <a:latin typeface="Arial"/>
              </a:rPr>
              <a:t>sort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31960" y="4581360"/>
            <a:ext cx="833400" cy="185760"/>
            <a:chOff x="1731960" y="4581360"/>
            <a:chExt cx="833400" cy="185760"/>
          </a:xfrm>
        </p:grpSpPr>
        <p:sp>
          <p:nvSpPr>
            <p:cNvPr id="248" name=""/>
            <p:cNvSpPr/>
            <p:nvPr/>
          </p:nvSpPr>
          <p:spPr>
            <a:xfrm>
              <a:off x="1731960" y="4581360"/>
              <a:ext cx="230040" cy="14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78080" y="4753080"/>
              <a:ext cx="287280" cy="14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119320" y="3935520"/>
            <a:ext cx="14400" cy="473040"/>
            <a:chOff x="2119320" y="3935520"/>
            <a:chExt cx="14400" cy="473040"/>
          </a:xfrm>
        </p:grpSpPr>
        <p:sp>
          <p:nvSpPr>
            <p:cNvPr id="251" name=""/>
            <p:cNvSpPr/>
            <p:nvPr/>
          </p:nvSpPr>
          <p:spPr>
            <a:xfrm>
              <a:off x="2119320" y="3935520"/>
              <a:ext cx="14400" cy="128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19320" y="4106880"/>
              <a:ext cx="14400" cy="115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19320" y="4280040"/>
              <a:ext cx="14400" cy="128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867040" y="3562200"/>
            <a:ext cx="503280" cy="501840"/>
            <a:chOff x="2867040" y="3562200"/>
            <a:chExt cx="503280" cy="501840"/>
          </a:xfrm>
        </p:grpSpPr>
        <p:sp>
          <p:nvSpPr>
            <p:cNvPr id="255" name=""/>
            <p:cNvSpPr/>
            <p:nvPr/>
          </p:nvSpPr>
          <p:spPr>
            <a:xfrm>
              <a:off x="2867040" y="3562200"/>
              <a:ext cx="503280" cy="501840"/>
            </a:xfrm>
            <a:custGeom>
              <a:avLst/>
              <a:gdLst/>
              <a:ahLst/>
              <a:rect l="l" t="t" r="r" b="b"/>
              <a:pathLst>
                <a:path w="317" h="316">
                  <a:moveTo>
                    <a:pt x="163" y="0"/>
                  </a:moveTo>
                  <a:lnTo>
                    <a:pt x="172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9" y="9"/>
                  </a:lnTo>
                  <a:lnTo>
                    <a:pt x="208" y="9"/>
                  </a:lnTo>
                  <a:lnTo>
                    <a:pt x="226" y="18"/>
                  </a:lnTo>
                  <a:lnTo>
                    <a:pt x="235" y="18"/>
                  </a:lnTo>
                  <a:lnTo>
                    <a:pt x="244" y="27"/>
                  </a:lnTo>
                  <a:lnTo>
                    <a:pt x="253" y="27"/>
                  </a:lnTo>
                  <a:lnTo>
                    <a:pt x="262" y="36"/>
                  </a:lnTo>
                  <a:lnTo>
                    <a:pt x="271" y="45"/>
                  </a:lnTo>
                  <a:lnTo>
                    <a:pt x="280" y="54"/>
                  </a:lnTo>
                  <a:lnTo>
                    <a:pt x="280" y="63"/>
                  </a:lnTo>
                  <a:lnTo>
                    <a:pt x="289" y="72"/>
                  </a:lnTo>
                  <a:lnTo>
                    <a:pt x="298" y="81"/>
                  </a:lnTo>
                  <a:lnTo>
                    <a:pt x="298" y="90"/>
                  </a:lnTo>
                  <a:lnTo>
                    <a:pt x="307" y="99"/>
                  </a:lnTo>
                  <a:lnTo>
                    <a:pt x="307" y="108"/>
                  </a:lnTo>
                  <a:lnTo>
                    <a:pt x="307" y="117"/>
                  </a:lnTo>
                  <a:lnTo>
                    <a:pt x="317" y="126"/>
                  </a:lnTo>
                  <a:lnTo>
                    <a:pt x="317" y="144"/>
                  </a:lnTo>
                  <a:lnTo>
                    <a:pt x="317" y="153"/>
                  </a:lnTo>
                  <a:lnTo>
                    <a:pt x="317" y="162"/>
                  </a:lnTo>
                  <a:lnTo>
                    <a:pt x="317" y="171"/>
                  </a:lnTo>
                  <a:lnTo>
                    <a:pt x="317" y="190"/>
                  </a:lnTo>
                  <a:lnTo>
                    <a:pt x="307" y="199"/>
                  </a:lnTo>
                  <a:lnTo>
                    <a:pt x="307" y="208"/>
                  </a:lnTo>
                  <a:lnTo>
                    <a:pt x="307" y="217"/>
                  </a:lnTo>
                  <a:lnTo>
                    <a:pt x="298" y="226"/>
                  </a:lnTo>
                  <a:lnTo>
                    <a:pt x="298" y="235"/>
                  </a:lnTo>
                  <a:lnTo>
                    <a:pt x="289" y="244"/>
                  </a:lnTo>
                  <a:lnTo>
                    <a:pt x="280" y="253"/>
                  </a:lnTo>
                  <a:lnTo>
                    <a:pt x="280" y="262"/>
                  </a:lnTo>
                  <a:lnTo>
                    <a:pt x="271" y="271"/>
                  </a:lnTo>
                  <a:lnTo>
                    <a:pt x="262" y="280"/>
                  </a:lnTo>
                  <a:lnTo>
                    <a:pt x="253" y="289"/>
                  </a:lnTo>
                  <a:lnTo>
                    <a:pt x="244" y="289"/>
                  </a:lnTo>
                  <a:lnTo>
                    <a:pt x="235" y="298"/>
                  </a:lnTo>
                  <a:lnTo>
                    <a:pt x="226" y="298"/>
                  </a:lnTo>
                  <a:lnTo>
                    <a:pt x="208" y="307"/>
                  </a:lnTo>
                  <a:lnTo>
                    <a:pt x="199" y="307"/>
                  </a:lnTo>
                  <a:lnTo>
                    <a:pt x="190" y="316"/>
                  </a:lnTo>
                  <a:lnTo>
                    <a:pt x="181" y="316"/>
                  </a:lnTo>
                  <a:lnTo>
                    <a:pt x="172" y="316"/>
                  </a:lnTo>
                  <a:lnTo>
                    <a:pt x="163" y="316"/>
                  </a:lnTo>
                  <a:lnTo>
                    <a:pt x="145" y="316"/>
                  </a:lnTo>
                  <a:lnTo>
                    <a:pt x="136" y="316"/>
                  </a:lnTo>
                  <a:lnTo>
                    <a:pt x="126" y="316"/>
                  </a:lnTo>
                  <a:lnTo>
                    <a:pt x="117" y="307"/>
                  </a:lnTo>
                  <a:lnTo>
                    <a:pt x="108" y="307"/>
                  </a:lnTo>
                  <a:lnTo>
                    <a:pt x="90" y="298"/>
                  </a:lnTo>
                  <a:lnTo>
                    <a:pt x="81" y="298"/>
                  </a:lnTo>
                  <a:lnTo>
                    <a:pt x="72" y="289"/>
                  </a:lnTo>
                  <a:lnTo>
                    <a:pt x="63" y="289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6" y="262"/>
                  </a:lnTo>
                  <a:lnTo>
                    <a:pt x="36" y="253"/>
                  </a:lnTo>
                  <a:lnTo>
                    <a:pt x="27" y="244"/>
                  </a:lnTo>
                  <a:lnTo>
                    <a:pt x="18" y="235"/>
                  </a:lnTo>
                  <a:lnTo>
                    <a:pt x="18" y="226"/>
                  </a:lnTo>
                  <a:lnTo>
                    <a:pt x="9" y="217"/>
                  </a:lnTo>
                  <a:lnTo>
                    <a:pt x="9" y="208"/>
                  </a:lnTo>
                  <a:lnTo>
                    <a:pt x="9" y="19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26"/>
                  </a:lnTo>
                  <a:lnTo>
                    <a:pt x="9" y="117"/>
                  </a:lnTo>
                  <a:lnTo>
                    <a:pt x="9" y="108"/>
                  </a:lnTo>
                  <a:lnTo>
                    <a:pt x="9" y="99"/>
                  </a:lnTo>
                  <a:lnTo>
                    <a:pt x="18" y="90"/>
                  </a:lnTo>
                  <a:lnTo>
                    <a:pt x="18" y="81"/>
                  </a:lnTo>
                  <a:lnTo>
                    <a:pt x="27" y="72"/>
                  </a:lnTo>
                  <a:lnTo>
                    <a:pt x="36" y="63"/>
                  </a:lnTo>
                  <a:lnTo>
                    <a:pt x="36" y="54"/>
                  </a:lnTo>
                  <a:lnTo>
                    <a:pt x="45" y="45"/>
                  </a:lnTo>
                  <a:lnTo>
                    <a:pt x="54" y="36"/>
                  </a:lnTo>
                  <a:lnTo>
                    <a:pt x="63" y="27"/>
                  </a:lnTo>
                  <a:lnTo>
                    <a:pt x="72" y="27"/>
                  </a:lnTo>
                  <a:lnTo>
                    <a:pt x="81" y="18"/>
                  </a:lnTo>
                  <a:lnTo>
                    <a:pt x="90" y="18"/>
                  </a:lnTo>
                  <a:lnTo>
                    <a:pt x="108" y="9"/>
                  </a:lnTo>
                  <a:lnTo>
                    <a:pt x="117" y="9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63" y="162"/>
                  </a:lnTo>
                  <a:lnTo>
                    <a:pt x="16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67040" y="3562200"/>
              <a:ext cx="503280" cy="501840"/>
            </a:xfrm>
            <a:custGeom>
              <a:avLst/>
              <a:gdLst/>
              <a:ahLst/>
              <a:rect l="l" t="t" r="r" b="b"/>
              <a:pathLst>
                <a:path w="317" h="316">
                  <a:moveTo>
                    <a:pt x="163" y="0"/>
                  </a:moveTo>
                  <a:lnTo>
                    <a:pt x="172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9" y="9"/>
                  </a:lnTo>
                  <a:lnTo>
                    <a:pt x="208" y="9"/>
                  </a:lnTo>
                  <a:lnTo>
                    <a:pt x="226" y="18"/>
                  </a:lnTo>
                  <a:lnTo>
                    <a:pt x="235" y="18"/>
                  </a:lnTo>
                  <a:lnTo>
                    <a:pt x="244" y="27"/>
                  </a:lnTo>
                  <a:lnTo>
                    <a:pt x="253" y="27"/>
                  </a:lnTo>
                  <a:lnTo>
                    <a:pt x="262" y="36"/>
                  </a:lnTo>
                  <a:lnTo>
                    <a:pt x="271" y="45"/>
                  </a:lnTo>
                  <a:lnTo>
                    <a:pt x="280" y="54"/>
                  </a:lnTo>
                  <a:lnTo>
                    <a:pt x="280" y="63"/>
                  </a:lnTo>
                  <a:lnTo>
                    <a:pt x="289" y="72"/>
                  </a:lnTo>
                  <a:lnTo>
                    <a:pt x="298" y="81"/>
                  </a:lnTo>
                  <a:lnTo>
                    <a:pt x="298" y="90"/>
                  </a:lnTo>
                  <a:lnTo>
                    <a:pt x="307" y="99"/>
                  </a:lnTo>
                  <a:lnTo>
                    <a:pt x="307" y="108"/>
                  </a:lnTo>
                  <a:lnTo>
                    <a:pt x="307" y="117"/>
                  </a:lnTo>
                  <a:lnTo>
                    <a:pt x="317" y="126"/>
                  </a:lnTo>
                  <a:lnTo>
                    <a:pt x="317" y="144"/>
                  </a:lnTo>
                  <a:lnTo>
                    <a:pt x="317" y="153"/>
                  </a:lnTo>
                  <a:lnTo>
                    <a:pt x="317" y="162"/>
                  </a:lnTo>
                  <a:lnTo>
                    <a:pt x="317" y="171"/>
                  </a:lnTo>
                  <a:lnTo>
                    <a:pt x="317" y="190"/>
                  </a:lnTo>
                  <a:lnTo>
                    <a:pt x="307" y="199"/>
                  </a:lnTo>
                  <a:lnTo>
                    <a:pt x="307" y="208"/>
                  </a:lnTo>
                  <a:lnTo>
                    <a:pt x="307" y="217"/>
                  </a:lnTo>
                  <a:lnTo>
                    <a:pt x="298" y="226"/>
                  </a:lnTo>
                  <a:lnTo>
                    <a:pt x="298" y="235"/>
                  </a:lnTo>
                  <a:lnTo>
                    <a:pt x="289" y="244"/>
                  </a:lnTo>
                  <a:lnTo>
                    <a:pt x="280" y="253"/>
                  </a:lnTo>
                  <a:lnTo>
                    <a:pt x="280" y="262"/>
                  </a:lnTo>
                  <a:lnTo>
                    <a:pt x="271" y="271"/>
                  </a:lnTo>
                  <a:lnTo>
                    <a:pt x="262" y="280"/>
                  </a:lnTo>
                  <a:lnTo>
                    <a:pt x="253" y="289"/>
                  </a:lnTo>
                  <a:lnTo>
                    <a:pt x="244" y="289"/>
                  </a:lnTo>
                  <a:lnTo>
                    <a:pt x="235" y="298"/>
                  </a:lnTo>
                  <a:lnTo>
                    <a:pt x="226" y="298"/>
                  </a:lnTo>
                  <a:lnTo>
                    <a:pt x="208" y="307"/>
                  </a:lnTo>
                  <a:lnTo>
                    <a:pt x="199" y="307"/>
                  </a:lnTo>
                  <a:lnTo>
                    <a:pt x="190" y="316"/>
                  </a:lnTo>
                  <a:lnTo>
                    <a:pt x="181" y="316"/>
                  </a:lnTo>
                  <a:lnTo>
                    <a:pt x="172" y="316"/>
                  </a:lnTo>
                  <a:lnTo>
                    <a:pt x="163" y="316"/>
                  </a:lnTo>
                  <a:lnTo>
                    <a:pt x="145" y="316"/>
                  </a:lnTo>
                  <a:lnTo>
                    <a:pt x="136" y="316"/>
                  </a:lnTo>
                  <a:lnTo>
                    <a:pt x="126" y="316"/>
                  </a:lnTo>
                  <a:lnTo>
                    <a:pt x="117" y="307"/>
                  </a:lnTo>
                  <a:lnTo>
                    <a:pt x="108" y="307"/>
                  </a:lnTo>
                  <a:lnTo>
                    <a:pt x="90" y="298"/>
                  </a:lnTo>
                  <a:lnTo>
                    <a:pt x="81" y="298"/>
                  </a:lnTo>
                  <a:lnTo>
                    <a:pt x="72" y="289"/>
                  </a:lnTo>
                  <a:lnTo>
                    <a:pt x="63" y="289"/>
                  </a:lnTo>
                  <a:lnTo>
                    <a:pt x="54" y="280"/>
                  </a:lnTo>
                  <a:lnTo>
                    <a:pt x="45" y="271"/>
                  </a:lnTo>
                  <a:lnTo>
                    <a:pt x="36" y="262"/>
                  </a:lnTo>
                  <a:lnTo>
                    <a:pt x="36" y="253"/>
                  </a:lnTo>
                  <a:lnTo>
                    <a:pt x="27" y="244"/>
                  </a:lnTo>
                  <a:lnTo>
                    <a:pt x="18" y="235"/>
                  </a:lnTo>
                  <a:lnTo>
                    <a:pt x="18" y="226"/>
                  </a:lnTo>
                  <a:lnTo>
                    <a:pt x="9" y="217"/>
                  </a:lnTo>
                  <a:lnTo>
                    <a:pt x="9" y="208"/>
                  </a:lnTo>
                  <a:lnTo>
                    <a:pt x="9" y="199"/>
                  </a:lnTo>
                  <a:lnTo>
                    <a:pt x="0" y="190"/>
                  </a:lnTo>
                  <a:lnTo>
                    <a:pt x="0" y="171"/>
                  </a:lnTo>
                  <a:lnTo>
                    <a:pt x="0" y="162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26"/>
                  </a:lnTo>
                  <a:lnTo>
                    <a:pt x="9" y="117"/>
                  </a:lnTo>
                  <a:lnTo>
                    <a:pt x="9" y="108"/>
                  </a:lnTo>
                  <a:lnTo>
                    <a:pt x="9" y="99"/>
                  </a:lnTo>
                  <a:lnTo>
                    <a:pt x="18" y="90"/>
                  </a:lnTo>
                  <a:lnTo>
                    <a:pt x="18" y="81"/>
                  </a:lnTo>
                  <a:lnTo>
                    <a:pt x="27" y="72"/>
                  </a:lnTo>
                  <a:lnTo>
                    <a:pt x="36" y="63"/>
                  </a:lnTo>
                  <a:lnTo>
                    <a:pt x="36" y="54"/>
                  </a:lnTo>
                  <a:lnTo>
                    <a:pt x="45" y="45"/>
                  </a:lnTo>
                  <a:lnTo>
                    <a:pt x="54" y="36"/>
                  </a:lnTo>
                  <a:lnTo>
                    <a:pt x="63" y="27"/>
                  </a:lnTo>
                  <a:lnTo>
                    <a:pt x="72" y="27"/>
                  </a:lnTo>
                  <a:lnTo>
                    <a:pt x="81" y="18"/>
                  </a:lnTo>
                  <a:lnTo>
                    <a:pt x="90" y="18"/>
                  </a:lnTo>
                  <a:lnTo>
                    <a:pt x="108" y="9"/>
                  </a:lnTo>
                  <a:lnTo>
                    <a:pt x="117" y="9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63" y="0"/>
                  </a:lnTo>
                  <a:close/>
                  <a:moveTo>
                    <a:pt x="163" y="18"/>
                  </a:moveTo>
                  <a:lnTo>
                    <a:pt x="172" y="18"/>
                  </a:lnTo>
                  <a:lnTo>
                    <a:pt x="181" y="18"/>
                  </a:lnTo>
                  <a:lnTo>
                    <a:pt x="190" y="18"/>
                  </a:lnTo>
                  <a:lnTo>
                    <a:pt x="199" y="27"/>
                  </a:lnTo>
                  <a:lnTo>
                    <a:pt x="208" y="27"/>
                  </a:lnTo>
                  <a:lnTo>
                    <a:pt x="217" y="27"/>
                  </a:lnTo>
                  <a:lnTo>
                    <a:pt x="226" y="36"/>
                  </a:lnTo>
                  <a:lnTo>
                    <a:pt x="235" y="36"/>
                  </a:lnTo>
                  <a:lnTo>
                    <a:pt x="244" y="45"/>
                  </a:lnTo>
                  <a:lnTo>
                    <a:pt x="244" y="54"/>
                  </a:lnTo>
                  <a:lnTo>
                    <a:pt x="253" y="54"/>
                  </a:lnTo>
                  <a:lnTo>
                    <a:pt x="262" y="63"/>
                  </a:lnTo>
                  <a:lnTo>
                    <a:pt x="271" y="72"/>
                  </a:lnTo>
                  <a:lnTo>
                    <a:pt x="271" y="81"/>
                  </a:lnTo>
                  <a:lnTo>
                    <a:pt x="280" y="90"/>
                  </a:lnTo>
                  <a:lnTo>
                    <a:pt x="280" y="99"/>
                  </a:lnTo>
                  <a:lnTo>
                    <a:pt x="289" y="108"/>
                  </a:lnTo>
                  <a:lnTo>
                    <a:pt x="289" y="117"/>
                  </a:lnTo>
                  <a:lnTo>
                    <a:pt x="298" y="126"/>
                  </a:lnTo>
                  <a:lnTo>
                    <a:pt x="298" y="135"/>
                  </a:lnTo>
                  <a:lnTo>
                    <a:pt x="298" y="144"/>
                  </a:lnTo>
                  <a:lnTo>
                    <a:pt x="298" y="153"/>
                  </a:lnTo>
                  <a:lnTo>
                    <a:pt x="298" y="162"/>
                  </a:lnTo>
                  <a:lnTo>
                    <a:pt x="298" y="171"/>
                  </a:lnTo>
                  <a:lnTo>
                    <a:pt x="298" y="181"/>
                  </a:lnTo>
                  <a:lnTo>
                    <a:pt x="298" y="190"/>
                  </a:lnTo>
                  <a:lnTo>
                    <a:pt x="289" y="199"/>
                  </a:lnTo>
                  <a:lnTo>
                    <a:pt x="289" y="208"/>
                  </a:lnTo>
                  <a:lnTo>
                    <a:pt x="280" y="217"/>
                  </a:lnTo>
                  <a:lnTo>
                    <a:pt x="280" y="226"/>
                  </a:lnTo>
                  <a:lnTo>
                    <a:pt x="271" y="235"/>
                  </a:lnTo>
                  <a:lnTo>
                    <a:pt x="271" y="244"/>
                  </a:lnTo>
                  <a:lnTo>
                    <a:pt x="262" y="253"/>
                  </a:lnTo>
                  <a:lnTo>
                    <a:pt x="253" y="262"/>
                  </a:lnTo>
                  <a:lnTo>
                    <a:pt x="244" y="262"/>
                  </a:lnTo>
                  <a:lnTo>
                    <a:pt x="244" y="271"/>
                  </a:lnTo>
                  <a:lnTo>
                    <a:pt x="235" y="280"/>
                  </a:lnTo>
                  <a:lnTo>
                    <a:pt x="226" y="280"/>
                  </a:lnTo>
                  <a:lnTo>
                    <a:pt x="217" y="289"/>
                  </a:lnTo>
                  <a:lnTo>
                    <a:pt x="208" y="289"/>
                  </a:lnTo>
                  <a:lnTo>
                    <a:pt x="199" y="289"/>
                  </a:lnTo>
                  <a:lnTo>
                    <a:pt x="190" y="298"/>
                  </a:lnTo>
                  <a:lnTo>
                    <a:pt x="181" y="298"/>
                  </a:lnTo>
                  <a:lnTo>
                    <a:pt x="172" y="298"/>
                  </a:lnTo>
                  <a:lnTo>
                    <a:pt x="163" y="298"/>
                  </a:lnTo>
                  <a:lnTo>
                    <a:pt x="145" y="298"/>
                  </a:lnTo>
                  <a:lnTo>
                    <a:pt x="136" y="298"/>
                  </a:lnTo>
                  <a:lnTo>
                    <a:pt x="126" y="298"/>
                  </a:lnTo>
                  <a:lnTo>
                    <a:pt x="117" y="289"/>
                  </a:lnTo>
                  <a:lnTo>
                    <a:pt x="108" y="289"/>
                  </a:lnTo>
                  <a:lnTo>
                    <a:pt x="99" y="289"/>
                  </a:lnTo>
                  <a:lnTo>
                    <a:pt x="90" y="280"/>
                  </a:lnTo>
                  <a:lnTo>
                    <a:pt x="81" y="280"/>
                  </a:lnTo>
                  <a:lnTo>
                    <a:pt x="72" y="271"/>
                  </a:lnTo>
                  <a:lnTo>
                    <a:pt x="72" y="262"/>
                  </a:lnTo>
                  <a:lnTo>
                    <a:pt x="63" y="262"/>
                  </a:lnTo>
                  <a:lnTo>
                    <a:pt x="54" y="253"/>
                  </a:lnTo>
                  <a:lnTo>
                    <a:pt x="45" y="244"/>
                  </a:lnTo>
                  <a:lnTo>
                    <a:pt x="45" y="235"/>
                  </a:lnTo>
                  <a:lnTo>
                    <a:pt x="36" y="226"/>
                  </a:lnTo>
                  <a:lnTo>
                    <a:pt x="36" y="217"/>
                  </a:lnTo>
                  <a:lnTo>
                    <a:pt x="27" y="208"/>
                  </a:lnTo>
                  <a:lnTo>
                    <a:pt x="27" y="199"/>
                  </a:lnTo>
                  <a:lnTo>
                    <a:pt x="18" y="190"/>
                  </a:lnTo>
                  <a:lnTo>
                    <a:pt x="18" y="181"/>
                  </a:lnTo>
                  <a:lnTo>
                    <a:pt x="18" y="171"/>
                  </a:lnTo>
                  <a:lnTo>
                    <a:pt x="18" y="162"/>
                  </a:lnTo>
                  <a:lnTo>
                    <a:pt x="18" y="153"/>
                  </a:lnTo>
                  <a:lnTo>
                    <a:pt x="18" y="144"/>
                  </a:lnTo>
                  <a:lnTo>
                    <a:pt x="18" y="135"/>
                  </a:lnTo>
                  <a:lnTo>
                    <a:pt x="18" y="126"/>
                  </a:lnTo>
                  <a:lnTo>
                    <a:pt x="27" y="117"/>
                  </a:lnTo>
                  <a:lnTo>
                    <a:pt x="27" y="108"/>
                  </a:lnTo>
                  <a:lnTo>
                    <a:pt x="36" y="99"/>
                  </a:lnTo>
                  <a:lnTo>
                    <a:pt x="36" y="90"/>
                  </a:lnTo>
                  <a:lnTo>
                    <a:pt x="45" y="81"/>
                  </a:lnTo>
                  <a:lnTo>
                    <a:pt x="45" y="72"/>
                  </a:lnTo>
                  <a:lnTo>
                    <a:pt x="54" y="63"/>
                  </a:lnTo>
                  <a:lnTo>
                    <a:pt x="63" y="54"/>
                  </a:lnTo>
                  <a:lnTo>
                    <a:pt x="72" y="54"/>
                  </a:lnTo>
                  <a:lnTo>
                    <a:pt x="72" y="45"/>
                  </a:lnTo>
                  <a:lnTo>
                    <a:pt x="81" y="36"/>
                  </a:lnTo>
                  <a:lnTo>
                    <a:pt x="90" y="36"/>
                  </a:lnTo>
                  <a:lnTo>
                    <a:pt x="99" y="27"/>
                  </a:lnTo>
                  <a:lnTo>
                    <a:pt x="108" y="27"/>
                  </a:lnTo>
                  <a:lnTo>
                    <a:pt x="117" y="27"/>
                  </a:lnTo>
                  <a:lnTo>
                    <a:pt x="126" y="18"/>
                  </a:lnTo>
                  <a:lnTo>
                    <a:pt x="136" y="18"/>
                  </a:lnTo>
                  <a:lnTo>
                    <a:pt x="145" y="18"/>
                  </a:lnTo>
                  <a:lnTo>
                    <a:pt x="163" y="1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83040" y="3618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dd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1160" y="3892680"/>
              <a:ext cx="258840" cy="284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124600" y="4086360"/>
            <a:ext cx="747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 d’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11440" y="460692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6640" y="4086360"/>
            <a:ext cx="85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 tourne p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9000" y="46069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ur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29200" y="3657600"/>
            <a:ext cx="1981080" cy="1447920"/>
            <a:chOff x="5029200" y="3657600"/>
            <a:chExt cx="1981080" cy="1447920"/>
          </a:xfrm>
        </p:grpSpPr>
        <p:sp>
          <p:nvSpPr>
            <p:cNvPr id="264" name=""/>
            <p:cNvSpPr/>
            <p:nvPr/>
          </p:nvSpPr>
          <p:spPr>
            <a:xfrm>
              <a:off x="5029200" y="3657600"/>
              <a:ext cx="19810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9200" y="4038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4572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365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32592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5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224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56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57400" y="-152280"/>
            <a:ext cx="5151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1905120"/>
            <a:ext cx="3505320" cy="3189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39040" y="1944720"/>
            <a:ext cx="3822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3366cc"/>
                </a:solidFill>
                <a:latin typeface="Arial"/>
              </a:rPr>
              <a:t>2-Cablage d’un moteur électr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33560" y="4394160"/>
            <a:ext cx="372960" cy="574560"/>
            <a:chOff x="1933560" y="4394160"/>
            <a:chExt cx="372960" cy="574560"/>
          </a:xfrm>
        </p:grpSpPr>
        <p:sp>
          <p:nvSpPr>
            <p:cNvPr id="276" name=""/>
            <p:cNvSpPr/>
            <p:nvPr/>
          </p:nvSpPr>
          <p:spPr>
            <a:xfrm>
              <a:off x="1933560" y="4394160"/>
              <a:ext cx="372960" cy="574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33560" y="4394160"/>
              <a:ext cx="372960" cy="28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33560" y="4422600"/>
              <a:ext cx="28440" cy="5176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33560" y="4940280"/>
              <a:ext cx="372960" cy="284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8080" y="4422600"/>
              <a:ext cx="28440" cy="517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43280" y="4584600"/>
              <a:ext cx="342720" cy="1652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044080" y="46990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dd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3886200"/>
            <a:ext cx="914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4572000"/>
            <a:ext cx="914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039160" y="4025880"/>
            <a:ext cx="547560" cy="296280"/>
            <a:chOff x="8039160" y="4025880"/>
            <a:chExt cx="547560" cy="296280"/>
          </a:xfrm>
        </p:grpSpPr>
        <p:sp>
          <p:nvSpPr>
            <p:cNvPr id="286" name=""/>
            <p:cNvSpPr/>
            <p:nvPr/>
          </p:nvSpPr>
          <p:spPr>
            <a:xfrm>
              <a:off x="8044560" y="40784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 =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39160" y="4025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34440" y="4025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91680" y="1066680"/>
            <a:ext cx="51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Algèbre de Bo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Cablage  d’un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3-Opérateurs logiques (Cf docu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-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-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52640" y="4813200"/>
            <a:ext cx="1455480" cy="1712880"/>
            <a:chOff x="1052640" y="4813200"/>
            <a:chExt cx="1455480" cy="1712880"/>
          </a:xfrm>
        </p:grpSpPr>
        <p:sp>
          <p:nvSpPr>
            <p:cNvPr id="292" name=""/>
            <p:cNvSpPr/>
            <p:nvPr/>
          </p:nvSpPr>
          <p:spPr>
            <a:xfrm>
              <a:off x="1052640" y="4813200"/>
              <a:ext cx="1455480" cy="171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52640" y="4813200"/>
              <a:ext cx="1455480" cy="4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2640" y="4859280"/>
              <a:ext cx="46080" cy="162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2640" y="6480000"/>
              <a:ext cx="1455480" cy="46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2040" y="4859280"/>
              <a:ext cx="46080" cy="162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92240" y="4813200"/>
              <a:ext cx="30240" cy="17128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52640" y="5283000"/>
              <a:ext cx="1455480" cy="30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38280" y="4829040"/>
              <a:ext cx="14400" cy="169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19520" y="2666880"/>
            <a:ext cx="855720" cy="1262160"/>
            <a:chOff x="2819520" y="2666880"/>
            <a:chExt cx="855720" cy="1262160"/>
          </a:xfrm>
        </p:grpSpPr>
        <p:sp>
          <p:nvSpPr>
            <p:cNvPr id="301" name=""/>
            <p:cNvSpPr/>
            <p:nvPr/>
          </p:nvSpPr>
          <p:spPr>
            <a:xfrm>
              <a:off x="2819520" y="2666880"/>
              <a:ext cx="855720" cy="1262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>
              <a:off x="2819520" y="2666880"/>
              <a:ext cx="8557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1"/>
            <a:stretch/>
          </p:blipFill>
          <p:spPr>
            <a:xfrm>
              <a:off x="2819520" y="2776680"/>
              <a:ext cx="8557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12"/>
            <a:stretch/>
          </p:blipFill>
          <p:spPr>
            <a:xfrm>
              <a:off x="2819520" y="2886120"/>
              <a:ext cx="8557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13"/>
            <a:stretch/>
          </p:blipFill>
          <p:spPr>
            <a:xfrm>
              <a:off x="2819520" y="3009960"/>
              <a:ext cx="8557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14"/>
            <a:stretch/>
          </p:blipFill>
          <p:spPr>
            <a:xfrm>
              <a:off x="2819520" y="3119400"/>
              <a:ext cx="8557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5"/>
            <a:stretch/>
          </p:blipFill>
          <p:spPr>
            <a:xfrm>
              <a:off x="2819520" y="3228840"/>
              <a:ext cx="8557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16"/>
            <a:stretch/>
          </p:blipFill>
          <p:spPr>
            <a:xfrm>
              <a:off x="2819520" y="3352680"/>
              <a:ext cx="855720" cy="1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17"/>
            <a:stretch/>
          </p:blipFill>
          <p:spPr>
            <a:xfrm>
              <a:off x="2819520" y="3462480"/>
              <a:ext cx="855720" cy="1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8"/>
            <a:stretch/>
          </p:blipFill>
          <p:spPr>
            <a:xfrm>
              <a:off x="2819520" y="3570120"/>
              <a:ext cx="855720" cy="1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9"/>
            <a:stretch/>
          </p:blipFill>
          <p:spPr>
            <a:xfrm>
              <a:off x="2819520" y="3695760"/>
              <a:ext cx="855720" cy="1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20"/>
            <a:stretch/>
          </p:blipFill>
          <p:spPr>
            <a:xfrm>
              <a:off x="2819520" y="3805200"/>
              <a:ext cx="855720" cy="1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21"/>
            <a:stretch/>
          </p:blipFill>
          <p:spPr>
            <a:xfrm>
              <a:off x="2819520" y="3913200"/>
              <a:ext cx="855720" cy="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6259680" y="2951280"/>
            <a:ext cx="372960" cy="203040"/>
          </a:xfrm>
          <a:custGeom>
            <a:avLst/>
            <a:gdLst/>
            <a:ahLst/>
            <a:rect l="l" t="t" r="r" b="b"/>
            <a:pathLst>
              <a:path w="235" h="128">
                <a:moveTo>
                  <a:pt x="216" y="0"/>
                </a:moveTo>
                <a:lnTo>
                  <a:pt x="235" y="0"/>
                </a:lnTo>
                <a:lnTo>
                  <a:pt x="235" y="20"/>
                </a:lnTo>
                <a:lnTo>
                  <a:pt x="20" y="128"/>
                </a:lnTo>
                <a:lnTo>
                  <a:pt x="0" y="128"/>
                </a:lnTo>
                <a:lnTo>
                  <a:pt x="0" y="108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27520" y="256536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81800" y="2951280"/>
            <a:ext cx="388800" cy="203040"/>
          </a:xfrm>
          <a:custGeom>
            <a:avLst/>
            <a:gdLst/>
            <a:ahLst/>
            <a:rect l="l" t="t" r="r" b="b"/>
            <a:pathLst>
              <a:path w="245" h="128">
                <a:moveTo>
                  <a:pt x="225" y="0"/>
                </a:moveTo>
                <a:lnTo>
                  <a:pt x="245" y="0"/>
                </a:lnTo>
                <a:lnTo>
                  <a:pt x="245" y="20"/>
                </a:lnTo>
                <a:lnTo>
                  <a:pt x="19" y="128"/>
                </a:lnTo>
                <a:lnTo>
                  <a:pt x="0" y="128"/>
                </a:lnTo>
                <a:lnTo>
                  <a:pt x="0" y="108"/>
                </a:lnTo>
                <a:lnTo>
                  <a:pt x="225" y="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4640" y="2540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89720" y="2967120"/>
            <a:ext cx="685800" cy="15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48480" y="2967120"/>
            <a:ext cx="825480" cy="15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7440" y="25671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066160" y="2173320"/>
            <a:ext cx="810720" cy="404640"/>
            <a:chOff x="8066160" y="2173320"/>
            <a:chExt cx="810720" cy="404640"/>
          </a:xfrm>
        </p:grpSpPr>
        <p:sp>
          <p:nvSpPr>
            <p:cNvPr id="322" name=""/>
            <p:cNvSpPr/>
            <p:nvPr/>
          </p:nvSpPr>
          <p:spPr>
            <a:xfrm>
              <a:off x="8456400" y="2173320"/>
              <a:ext cx="18540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59" y="19"/>
                  </a:lnTo>
                  <a:lnTo>
                    <a:pt x="68" y="19"/>
                  </a:lnTo>
                  <a:lnTo>
                    <a:pt x="78" y="29"/>
                  </a:lnTo>
                  <a:lnTo>
                    <a:pt x="78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108" y="68"/>
                  </a:lnTo>
                  <a:lnTo>
                    <a:pt x="108" y="78"/>
                  </a:lnTo>
                  <a:lnTo>
                    <a:pt x="108" y="88"/>
                  </a:lnTo>
                  <a:lnTo>
                    <a:pt x="117" y="88"/>
                  </a:lnTo>
                  <a:lnTo>
                    <a:pt x="117" y="98"/>
                  </a:lnTo>
                  <a:lnTo>
                    <a:pt x="117" y="107"/>
                  </a:lnTo>
                  <a:lnTo>
                    <a:pt x="117" y="117"/>
                  </a:lnTo>
                  <a:lnTo>
                    <a:pt x="117" y="127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56400" y="2185920"/>
              <a:ext cx="18540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59" y="19"/>
                  </a:lnTo>
                  <a:lnTo>
                    <a:pt x="68" y="19"/>
                  </a:lnTo>
                  <a:lnTo>
                    <a:pt x="78" y="29"/>
                  </a:lnTo>
                  <a:lnTo>
                    <a:pt x="78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98" y="58"/>
                  </a:lnTo>
                  <a:lnTo>
                    <a:pt x="98" y="58"/>
                  </a:lnTo>
                  <a:lnTo>
                    <a:pt x="108" y="68"/>
                  </a:lnTo>
                  <a:lnTo>
                    <a:pt x="108" y="78"/>
                  </a:lnTo>
                  <a:lnTo>
                    <a:pt x="108" y="88"/>
                  </a:lnTo>
                  <a:lnTo>
                    <a:pt x="117" y="88"/>
                  </a:lnTo>
                  <a:lnTo>
                    <a:pt x="117" y="98"/>
                  </a:lnTo>
                  <a:lnTo>
                    <a:pt x="117" y="107"/>
                  </a:lnTo>
                  <a:lnTo>
                    <a:pt x="117" y="117"/>
                  </a:lnTo>
                  <a:lnTo>
                    <a:pt x="117" y="1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40560" y="2343240"/>
              <a:ext cx="201240" cy="187200"/>
            </a:xfrm>
            <a:custGeom>
              <a:avLst/>
              <a:gdLst/>
              <a:ahLst/>
              <a:rect l="l" t="t" r="r" b="b"/>
              <a:pathLst>
                <a:path w="127" h="118">
                  <a:moveTo>
                    <a:pt x="127" y="0"/>
                  </a:moveTo>
                  <a:lnTo>
                    <a:pt x="127" y="1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18" y="50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98" y="69"/>
                  </a:lnTo>
                  <a:lnTo>
                    <a:pt x="98" y="79"/>
                  </a:lnTo>
                  <a:lnTo>
                    <a:pt x="88" y="79"/>
                  </a:lnTo>
                  <a:lnTo>
                    <a:pt x="88" y="89"/>
                  </a:lnTo>
                  <a:lnTo>
                    <a:pt x="78" y="89"/>
                  </a:lnTo>
                  <a:lnTo>
                    <a:pt x="69" y="99"/>
                  </a:lnTo>
                  <a:lnTo>
                    <a:pt x="59" y="99"/>
                  </a:lnTo>
                  <a:lnTo>
                    <a:pt x="49" y="108"/>
                  </a:lnTo>
                  <a:lnTo>
                    <a:pt x="49" y="108"/>
                  </a:lnTo>
                  <a:lnTo>
                    <a:pt x="39" y="108"/>
                  </a:lnTo>
                  <a:lnTo>
                    <a:pt x="29" y="118"/>
                  </a:lnTo>
                  <a:lnTo>
                    <a:pt x="20" y="118"/>
                  </a:lnTo>
                  <a:lnTo>
                    <a:pt x="10" y="118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127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53160" y="2355840"/>
              <a:ext cx="188640" cy="212760"/>
            </a:xfrm>
            <a:custGeom>
              <a:avLst/>
              <a:gdLst/>
              <a:ahLst/>
              <a:rect l="l" t="t" r="r" b="b"/>
              <a:pathLst>
                <a:path w="127" h="118">
                  <a:moveTo>
                    <a:pt x="127" y="0"/>
                  </a:moveTo>
                  <a:lnTo>
                    <a:pt x="127" y="1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18" y="30"/>
                  </a:lnTo>
                  <a:lnTo>
                    <a:pt x="118" y="40"/>
                  </a:lnTo>
                  <a:lnTo>
                    <a:pt x="118" y="50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98" y="69"/>
                  </a:lnTo>
                  <a:lnTo>
                    <a:pt x="98" y="79"/>
                  </a:lnTo>
                  <a:lnTo>
                    <a:pt x="88" y="79"/>
                  </a:lnTo>
                  <a:lnTo>
                    <a:pt x="88" y="89"/>
                  </a:lnTo>
                  <a:lnTo>
                    <a:pt x="78" y="89"/>
                  </a:lnTo>
                  <a:lnTo>
                    <a:pt x="69" y="99"/>
                  </a:lnTo>
                  <a:lnTo>
                    <a:pt x="59" y="99"/>
                  </a:lnTo>
                  <a:lnTo>
                    <a:pt x="49" y="108"/>
                  </a:lnTo>
                  <a:lnTo>
                    <a:pt x="49" y="108"/>
                  </a:lnTo>
                  <a:lnTo>
                    <a:pt x="39" y="108"/>
                  </a:lnTo>
                  <a:lnTo>
                    <a:pt x="29" y="118"/>
                  </a:lnTo>
                  <a:lnTo>
                    <a:pt x="20" y="118"/>
                  </a:lnTo>
                  <a:lnTo>
                    <a:pt x="10" y="118"/>
                  </a:lnTo>
                  <a:lnTo>
                    <a:pt x="0" y="118"/>
                  </a:lnTo>
                  <a:lnTo>
                    <a:pt x="0" y="11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69200" y="2173320"/>
              <a:ext cx="186840" cy="140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69200" y="2562120"/>
              <a:ext cx="202680" cy="158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69200" y="2173320"/>
              <a:ext cx="15480" cy="3888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66160" y="2281320"/>
              <a:ext cx="203040" cy="158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66160" y="2468520"/>
              <a:ext cx="203040" cy="1584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58000" y="2359080"/>
              <a:ext cx="218880" cy="158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026560" y="3301920"/>
            <a:ext cx="809640" cy="434880"/>
            <a:chOff x="8026560" y="3301920"/>
            <a:chExt cx="809640" cy="434880"/>
          </a:xfrm>
        </p:grpSpPr>
        <p:sp>
          <p:nvSpPr>
            <p:cNvPr id="333" name=""/>
            <p:cNvSpPr/>
            <p:nvPr/>
          </p:nvSpPr>
          <p:spPr>
            <a:xfrm>
              <a:off x="8228160" y="3301920"/>
              <a:ext cx="374760" cy="43488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8160" y="3301920"/>
              <a:ext cx="374760" cy="140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28160" y="3315960"/>
              <a:ext cx="16200" cy="40428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8160" y="3720600"/>
              <a:ext cx="374760" cy="158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87080" y="3315960"/>
              <a:ext cx="15840" cy="40428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21760" y="3393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26560" y="3425400"/>
              <a:ext cx="217800" cy="1548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26560" y="3596760"/>
              <a:ext cx="217800" cy="158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18760" y="3503160"/>
              <a:ext cx="217440" cy="1548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85360" y="3162240"/>
            <a:ext cx="27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3160" y="1752480"/>
            <a:ext cx="62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s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5080" y="2133720"/>
            <a:ext cx="95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16560" y="2158920"/>
            <a:ext cx="173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héma à contac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6560" y="1549440"/>
            <a:ext cx="95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35400" y="1782720"/>
            <a:ext cx="113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électron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41240" y="2717640"/>
            <a:ext cx="84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29000" y="295128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1400" y="1676520"/>
            <a:ext cx="10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Logique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mbinatoi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92960" y="4994280"/>
            <a:ext cx="788760" cy="144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08840" y="5388120"/>
            <a:ext cx="14400" cy="3934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08840" y="5372280"/>
            <a:ext cx="530280" cy="158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23280" y="5388120"/>
            <a:ext cx="15840" cy="39348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23280" y="5765760"/>
            <a:ext cx="272880" cy="15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65880" y="4630680"/>
            <a:ext cx="15840" cy="393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65880" y="4614840"/>
            <a:ext cx="789120" cy="15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81760" y="5388120"/>
            <a:ext cx="14400" cy="3934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81760" y="5372280"/>
            <a:ext cx="273240" cy="15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39160" y="5388120"/>
            <a:ext cx="15840" cy="39348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39160" y="4614840"/>
            <a:ext cx="15840" cy="393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39160" y="5765760"/>
            <a:ext cx="819000" cy="15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39160" y="4994280"/>
            <a:ext cx="819000" cy="144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765920" y="6161040"/>
            <a:ext cx="273240" cy="144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81760" y="6175440"/>
            <a:ext cx="14400" cy="42372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39160" y="6585120"/>
            <a:ext cx="819000" cy="140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6432480" y="5130720"/>
            <a:ext cx="120600" cy="757440"/>
            <a:chOff x="6432480" y="5130720"/>
            <a:chExt cx="120600" cy="757440"/>
          </a:xfrm>
        </p:grpSpPr>
        <p:sp>
          <p:nvSpPr>
            <p:cNvPr id="369" name=""/>
            <p:cNvSpPr/>
            <p:nvPr/>
          </p:nvSpPr>
          <p:spPr>
            <a:xfrm>
              <a:off x="6432480" y="513072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38" y="0"/>
                  </a:moveTo>
                  <a:lnTo>
                    <a:pt x="76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92600" y="5160960"/>
              <a:ext cx="15840" cy="7272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438960" y="5892840"/>
            <a:ext cx="120600" cy="801720"/>
            <a:chOff x="6438960" y="5892840"/>
            <a:chExt cx="120600" cy="801720"/>
          </a:xfrm>
        </p:grpSpPr>
        <p:sp>
          <p:nvSpPr>
            <p:cNvPr id="372" name=""/>
            <p:cNvSpPr/>
            <p:nvPr/>
          </p:nvSpPr>
          <p:spPr>
            <a:xfrm>
              <a:off x="6438960" y="589284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38" y="0"/>
                  </a:moveTo>
                  <a:lnTo>
                    <a:pt x="76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92600" y="5981760"/>
              <a:ext cx="15480" cy="7128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235200" y="42051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19720" y="508464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19720" y="59482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39160" y="6161040"/>
            <a:ext cx="15840" cy="43812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47040" y="496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89160" y="49687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29040" y="538812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    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36600" y="5680080"/>
            <a:ext cx="72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       1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39480" y="5946840"/>
            <a:ext cx="100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0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38040" y="6234120"/>
            <a:ext cx="100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1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34840" y="4971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56240" y="4991040"/>
            <a:ext cx="32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1560" y="621036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432480" y="4281480"/>
            <a:ext cx="120600" cy="756720"/>
            <a:chOff x="6432480" y="4281480"/>
            <a:chExt cx="120600" cy="756720"/>
          </a:xfrm>
        </p:grpSpPr>
        <p:sp>
          <p:nvSpPr>
            <p:cNvPr id="388" name=""/>
            <p:cNvSpPr/>
            <p:nvPr/>
          </p:nvSpPr>
          <p:spPr>
            <a:xfrm>
              <a:off x="6432480" y="4281480"/>
              <a:ext cx="120600" cy="1663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38" y="0"/>
                  </a:moveTo>
                  <a:lnTo>
                    <a:pt x="76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92600" y="4311360"/>
              <a:ext cx="15840" cy="72684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492960" y="5781600"/>
            <a:ext cx="515880" cy="14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51840" y="6161040"/>
            <a:ext cx="14040" cy="42408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08880" y="6161040"/>
            <a:ext cx="14400" cy="43812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51840" y="6161040"/>
            <a:ext cx="271440" cy="1440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08880" y="6585120"/>
            <a:ext cx="272880" cy="140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8880" y="4419720"/>
            <a:ext cx="125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de vé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2880" y="4343400"/>
            <a:ext cx="185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quations des so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08840" y="3962520"/>
            <a:ext cx="14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ronogra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663880" y="2844720"/>
            <a:ext cx="304920" cy="2286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477120" y="2844720"/>
            <a:ext cx="304560" cy="2286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054760" y="2540160"/>
            <a:ext cx="2489040" cy="609480"/>
            <a:chOff x="5054760" y="2540160"/>
            <a:chExt cx="2489040" cy="609480"/>
          </a:xfrm>
        </p:grpSpPr>
        <p:sp>
          <p:nvSpPr>
            <p:cNvPr id="401" name=""/>
            <p:cNvSpPr/>
            <p:nvPr/>
          </p:nvSpPr>
          <p:spPr>
            <a:xfrm>
              <a:off x="5054760" y="25401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2040" y="284472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54760" y="2844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69160" y="28447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665800" y="2362320"/>
            <a:ext cx="118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neumat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53040" y="2336760"/>
            <a:ext cx="139680" cy="17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043520" y="2139840"/>
            <a:ext cx="552240" cy="609480"/>
            <a:chOff x="4043520" y="2139840"/>
            <a:chExt cx="552240" cy="609480"/>
          </a:xfrm>
        </p:grpSpPr>
        <p:sp>
          <p:nvSpPr>
            <p:cNvPr id="408" name=""/>
            <p:cNvSpPr/>
            <p:nvPr/>
          </p:nvSpPr>
          <p:spPr>
            <a:xfrm>
              <a:off x="4043520" y="2139840"/>
              <a:ext cx="5522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01840" y="2197080"/>
              <a:ext cx="3045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4480" y="2349360"/>
              <a:ext cx="293040" cy="345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066680" y="685800"/>
            <a:ext cx="5943600" cy="35568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55160" y="838080"/>
            <a:ext cx="6534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3366cc"/>
                </a:solidFill>
                <a:latin typeface="Arial"/>
              </a:rPr>
              <a:t>3-Opérateurs, fonctions ou portes logiques de b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64040" y="3073320"/>
            <a:ext cx="533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52520" y="20829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48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11400" y="531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14280" y="561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14280" y="588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14280" y="614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6172200"/>
            <a:ext cx="9903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844720" y="5499000"/>
            <a:ext cx="285120" cy="251280"/>
            <a:chOff x="2844720" y="5499000"/>
            <a:chExt cx="285120" cy="251280"/>
          </a:xfrm>
        </p:grpSpPr>
        <p:sp>
          <p:nvSpPr>
            <p:cNvPr id="422" name=""/>
            <p:cNvSpPr/>
            <p:nvPr/>
          </p:nvSpPr>
          <p:spPr>
            <a:xfrm>
              <a:off x="2844720" y="5499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6240" y="553680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209400" y="551664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63880" y="54928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Arial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367160" y="5516640"/>
            <a:ext cx="549720" cy="230760"/>
            <a:chOff x="4367160" y="5516640"/>
            <a:chExt cx="549720" cy="230760"/>
          </a:xfrm>
        </p:grpSpPr>
        <p:sp>
          <p:nvSpPr>
            <p:cNvPr id="427" name=""/>
            <p:cNvSpPr/>
            <p:nvPr/>
          </p:nvSpPr>
          <p:spPr>
            <a:xfrm>
              <a:off x="4367160" y="551664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81200" y="55339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470200" y="5486400"/>
            <a:ext cx="535680" cy="241920"/>
            <a:chOff x="5470200" y="5486400"/>
            <a:chExt cx="535680" cy="241920"/>
          </a:xfrm>
        </p:grpSpPr>
        <p:sp>
          <p:nvSpPr>
            <p:cNvPr id="430" name=""/>
            <p:cNvSpPr/>
            <p:nvPr/>
          </p:nvSpPr>
          <p:spPr>
            <a:xfrm>
              <a:off x="5853240" y="5486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70200" y="551484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4954680" y="548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cc"/>
                </a:solidFill>
                <a:latin typeface="Arial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98600" y="497844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62560" y="48387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9960" y="45086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87760" y="5626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75160" y="5295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75160" y="643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62560" y="6108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560" y="12193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12193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990720" y="1981080"/>
            <a:ext cx="1675800" cy="2209680"/>
            <a:chOff x="990720" y="1981080"/>
            <a:chExt cx="1675800" cy="2209680"/>
          </a:xfrm>
        </p:grpSpPr>
        <p:pic>
          <p:nvPicPr>
            <p:cNvPr id="443" name="" descr=""/>
            <p:cNvPicPr/>
            <p:nvPr/>
          </p:nvPicPr>
          <p:blipFill>
            <a:blip r:embed="rId71"/>
            <a:stretch/>
          </p:blipFill>
          <p:spPr>
            <a:xfrm>
              <a:off x="990720" y="1981080"/>
              <a:ext cx="16758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338480" y="3751560"/>
              <a:ext cx="912960" cy="24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86240" y="2009520"/>
              <a:ext cx="275400" cy="2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133360" y="380988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34600" y="3825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48640" y="49878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23000" y="50259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36040" y="57625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510400" y="58006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661240" y="6588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523000" y="66135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04120" y="657864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970680" y="6573960"/>
            <a:ext cx="276120" cy="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630840" y="4948200"/>
            <a:ext cx="1600560" cy="255600"/>
            <a:chOff x="6630840" y="4948200"/>
            <a:chExt cx="1600560" cy="255600"/>
          </a:xfrm>
        </p:grpSpPr>
        <p:sp>
          <p:nvSpPr>
            <p:cNvPr id="458" name=""/>
            <p:cNvSpPr/>
            <p:nvPr/>
          </p:nvSpPr>
          <p:spPr>
            <a:xfrm>
              <a:off x="6630840" y="4957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29280" y="4957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18000" y="49482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4760" y="494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27760" y="4949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86600" y="4951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7272360" y="4456080"/>
            <a:ext cx="0" cy="22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13520" y="4456080"/>
            <a:ext cx="0" cy="22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23280" y="4456080"/>
            <a:ext cx="0" cy="22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81760" y="4452840"/>
            <a:ext cx="0" cy="22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48520" y="4470480"/>
            <a:ext cx="0" cy="22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186000" y="5486400"/>
            <a:ext cx="715680" cy="307080"/>
            <a:chOff x="3186000" y="5486400"/>
            <a:chExt cx="715680" cy="307080"/>
          </a:xfrm>
        </p:grpSpPr>
        <p:sp>
          <p:nvSpPr>
            <p:cNvPr id="470" name=""/>
            <p:cNvSpPr/>
            <p:nvPr/>
          </p:nvSpPr>
          <p:spPr>
            <a:xfrm>
              <a:off x="3273120" y="5501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4000" y="55015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86000" y="5486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4306320" y="553248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81280" y="551016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3809880"/>
            <a:ext cx="528480" cy="303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3809880"/>
            <a:ext cx="528480" cy="30348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3809880"/>
            <a:ext cx="517680" cy="292320"/>
          </a:xfrm>
          <a:custGeom>
            <a:avLst/>
            <a:gdLst/>
            <a:ahLst/>
            <a:rect l="l" t="t" r="r" b="b"/>
            <a:pathLst>
              <a:path w="326" h="184">
                <a:moveTo>
                  <a:pt x="0" y="0"/>
                </a:moveTo>
                <a:lnTo>
                  <a:pt x="43" y="0"/>
                </a:lnTo>
                <a:lnTo>
                  <a:pt x="43" y="64"/>
                </a:lnTo>
                <a:lnTo>
                  <a:pt x="283" y="64"/>
                </a:lnTo>
                <a:lnTo>
                  <a:pt x="283" y="0"/>
                </a:lnTo>
                <a:lnTo>
                  <a:pt x="326" y="0"/>
                </a:lnTo>
                <a:lnTo>
                  <a:pt x="326" y="184"/>
                </a:lnTo>
                <a:lnTo>
                  <a:pt x="283" y="184"/>
                </a:lnTo>
                <a:lnTo>
                  <a:pt x="283" y="106"/>
                </a:lnTo>
                <a:lnTo>
                  <a:pt x="43" y="106"/>
                </a:lnTo>
                <a:lnTo>
                  <a:pt x="43" y="184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74640" y="2851200"/>
            <a:ext cx="517680" cy="291960"/>
          </a:xfrm>
          <a:custGeom>
            <a:avLst/>
            <a:gdLst/>
            <a:ahLst/>
            <a:rect l="l" t="t" r="r" b="b"/>
            <a:pathLst>
              <a:path w="326" h="184">
                <a:moveTo>
                  <a:pt x="0" y="0"/>
                </a:moveTo>
                <a:lnTo>
                  <a:pt x="43" y="0"/>
                </a:lnTo>
                <a:lnTo>
                  <a:pt x="43" y="64"/>
                </a:lnTo>
                <a:lnTo>
                  <a:pt x="283" y="64"/>
                </a:lnTo>
                <a:lnTo>
                  <a:pt x="283" y="0"/>
                </a:lnTo>
                <a:lnTo>
                  <a:pt x="326" y="0"/>
                </a:lnTo>
                <a:lnTo>
                  <a:pt x="326" y="184"/>
                </a:lnTo>
                <a:lnTo>
                  <a:pt x="283" y="184"/>
                </a:lnTo>
                <a:lnTo>
                  <a:pt x="283" y="106"/>
                </a:lnTo>
                <a:lnTo>
                  <a:pt x="43" y="106"/>
                </a:lnTo>
                <a:lnTo>
                  <a:pt x="43" y="184"/>
                </a:lnTo>
                <a:lnTo>
                  <a:pt x="0" y="18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86560" y="3032280"/>
            <a:ext cx="401400" cy="220680"/>
          </a:xfrm>
          <a:custGeom>
            <a:avLst/>
            <a:gdLst/>
            <a:ahLst/>
            <a:rect l="l" t="t" r="r" b="b"/>
            <a:pathLst>
              <a:path w="253" h="139">
                <a:moveTo>
                  <a:pt x="233" y="0"/>
                </a:moveTo>
                <a:lnTo>
                  <a:pt x="253" y="0"/>
                </a:lnTo>
                <a:lnTo>
                  <a:pt x="253" y="19"/>
                </a:lnTo>
                <a:lnTo>
                  <a:pt x="20" y="139"/>
                </a:lnTo>
                <a:lnTo>
                  <a:pt x="0" y="139"/>
                </a:lnTo>
                <a:lnTo>
                  <a:pt x="0" y="119"/>
                </a:lnTo>
                <a:lnTo>
                  <a:pt x="23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8880" y="28116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02400" y="2320920"/>
            <a:ext cx="401400" cy="204840"/>
          </a:xfrm>
          <a:custGeom>
            <a:avLst/>
            <a:gdLst/>
            <a:ahLst/>
            <a:rect l="l" t="t" r="r" b="b"/>
            <a:pathLst>
              <a:path w="253" h="129">
                <a:moveTo>
                  <a:pt x="233" y="0"/>
                </a:moveTo>
                <a:lnTo>
                  <a:pt x="253" y="0"/>
                </a:lnTo>
                <a:lnTo>
                  <a:pt x="253" y="20"/>
                </a:lnTo>
                <a:lnTo>
                  <a:pt x="21" y="129"/>
                </a:lnTo>
                <a:lnTo>
                  <a:pt x="0" y="129"/>
                </a:lnTo>
                <a:lnTo>
                  <a:pt x="0" y="109"/>
                </a:lnTo>
                <a:lnTo>
                  <a:pt x="23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8880" y="2052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029200" y="2209680"/>
            <a:ext cx="2471760" cy="1011240"/>
            <a:chOff x="5029200" y="2209680"/>
            <a:chExt cx="2471760" cy="1011240"/>
          </a:xfrm>
        </p:grpSpPr>
        <p:sp>
          <p:nvSpPr>
            <p:cNvPr id="485" name=""/>
            <p:cNvSpPr/>
            <p:nvPr/>
          </p:nvSpPr>
          <p:spPr>
            <a:xfrm>
              <a:off x="7324560" y="2637000"/>
              <a:ext cx="176400" cy="125280"/>
            </a:xfrm>
            <a:custGeom>
              <a:avLst/>
              <a:gdLst/>
              <a:ahLst/>
              <a:rect l="l" t="t" r="r" b="b"/>
              <a:pathLst>
                <a:path w="111" h="79">
                  <a:moveTo>
                    <a:pt x="111" y="40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11" y="4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29200" y="2209680"/>
              <a:ext cx="15840" cy="101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18240" y="2700360"/>
              <a:ext cx="851040" cy="15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29200" y="2336760"/>
              <a:ext cx="689040" cy="15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29200" y="3048120"/>
              <a:ext cx="689040" cy="140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19640" y="2336760"/>
              <a:ext cx="514440" cy="158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72120" y="3048120"/>
              <a:ext cx="561960" cy="14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18240" y="2336760"/>
              <a:ext cx="15840" cy="725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291440" y="23209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8077320" y="1752480"/>
            <a:ext cx="857160" cy="331920"/>
            <a:chOff x="8077320" y="1752480"/>
            <a:chExt cx="857160" cy="331920"/>
          </a:xfrm>
        </p:grpSpPr>
        <p:sp>
          <p:nvSpPr>
            <p:cNvPr id="495" name=""/>
            <p:cNvSpPr/>
            <p:nvPr/>
          </p:nvSpPr>
          <p:spPr>
            <a:xfrm>
              <a:off x="8212320" y="1752480"/>
              <a:ext cx="480960" cy="174600"/>
            </a:xfrm>
            <a:custGeom>
              <a:avLst/>
              <a:gdLst/>
              <a:ahLst/>
              <a:rect l="l" t="t" r="r" b="b"/>
              <a:pathLst>
                <a:path w="303" h="110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101" y="10"/>
                  </a:lnTo>
                  <a:lnTo>
                    <a:pt x="121" y="10"/>
                  </a:lnTo>
                  <a:lnTo>
                    <a:pt x="141" y="10"/>
                  </a:lnTo>
                  <a:lnTo>
                    <a:pt x="162" y="20"/>
                  </a:lnTo>
                  <a:lnTo>
                    <a:pt x="172" y="20"/>
                  </a:lnTo>
                  <a:lnTo>
                    <a:pt x="192" y="20"/>
                  </a:lnTo>
                  <a:lnTo>
                    <a:pt x="212" y="30"/>
                  </a:lnTo>
                  <a:lnTo>
                    <a:pt x="222" y="30"/>
                  </a:lnTo>
                  <a:lnTo>
                    <a:pt x="242" y="40"/>
                  </a:lnTo>
                  <a:lnTo>
                    <a:pt x="253" y="50"/>
                  </a:lnTo>
                  <a:lnTo>
                    <a:pt x="263" y="50"/>
                  </a:lnTo>
                  <a:lnTo>
                    <a:pt x="273" y="60"/>
                  </a:lnTo>
                  <a:lnTo>
                    <a:pt x="283" y="70"/>
                  </a:lnTo>
                  <a:lnTo>
                    <a:pt x="293" y="70"/>
                  </a:lnTo>
                  <a:lnTo>
                    <a:pt x="293" y="80"/>
                  </a:lnTo>
                  <a:lnTo>
                    <a:pt x="303" y="90"/>
                  </a:lnTo>
                  <a:lnTo>
                    <a:pt x="303" y="90"/>
                  </a:lnTo>
                  <a:lnTo>
                    <a:pt x="303" y="100"/>
                  </a:lnTo>
                  <a:lnTo>
                    <a:pt x="303" y="110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12320" y="1752480"/>
              <a:ext cx="480960" cy="174600"/>
            </a:xfrm>
            <a:custGeom>
              <a:avLst/>
              <a:gdLst/>
              <a:ahLst/>
              <a:rect l="l" t="t" r="r" b="b"/>
              <a:pathLst>
                <a:path w="303" h="110">
                  <a:moveTo>
                    <a:pt x="0" y="0"/>
                  </a:moveTo>
                  <a:lnTo>
                    <a:pt x="20" y="0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101" y="10"/>
                  </a:lnTo>
                  <a:lnTo>
                    <a:pt x="121" y="10"/>
                  </a:lnTo>
                  <a:lnTo>
                    <a:pt x="141" y="10"/>
                  </a:lnTo>
                  <a:lnTo>
                    <a:pt x="162" y="20"/>
                  </a:lnTo>
                  <a:lnTo>
                    <a:pt x="172" y="20"/>
                  </a:lnTo>
                  <a:lnTo>
                    <a:pt x="192" y="20"/>
                  </a:lnTo>
                  <a:lnTo>
                    <a:pt x="212" y="30"/>
                  </a:lnTo>
                  <a:lnTo>
                    <a:pt x="222" y="30"/>
                  </a:lnTo>
                  <a:lnTo>
                    <a:pt x="242" y="40"/>
                  </a:lnTo>
                  <a:lnTo>
                    <a:pt x="253" y="50"/>
                  </a:lnTo>
                  <a:lnTo>
                    <a:pt x="263" y="50"/>
                  </a:lnTo>
                  <a:lnTo>
                    <a:pt x="273" y="60"/>
                  </a:lnTo>
                  <a:lnTo>
                    <a:pt x="283" y="70"/>
                  </a:lnTo>
                  <a:lnTo>
                    <a:pt x="293" y="70"/>
                  </a:lnTo>
                  <a:lnTo>
                    <a:pt x="293" y="80"/>
                  </a:lnTo>
                  <a:lnTo>
                    <a:pt x="303" y="90"/>
                  </a:lnTo>
                  <a:lnTo>
                    <a:pt x="303" y="90"/>
                  </a:lnTo>
                  <a:lnTo>
                    <a:pt x="303" y="100"/>
                  </a:lnTo>
                  <a:lnTo>
                    <a:pt x="303" y="1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12320" y="1911240"/>
              <a:ext cx="480960" cy="173160"/>
            </a:xfrm>
            <a:custGeom>
              <a:avLst/>
              <a:gdLst/>
              <a:ahLst/>
              <a:rect l="l" t="t" r="r" b="b"/>
              <a:pathLst>
                <a:path w="303" h="109">
                  <a:moveTo>
                    <a:pt x="303" y="0"/>
                  </a:moveTo>
                  <a:lnTo>
                    <a:pt x="303" y="10"/>
                  </a:lnTo>
                  <a:lnTo>
                    <a:pt x="303" y="20"/>
                  </a:lnTo>
                  <a:lnTo>
                    <a:pt x="293" y="20"/>
                  </a:lnTo>
                  <a:lnTo>
                    <a:pt x="293" y="30"/>
                  </a:lnTo>
                  <a:lnTo>
                    <a:pt x="283" y="39"/>
                  </a:lnTo>
                  <a:lnTo>
                    <a:pt x="273" y="39"/>
                  </a:lnTo>
                  <a:lnTo>
                    <a:pt x="263" y="49"/>
                  </a:lnTo>
                  <a:lnTo>
                    <a:pt x="253" y="59"/>
                  </a:lnTo>
                  <a:lnTo>
                    <a:pt x="242" y="59"/>
                  </a:lnTo>
                  <a:lnTo>
                    <a:pt x="232" y="69"/>
                  </a:lnTo>
                  <a:lnTo>
                    <a:pt x="212" y="79"/>
                  </a:lnTo>
                  <a:lnTo>
                    <a:pt x="202" y="79"/>
                  </a:lnTo>
                  <a:lnTo>
                    <a:pt x="182" y="89"/>
                  </a:lnTo>
                  <a:lnTo>
                    <a:pt x="172" y="89"/>
                  </a:lnTo>
                  <a:lnTo>
                    <a:pt x="151" y="99"/>
                  </a:lnTo>
                  <a:lnTo>
                    <a:pt x="131" y="99"/>
                  </a:lnTo>
                  <a:lnTo>
                    <a:pt x="111" y="99"/>
                  </a:lnTo>
                  <a:lnTo>
                    <a:pt x="91" y="99"/>
                  </a:lnTo>
                  <a:lnTo>
                    <a:pt x="71" y="109"/>
                  </a:lnTo>
                  <a:lnTo>
                    <a:pt x="50" y="109"/>
                  </a:lnTo>
                  <a:lnTo>
                    <a:pt x="30" y="109"/>
                  </a:lnTo>
                  <a:lnTo>
                    <a:pt x="10" y="109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30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12320" y="1911240"/>
              <a:ext cx="480960" cy="173160"/>
            </a:xfrm>
            <a:custGeom>
              <a:avLst/>
              <a:gdLst/>
              <a:ahLst/>
              <a:rect l="l" t="t" r="r" b="b"/>
              <a:pathLst>
                <a:path w="303" h="109">
                  <a:moveTo>
                    <a:pt x="303" y="0"/>
                  </a:moveTo>
                  <a:lnTo>
                    <a:pt x="303" y="10"/>
                  </a:lnTo>
                  <a:lnTo>
                    <a:pt x="303" y="20"/>
                  </a:lnTo>
                  <a:lnTo>
                    <a:pt x="293" y="20"/>
                  </a:lnTo>
                  <a:lnTo>
                    <a:pt x="293" y="30"/>
                  </a:lnTo>
                  <a:lnTo>
                    <a:pt x="283" y="39"/>
                  </a:lnTo>
                  <a:lnTo>
                    <a:pt x="273" y="39"/>
                  </a:lnTo>
                  <a:lnTo>
                    <a:pt x="263" y="49"/>
                  </a:lnTo>
                  <a:lnTo>
                    <a:pt x="253" y="59"/>
                  </a:lnTo>
                  <a:lnTo>
                    <a:pt x="242" y="59"/>
                  </a:lnTo>
                  <a:lnTo>
                    <a:pt x="232" y="69"/>
                  </a:lnTo>
                  <a:lnTo>
                    <a:pt x="212" y="79"/>
                  </a:lnTo>
                  <a:lnTo>
                    <a:pt x="202" y="79"/>
                  </a:lnTo>
                  <a:lnTo>
                    <a:pt x="182" y="89"/>
                  </a:lnTo>
                  <a:lnTo>
                    <a:pt x="172" y="89"/>
                  </a:lnTo>
                  <a:lnTo>
                    <a:pt x="151" y="99"/>
                  </a:lnTo>
                  <a:lnTo>
                    <a:pt x="131" y="99"/>
                  </a:lnTo>
                  <a:lnTo>
                    <a:pt x="111" y="99"/>
                  </a:lnTo>
                  <a:lnTo>
                    <a:pt x="91" y="99"/>
                  </a:lnTo>
                  <a:lnTo>
                    <a:pt x="71" y="109"/>
                  </a:lnTo>
                  <a:lnTo>
                    <a:pt x="50" y="109"/>
                  </a:lnTo>
                  <a:lnTo>
                    <a:pt x="30" y="109"/>
                  </a:lnTo>
                  <a:lnTo>
                    <a:pt x="10" y="109"/>
                  </a:lnTo>
                  <a:lnTo>
                    <a:pt x="0" y="10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12320" y="1752480"/>
              <a:ext cx="12852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4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4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60"/>
                  </a:lnTo>
                  <a:lnTo>
                    <a:pt x="71" y="70"/>
                  </a:lnTo>
                  <a:lnTo>
                    <a:pt x="81" y="70"/>
                  </a:lnTo>
                  <a:lnTo>
                    <a:pt x="81" y="80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100"/>
                  </a:lnTo>
                  <a:lnTo>
                    <a:pt x="81" y="110"/>
                  </a:lnTo>
                  <a:lnTo>
                    <a:pt x="0" y="11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12320" y="1752480"/>
              <a:ext cx="128520" cy="174600"/>
            </a:xfrm>
            <a:custGeom>
              <a:avLst/>
              <a:gdLst/>
              <a:ahLst/>
              <a:rect l="l" t="t" r="r" b="b"/>
              <a:pathLst>
                <a:path w="81" h="11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4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4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60"/>
                  </a:lnTo>
                  <a:lnTo>
                    <a:pt x="71" y="70"/>
                  </a:lnTo>
                  <a:lnTo>
                    <a:pt x="81" y="70"/>
                  </a:lnTo>
                  <a:lnTo>
                    <a:pt x="81" y="80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100"/>
                  </a:lnTo>
                  <a:lnTo>
                    <a:pt x="81" y="11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12320" y="1927080"/>
              <a:ext cx="128520" cy="15732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81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69"/>
                  </a:lnTo>
                  <a:lnTo>
                    <a:pt x="50" y="69"/>
                  </a:lnTo>
                  <a:lnTo>
                    <a:pt x="50" y="79"/>
                  </a:lnTo>
                  <a:lnTo>
                    <a:pt x="40" y="7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30" y="89"/>
                  </a:lnTo>
                  <a:lnTo>
                    <a:pt x="20" y="89"/>
                  </a:lnTo>
                  <a:lnTo>
                    <a:pt x="20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12320" y="1927080"/>
              <a:ext cx="128520" cy="15732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81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0" y="69"/>
                  </a:lnTo>
                  <a:lnTo>
                    <a:pt x="50" y="69"/>
                  </a:lnTo>
                  <a:lnTo>
                    <a:pt x="50" y="79"/>
                  </a:lnTo>
                  <a:lnTo>
                    <a:pt x="40" y="7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30" y="89"/>
                  </a:lnTo>
                  <a:lnTo>
                    <a:pt x="20" y="89"/>
                  </a:lnTo>
                  <a:lnTo>
                    <a:pt x="20" y="99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77320" y="1831680"/>
              <a:ext cx="241200" cy="16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89920" y="2020680"/>
              <a:ext cx="241200" cy="15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724960" y="1927080"/>
              <a:ext cx="209520" cy="158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8080200" y="2995560"/>
            <a:ext cx="835200" cy="441360"/>
            <a:chOff x="8080200" y="2995560"/>
            <a:chExt cx="835200" cy="441360"/>
          </a:xfrm>
        </p:grpSpPr>
        <p:sp>
          <p:nvSpPr>
            <p:cNvPr id="507" name=""/>
            <p:cNvSpPr/>
            <p:nvPr/>
          </p:nvSpPr>
          <p:spPr>
            <a:xfrm>
              <a:off x="8288280" y="2995560"/>
              <a:ext cx="417600" cy="4413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88280" y="2995560"/>
              <a:ext cx="417600" cy="158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88280" y="3011400"/>
              <a:ext cx="15840" cy="4096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88280" y="3421080"/>
              <a:ext cx="417600" cy="158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90040" y="3011400"/>
              <a:ext cx="15840" cy="4096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53440" y="3121200"/>
              <a:ext cx="160200" cy="7920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9" y="5"/>
                  </a:lnTo>
                  <a:lnTo>
                    <a:pt x="10" y="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53440" y="3200400"/>
              <a:ext cx="144360" cy="9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34160" y="3048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80200" y="3137040"/>
              <a:ext cx="223920" cy="158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80200" y="3311640"/>
              <a:ext cx="223920" cy="1584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21720" y="3200400"/>
              <a:ext cx="193680" cy="1584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69280" y="3247920"/>
              <a:ext cx="144360" cy="95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4046400" y="157320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568920" y="5364000"/>
            <a:ext cx="528840" cy="144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83360" y="4979880"/>
            <a:ext cx="14400" cy="3841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83360" y="4979880"/>
            <a:ext cx="471600" cy="144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540560" y="4994280"/>
            <a:ext cx="14400" cy="3841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40560" y="5364000"/>
            <a:ext cx="255600" cy="144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97560" y="4267080"/>
            <a:ext cx="14400" cy="37008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11960" y="4267080"/>
            <a:ext cx="727200" cy="144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81760" y="4994280"/>
            <a:ext cx="14400" cy="3841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81760" y="4979880"/>
            <a:ext cx="257400" cy="144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4760" y="4994280"/>
            <a:ext cx="14400" cy="3841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24760" y="4267080"/>
            <a:ext cx="14400" cy="3841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24760" y="5364000"/>
            <a:ext cx="785880" cy="144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24760" y="4637160"/>
            <a:ext cx="785880" cy="140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74000" y="5711760"/>
            <a:ext cx="14040" cy="4129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37360" y="6119640"/>
            <a:ext cx="743040" cy="144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512040" y="4765680"/>
            <a:ext cx="114120" cy="698400"/>
            <a:chOff x="6512040" y="4765680"/>
            <a:chExt cx="114120" cy="698400"/>
          </a:xfrm>
        </p:grpSpPr>
        <p:sp>
          <p:nvSpPr>
            <p:cNvPr id="536" name=""/>
            <p:cNvSpPr/>
            <p:nvPr/>
          </p:nvSpPr>
          <p:spPr>
            <a:xfrm>
              <a:off x="6512040" y="4765680"/>
              <a:ext cx="114120" cy="157320"/>
            </a:xfrm>
            <a:custGeom>
              <a:avLst/>
              <a:gdLst/>
              <a:ahLst/>
              <a:rect l="l" t="t" r="r" b="b"/>
              <a:pathLst>
                <a:path w="72" h="99">
                  <a:moveTo>
                    <a:pt x="36" y="0"/>
                  </a:moveTo>
                  <a:lnTo>
                    <a:pt x="72" y="99"/>
                  </a:lnTo>
                  <a:lnTo>
                    <a:pt x="0" y="99"/>
                  </a:lnTo>
                  <a:lnTo>
                    <a:pt x="36" y="0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68920" y="4794120"/>
              <a:ext cx="14400" cy="669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512040" y="5521320"/>
            <a:ext cx="114120" cy="712800"/>
            <a:chOff x="6512040" y="5521320"/>
            <a:chExt cx="114120" cy="712800"/>
          </a:xfrm>
        </p:grpSpPr>
        <p:sp>
          <p:nvSpPr>
            <p:cNvPr id="539" name=""/>
            <p:cNvSpPr/>
            <p:nvPr/>
          </p:nvSpPr>
          <p:spPr>
            <a:xfrm>
              <a:off x="6512040" y="5521320"/>
              <a:ext cx="114120" cy="157320"/>
            </a:xfrm>
            <a:custGeom>
              <a:avLst/>
              <a:gdLst/>
              <a:ahLst/>
              <a:rect l="l" t="t" r="r" b="b"/>
              <a:pathLst>
                <a:path w="72" h="99">
                  <a:moveTo>
                    <a:pt x="36" y="0"/>
                  </a:moveTo>
                  <a:lnTo>
                    <a:pt x="72" y="99"/>
                  </a:lnTo>
                  <a:lnTo>
                    <a:pt x="0" y="99"/>
                  </a:lnTo>
                  <a:lnTo>
                    <a:pt x="36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68920" y="5549760"/>
              <a:ext cx="14400" cy="68436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6375240" y="477504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50040" y="55134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26560" y="5722920"/>
            <a:ext cx="14040" cy="4129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6"/>
          <a:stretch/>
        </p:blipFill>
        <p:spPr>
          <a:xfrm>
            <a:off x="6481800" y="3943440"/>
            <a:ext cx="185760" cy="86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368760" y="3960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CelluleOU1" descr=""/>
          <p:cNvPicPr/>
          <p:nvPr/>
        </p:nvPicPr>
        <p:blipFill>
          <a:blip r:embed="rId47"/>
          <a:stretch/>
        </p:blipFill>
        <p:spPr>
          <a:xfrm>
            <a:off x="2946240" y="2514600"/>
            <a:ext cx="559080" cy="838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4172760" y="30211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76640" y="2944800"/>
            <a:ext cx="5335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097160" y="2055960"/>
            <a:ext cx="457200" cy="482040"/>
            <a:chOff x="4097160" y="2055960"/>
            <a:chExt cx="457200" cy="482040"/>
          </a:xfrm>
        </p:grpSpPr>
        <p:sp>
          <p:nvSpPr>
            <p:cNvPr id="550" name=""/>
            <p:cNvSpPr/>
            <p:nvPr/>
          </p:nvSpPr>
          <p:spPr>
            <a:xfrm>
              <a:off x="4097160" y="2055960"/>
              <a:ext cx="30492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49440" y="2233440"/>
              <a:ext cx="30492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033800" y="2004840"/>
            <a:ext cx="55260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92480" y="2062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45120" y="2214720"/>
            <a:ext cx="293400" cy="34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35240" y="19670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27560" y="225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077840" y="4394160"/>
            <a:ext cx="1455480" cy="1712880"/>
            <a:chOff x="1077840" y="4394160"/>
            <a:chExt cx="1455480" cy="1712880"/>
          </a:xfrm>
        </p:grpSpPr>
        <p:sp>
          <p:nvSpPr>
            <p:cNvPr id="558" name=""/>
            <p:cNvSpPr/>
            <p:nvPr/>
          </p:nvSpPr>
          <p:spPr>
            <a:xfrm>
              <a:off x="1077840" y="4394160"/>
              <a:ext cx="1455480" cy="171288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77840" y="4394160"/>
              <a:ext cx="1455480" cy="4608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77840" y="4440240"/>
              <a:ext cx="46080" cy="162072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77840" y="6060960"/>
              <a:ext cx="1455480" cy="4608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87240" y="4440240"/>
              <a:ext cx="46080" cy="162072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17440" y="4394160"/>
              <a:ext cx="30240" cy="171288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840" y="4863960"/>
              <a:ext cx="1455480" cy="3024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63480" y="4410000"/>
              <a:ext cx="14400" cy="169704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272600" y="454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14360" y="45496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54600" y="496872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    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62160" y="5261040"/>
            <a:ext cx="72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        1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65040" y="5527800"/>
            <a:ext cx="100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0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3600" y="5815080"/>
            <a:ext cx="100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1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60040" y="45529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136960" y="489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4020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140200" y="546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40200" y="572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1560" y="5791320"/>
            <a:ext cx="73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 a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99200" y="4038480"/>
            <a:ext cx="185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quations des so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38480" y="5715000"/>
            <a:ext cx="99072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933640" y="5257800"/>
            <a:ext cx="347400" cy="277200"/>
            <a:chOff x="2933640" y="5257800"/>
            <a:chExt cx="347400" cy="277200"/>
          </a:xfrm>
        </p:grpSpPr>
        <p:sp>
          <p:nvSpPr>
            <p:cNvPr id="581" name=""/>
            <p:cNvSpPr/>
            <p:nvPr/>
          </p:nvSpPr>
          <p:spPr>
            <a:xfrm>
              <a:off x="2957400" y="5321520"/>
              <a:ext cx="32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33640" y="5257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958120" y="4826160"/>
            <a:ext cx="27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365640" y="4775040"/>
            <a:ext cx="554400" cy="239040"/>
            <a:chOff x="3365640" y="4775040"/>
            <a:chExt cx="554400" cy="239040"/>
          </a:xfrm>
        </p:grpSpPr>
        <p:sp>
          <p:nvSpPr>
            <p:cNvPr id="585" name=""/>
            <p:cNvSpPr/>
            <p:nvPr/>
          </p:nvSpPr>
          <p:spPr>
            <a:xfrm>
              <a:off x="3365640" y="47750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384360" y="480060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951360" y="4788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497120" y="4788000"/>
            <a:ext cx="535680" cy="246600"/>
            <a:chOff x="4497120" y="4788000"/>
            <a:chExt cx="535680" cy="246600"/>
          </a:xfrm>
        </p:grpSpPr>
        <p:sp>
          <p:nvSpPr>
            <p:cNvPr id="589" name=""/>
            <p:cNvSpPr/>
            <p:nvPr/>
          </p:nvSpPr>
          <p:spPr>
            <a:xfrm>
              <a:off x="4876920" y="4788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97120" y="482112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E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5559120" y="4816440"/>
            <a:ext cx="53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E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56200" y="47750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276720" y="5257800"/>
            <a:ext cx="570960" cy="264240"/>
            <a:chOff x="3276720" y="5257800"/>
            <a:chExt cx="570960" cy="264240"/>
          </a:xfrm>
        </p:grpSpPr>
        <p:sp>
          <p:nvSpPr>
            <p:cNvPr id="594" name=""/>
            <p:cNvSpPr/>
            <p:nvPr/>
          </p:nvSpPr>
          <p:spPr>
            <a:xfrm>
              <a:off x="3299760" y="53085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3366cc"/>
                  </a:solidFill>
                  <a:latin typeface="Arial"/>
                </a:rPr>
                <a:t>E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276720" y="525780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95400" y="5257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 flipH="1">
            <a:off x="6553080" y="4635360"/>
            <a:ext cx="7495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60840" y="45180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60840" y="417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200" y="1219320"/>
            <a:ext cx="62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s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1040" y="1828800"/>
            <a:ext cx="95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65800" y="2057400"/>
            <a:ext cx="118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neumat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91360" y="1752480"/>
            <a:ext cx="173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héma à contac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821360" y="1143000"/>
            <a:ext cx="95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810200" y="1376280"/>
            <a:ext cx="113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électron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99920" y="2357280"/>
            <a:ext cx="84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mb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988040" y="259092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95200" y="3962520"/>
            <a:ext cx="125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 de vér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60840" y="5229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60840" y="488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48240" y="59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48240" y="56484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990720" y="1587600"/>
            <a:ext cx="1523880" cy="2006640"/>
            <a:chOff x="990720" y="1587600"/>
            <a:chExt cx="1523880" cy="2006640"/>
          </a:xfrm>
        </p:grpSpPr>
        <p:pic>
          <p:nvPicPr>
            <p:cNvPr id="614" name="CelluleOU" descr=""/>
            <p:cNvPicPr/>
            <p:nvPr/>
          </p:nvPicPr>
          <p:blipFill>
            <a:blip r:embed="rId56"/>
            <a:stretch/>
          </p:blipFill>
          <p:spPr>
            <a:xfrm>
              <a:off x="990720" y="1600200"/>
              <a:ext cx="1523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295280" y="3327480"/>
              <a:ext cx="9273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574640" y="1587600"/>
              <a:ext cx="3556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069640" y="34034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96800" y="3394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01720" y="15620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71840" y="6858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2480" y="6858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08840" y="3733920"/>
            <a:ext cx="14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ronogram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674200" y="4635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548560" y="4673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623440" y="535932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497440" y="53974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648640" y="6121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523000" y="6159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553080" y="6126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086240" y="571500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08720" y="5718240"/>
            <a:ext cx="23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27960" y="5718240"/>
            <a:ext cx="244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72400" y="5718240"/>
            <a:ext cx="263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078680" y="4098960"/>
            <a:ext cx="792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299360" y="4083120"/>
            <a:ext cx="792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535880" y="4098960"/>
            <a:ext cx="792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780320" y="4113360"/>
            <a:ext cx="792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023320" y="4098960"/>
            <a:ext cx="792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6737040" y="4599000"/>
            <a:ext cx="1600560" cy="255600"/>
            <a:chOff x="6737040" y="4599000"/>
            <a:chExt cx="1600560" cy="255600"/>
          </a:xfrm>
        </p:grpSpPr>
        <p:sp>
          <p:nvSpPr>
            <p:cNvPr id="640" name=""/>
            <p:cNvSpPr/>
            <p:nvPr/>
          </p:nvSpPr>
          <p:spPr>
            <a:xfrm>
              <a:off x="6737040" y="4608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35480" y="46083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24200" y="4599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90960" y="4600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33960" y="4600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92800" y="46022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299760" y="479124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11080" y="480708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78120" y="479736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06400" y="2414520"/>
            <a:ext cx="152640" cy="3049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33360" y="151920"/>
            <a:ext cx="5227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9040" y="2127240"/>
            <a:ext cx="420840" cy="220680"/>
          </a:xfrm>
          <a:custGeom>
            <a:avLst/>
            <a:gdLst/>
            <a:ahLst/>
            <a:rect l="l" t="t" r="r" b="b"/>
            <a:pathLst>
              <a:path w="265" h="139">
                <a:moveTo>
                  <a:pt x="244" y="0"/>
                </a:moveTo>
                <a:lnTo>
                  <a:pt x="265" y="0"/>
                </a:lnTo>
                <a:lnTo>
                  <a:pt x="265" y="21"/>
                </a:lnTo>
                <a:lnTo>
                  <a:pt x="21" y="139"/>
                </a:lnTo>
                <a:lnTo>
                  <a:pt x="0" y="139"/>
                </a:lnTo>
                <a:lnTo>
                  <a:pt x="0" y="117"/>
                </a:lnTo>
                <a:lnTo>
                  <a:pt x="24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2040" y="1855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183360" y="2262240"/>
            <a:ext cx="17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83360" y="2517840"/>
            <a:ext cx="1728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81760" y="2637000"/>
            <a:ext cx="404640" cy="712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81760" y="2637000"/>
            <a:ext cx="404640" cy="33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81760" y="2670120"/>
            <a:ext cx="33120" cy="644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81760" y="3314880"/>
            <a:ext cx="404640" cy="3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53280" y="2670120"/>
            <a:ext cx="33120" cy="6447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58880" y="2890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037120" y="2127240"/>
            <a:ext cx="977760" cy="1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246800" y="2076480"/>
            <a:ext cx="150840" cy="101520"/>
          </a:xfrm>
          <a:custGeom>
            <a:avLst/>
            <a:gdLst/>
            <a:ahLst/>
            <a:rect l="l" t="t" r="r" b="b"/>
            <a:pathLst>
              <a:path w="95" h="64">
                <a:moveTo>
                  <a:pt x="95" y="32"/>
                </a:moveTo>
                <a:lnTo>
                  <a:pt x="0" y="64"/>
                </a:lnTo>
                <a:lnTo>
                  <a:pt x="0" y="0"/>
                </a:lnTo>
                <a:lnTo>
                  <a:pt x="95" y="32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419880" y="2127240"/>
            <a:ext cx="944640" cy="15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037120" y="1889280"/>
            <a:ext cx="17640" cy="492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2680" y="1752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40760" y="1770120"/>
            <a:ext cx="17280" cy="37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40760" y="1770120"/>
            <a:ext cx="488880" cy="18720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0"/>
                </a:moveTo>
                <a:lnTo>
                  <a:pt x="28" y="11"/>
                </a:lnTo>
                <a:lnTo>
                  <a:pt x="29" y="1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240760" y="1957320"/>
            <a:ext cx="473040" cy="185760"/>
          </a:xfrm>
          <a:custGeom>
            <a:avLst/>
            <a:gdLst/>
            <a:ahLst/>
            <a:rect l="l" t="t" r="r" b="b"/>
            <a:pathLst>
              <a:path w="28" h="11">
                <a:moveTo>
                  <a:pt x="28" y="0"/>
                </a:moveTo>
                <a:lnTo>
                  <a:pt x="0" y="11"/>
                </a:lnTo>
                <a:lnTo>
                  <a:pt x="1" y="1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713800" y="1957320"/>
            <a:ext cx="183960" cy="158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55000" y="1957320"/>
            <a:ext cx="203040" cy="158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240760" y="2873520"/>
            <a:ext cx="422280" cy="476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40760" y="2873520"/>
            <a:ext cx="422280" cy="17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40760" y="2890800"/>
            <a:ext cx="17280" cy="441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40760" y="3332160"/>
            <a:ext cx="422280" cy="17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45400" y="2890800"/>
            <a:ext cx="17640" cy="441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37320" y="29764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04240" y="3094200"/>
            <a:ext cx="236520" cy="17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678880" y="3094200"/>
            <a:ext cx="203040" cy="17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92480" y="1447920"/>
            <a:ext cx="623880" cy="17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092480" y="1465200"/>
            <a:ext cx="17640" cy="6271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092480" y="2092320"/>
            <a:ext cx="623880" cy="176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00520" y="1465200"/>
            <a:ext cx="15840" cy="6271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11640" y="1566720"/>
            <a:ext cx="270000" cy="289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11640" y="1566720"/>
            <a:ext cx="270000" cy="1764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11640" y="1584360"/>
            <a:ext cx="15840" cy="25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11640" y="1838160"/>
            <a:ext cx="270000" cy="17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64000" y="1584360"/>
            <a:ext cx="17640" cy="2538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59360" y="2297160"/>
            <a:ext cx="657000" cy="5252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59360" y="2309760"/>
            <a:ext cx="657000" cy="334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59360" y="2330280"/>
            <a:ext cx="33120" cy="459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59360" y="2789280"/>
            <a:ext cx="657000" cy="331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683240" y="2330280"/>
            <a:ext cx="33120" cy="4590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15960" y="2465280"/>
            <a:ext cx="42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6200" y="4049640"/>
            <a:ext cx="11556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7" y="0"/>
                </a:moveTo>
                <a:lnTo>
                  <a:pt x="73" y="100"/>
                </a:lnTo>
                <a:lnTo>
                  <a:pt x="0" y="100"/>
                </a:lnTo>
                <a:lnTo>
                  <a:pt x="37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54880" y="4078440"/>
            <a:ext cx="14040" cy="67932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05760" y="4295880"/>
            <a:ext cx="14040" cy="3762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05760" y="4280040"/>
            <a:ext cx="1608120" cy="15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51640" y="5032440"/>
            <a:ext cx="797040" cy="144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37600" y="5018040"/>
            <a:ext cx="14040" cy="4348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39040" y="5438880"/>
            <a:ext cx="927000" cy="140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34280" y="5438880"/>
            <a:ext cx="666720" cy="140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96200" y="4830840"/>
            <a:ext cx="11556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7" y="0"/>
                </a:moveTo>
                <a:lnTo>
                  <a:pt x="73" y="100"/>
                </a:lnTo>
                <a:lnTo>
                  <a:pt x="0" y="100"/>
                </a:lnTo>
                <a:lnTo>
                  <a:pt x="37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4880" y="4859280"/>
            <a:ext cx="14040" cy="67968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94960" y="40482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6720" y="485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234280" y="5032440"/>
            <a:ext cx="14400" cy="4204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539040" y="6262560"/>
            <a:ext cx="927000" cy="144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451640" y="5886360"/>
            <a:ext cx="14400" cy="390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451640" y="5886360"/>
            <a:ext cx="797040" cy="144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234280" y="5886360"/>
            <a:ext cx="14400" cy="390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234280" y="6262560"/>
            <a:ext cx="666720" cy="144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496200" y="5799240"/>
            <a:ext cx="115560" cy="160200"/>
          </a:xfrm>
          <a:custGeom>
            <a:avLst/>
            <a:gdLst/>
            <a:ahLst/>
            <a:rect l="l" t="t" r="r" b="b"/>
            <a:pathLst>
              <a:path w="73" h="101">
                <a:moveTo>
                  <a:pt x="37" y="0"/>
                </a:moveTo>
                <a:lnTo>
                  <a:pt x="73" y="101"/>
                </a:lnTo>
                <a:lnTo>
                  <a:pt x="0" y="101"/>
                </a:lnTo>
                <a:lnTo>
                  <a:pt x="37" y="0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554880" y="5829480"/>
            <a:ext cx="14040" cy="69372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37800" y="56833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539040" y="4656240"/>
            <a:ext cx="680760" cy="158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5280" y="4570560"/>
            <a:ext cx="927360" cy="119988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95280" y="4570560"/>
            <a:ext cx="927360" cy="428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4613400"/>
            <a:ext cx="42840" cy="11142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5727600"/>
            <a:ext cx="927360" cy="428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179800" y="4613400"/>
            <a:ext cx="42840" cy="11142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8920" y="4772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59480" y="47880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8960" y="4599000"/>
            <a:ext cx="28440" cy="11574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95280" y="5046840"/>
            <a:ext cx="912960" cy="2988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67360" y="522144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    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07320" y="549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35040" y="5495760"/>
            <a:ext cx="115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20200" y="496080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34600" y="530856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22720" y="5235480"/>
            <a:ext cx="85680" cy="144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5235480"/>
            <a:ext cx="101520" cy="144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9320" y="4989600"/>
            <a:ext cx="898200" cy="4046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9320" y="4989600"/>
            <a:ext cx="898200" cy="284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29320" y="5018040"/>
            <a:ext cx="28440" cy="3477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9320" y="5365800"/>
            <a:ext cx="898200" cy="284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97640" y="5018040"/>
            <a:ext cx="29880" cy="3477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31720" y="5133960"/>
            <a:ext cx="32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70"/>
          <a:stretch/>
        </p:blipFill>
        <p:spPr>
          <a:xfrm>
            <a:off x="990720" y="1143000"/>
            <a:ext cx="2435040" cy="21114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71"/>
          <a:stretch/>
        </p:blipFill>
        <p:spPr>
          <a:xfrm>
            <a:off x="3276720" y="2514600"/>
            <a:ext cx="72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787320" cy="10666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gique combinato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952880" cy="169992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1143000" y="3657600"/>
            <a:ext cx="7848720" cy="224460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4"/>
          <a:stretch/>
        </p:blipFill>
        <p:spPr>
          <a:xfrm>
            <a:off x="6477120" y="5207040"/>
            <a:ext cx="195120" cy="914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1066680" y="914400"/>
            <a:ext cx="25146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09:54:58Z</dcterms:created>
  <dc:creator>Antonin ARTAUD</dc:creator>
  <dc:description/>
  <dc:language>en-US</dc:language>
  <cp:lastModifiedBy>Antonin ARTAUD</cp:lastModifiedBy>
  <dcterms:modified xsi:type="dcterms:W3CDTF">2008-03-25T16:24:41Z</dcterms:modified>
  <cp:revision>61</cp:revision>
  <dc:subject/>
  <dc:title>Logique combinatoire</dc:title>
</cp:coreProperties>
</file>