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962-0EA1-466B-9B3A-9485A3A3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B5E-1BD2-4062-9BE6-2324E5E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253-80CC-4EFF-AAC2-BB36A660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894-42B8-4869-8743-D8091E5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0D1-E1FD-4881-9928-0494B3AE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457-D24B-491E-859F-D404AF9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B73B-3CE6-406C-A564-4A9A0958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500-80D7-42B5-A717-0CC1460A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D8D3-49DA-4C13-89DE-6AF1DBF5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0B9-D934-42A4-9F4C-99DA87D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8E77-960D-4DC8-8525-A88171B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464-9C3C-4599-8C9F-FB51B5A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FF3-8687-4F15-BC67-356FB1C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6978-8426-4C23-8986-B551DF2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FB6-2216-4A02-8BAC-8698FCD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214-566B-4C50-970F-3ADA9F5E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50B5-CDB9-4F0B-BB38-8D4D7557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885-A750-4A00-A349-46DFAAB3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4E0-A982-4B30-828F-647D4591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A4E-29AF-4A25-A698-BD280A2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97B-99D1-4194-9F9D-C970560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454-B6FF-45E5-9E87-F0A72823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8AB-575A-4793-A1F3-8F10B3D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7CA-FC09-429A-A79A-B70944E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D1D7-A01F-4D75-8C0C-22887F68A5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96F-B567-483B-B26C-7C3B3B9875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733920" y="3200400"/>
            <a:ext cx="5029200" cy="2895480"/>
            <a:chOff x="3733920" y="3200400"/>
            <a:chExt cx="5029200" cy="2895480"/>
          </a:xfrm>
        </p:grpSpPr>
        <p:pic>
          <p:nvPicPr>
            <p:cNvPr id="128" name="CLP4B1_Pic1" descr=""/>
            <p:cNvPicPr/>
            <p:nvPr/>
          </p:nvPicPr>
          <p:blipFill>
            <a:blip r:embed="rId1"/>
            <a:stretch/>
          </p:blipFill>
          <p:spPr>
            <a:xfrm>
              <a:off x="3886200" y="3429000"/>
              <a:ext cx="480060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809880" y="3352680"/>
              <a:ext cx="4953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9880" y="3200400"/>
              <a:ext cx="15264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5867280"/>
              <a:ext cx="50292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0480" y="3200400"/>
              <a:ext cx="152640" cy="28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41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914400"/>
            <a:ext cx="2133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-Energie potentielle E</a:t>
            </a:r>
            <a:r>
              <a:rPr b="1" lang="fr-FR" sz="11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3627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nergétique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523880"/>
            <a:ext cx="769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our ces cas, le travail réalisé est indépendant des trajectoires et dépend uniquement des positions initiale et finale des forces encore appelées forces conservativ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057400"/>
            <a:ext cx="289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omic Sans MS"/>
              </a:rPr>
              <a:t>I-1 Energie potentielle de pesanteu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43828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'énergie potentielle dépend de l'altitude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de l'objet, plus l'objet est haut et plus il y a d'énergie potentielle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3429000"/>
            <a:ext cx="1905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</a:t>
            </a:r>
            <a:r>
              <a:rPr b="0" i="1" lang="en-US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= mg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P1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P2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= mg (z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1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 - z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= mg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352680"/>
            <a:ext cx="205740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96200" y="4133880"/>
            <a:ext cx="0" cy="6094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828800" y="1066680"/>
            <a:ext cx="6477120" cy="1905120"/>
            <a:chOff x="1828800" y="1066680"/>
            <a:chExt cx="6477120" cy="1905120"/>
          </a:xfrm>
        </p:grpSpPr>
        <p:pic>
          <p:nvPicPr>
            <p:cNvPr id="143" name="CLP4B1_Pic2" descr=""/>
            <p:cNvPicPr/>
            <p:nvPr/>
          </p:nvPicPr>
          <p:blipFill>
            <a:blip r:embed="rId1"/>
            <a:stretch/>
          </p:blipFill>
          <p:spPr>
            <a:xfrm>
              <a:off x="1981080" y="1143000"/>
              <a:ext cx="617220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477120" y="1523880"/>
              <a:ext cx="13744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F = charge sur le ress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mic Sans MS"/>
                </a:rPr>
                <a:t>f = flèche du ress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1066680"/>
              <a:ext cx="44956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4200" y="1143000"/>
              <a:ext cx="7596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2819520"/>
              <a:ext cx="64771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77320" y="1905120"/>
              <a:ext cx="15228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2057400"/>
              <a:ext cx="838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53120" y="2171880"/>
              <a:ext cx="745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402240" y="5484960"/>
            <a:ext cx="362160" cy="9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6172200"/>
            <a:ext cx="49960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4680" y="4761000"/>
            <a:ext cx="71280" cy="15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nergétique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8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48240" y="1638360"/>
            <a:ext cx="1085760" cy="101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1533600"/>
            <a:ext cx="0" cy="36180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1305000"/>
            <a:ext cx="0" cy="34128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571760"/>
            <a:ext cx="579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Comic Sans MS"/>
              </a:rPr>
              <a:t>F=k.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4200" y="1943280"/>
            <a:ext cx="8683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3366cc"/>
                </a:solidFill>
                <a:latin typeface="Comic Sans MS"/>
              </a:rPr>
              <a:t>Aire W</a:t>
            </a:r>
            <a:r>
              <a:rPr b="0" lang="fr-FR" sz="800" spc="-1" strike="noStrike" baseline="-25000">
                <a:solidFill>
                  <a:srgbClr val="3366cc"/>
                </a:solidFill>
                <a:latin typeface="Comic Sans MS"/>
              </a:rPr>
              <a:t>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838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I - 2. Energie potentielle élastique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9718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Charge sur le ressort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 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9718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avec 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971800"/>
            <a:ext cx="3810240" cy="7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0" i="1" lang="en-US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ongueur libre ou longueur au repos 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x  longueur du ressort sous charge 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f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éformation ou flèche du ressort 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k 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raideur du ressor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733920"/>
            <a:ext cx="502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Travail élémentaire développé par une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charge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comprimant le ressor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3962520"/>
            <a:ext cx="5867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Si x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– x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= dx est très petit,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1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≈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= F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varie très peu et le travail élémentaire s'ex­prime par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267080"/>
            <a:ext cx="1676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W = F dx = k (l</a:t>
            </a:r>
            <a:r>
              <a:rPr b="0" i="1" lang="en-US" sz="1000" spc="-1" strike="noStrike" baseline="-30000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 - x) d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9568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e travail total est donné par 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09880" y="4724280"/>
                <a:ext cx="15764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47920" y="502920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Énergie potentielle du ressor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95480" y="5334120"/>
                <a:ext cx="15242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  <m:r>
                              <m:t xml:space="preserve">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029200" y="556272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(E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en J ;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en N.m </a:t>
            </a:r>
            <a:r>
              <a:rPr b="0" i="1" lang="nl-NL" sz="1000" spc="-1" strike="noStrike" baseline="30000">
                <a:solidFill>
                  <a:srgbClr val="000000"/>
                </a:solidFill>
                <a:latin typeface="Comic Sans MS"/>
              </a:rPr>
              <a:t>-1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i="1" lang="nl-NL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en m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6248520"/>
            <a:ext cx="6172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a compression du ressort permet d'accumuler de l'énergie potentielle. Pour les ressorts de torsion :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=1/2kα²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(α en rad ;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n Nm.rad</a:t>
            </a:r>
            <a:r>
              <a:rPr b="0" i="1" lang="fr-FR" sz="1000" spc="-1" strike="noStrike" baseline="30000">
                <a:solidFill>
                  <a:srgbClr val="000000"/>
                </a:solidFill>
                <a:latin typeface="Comic Sans MS"/>
              </a:rPr>
              <a:t>-1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53320" y="3352680"/>
            <a:ext cx="96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F = kf = (k(l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-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257800"/>
            <a:ext cx="175248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105600" y="2123640"/>
            <a:ext cx="285840" cy="1904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124000"/>
            <a:ext cx="5335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2941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nergétique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838080"/>
            <a:ext cx="175248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I Energie cinétique E</a:t>
            </a:r>
            <a:r>
              <a:rPr b="1" lang="fr-FR" sz="11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219320"/>
            <a:ext cx="7391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n peut considérer l'énergie cinétique comme étant une sorte d'énergie potentielle liée à la vitesse de déplacement. Plus un solide se déplace rapidement, plus il accumule de l'énergie cinétique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82880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omic Sans MS"/>
              </a:rPr>
              <a:t>II – 1 . Solide en translation rectilign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48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LP4A2_Pic2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743200" cy="163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228600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Tous les points du solide se déplacent à la même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vitesse 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0" y="2590920"/>
                <a:ext cx="1066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066680" y="2971800"/>
            <a:ext cx="472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'énergie cinétique d'un solide en translation rectilig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st égale à la moitié du produit de la masse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du solid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par le carré de sa vitesse 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380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7920" y="3505320"/>
                <a:ext cx="1076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666880" y="358128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avec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581280"/>
            <a:ext cx="236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k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n J (joules) ; m en kg ; V en m.s</a:t>
            </a:r>
            <a:r>
              <a:rPr b="0" i="1" lang="fr-FR" sz="1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8862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xemp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1911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Énergie cinétique d'un camion de masse éga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à 14 000 kg roulant à 108 km.h</a:t>
            </a:r>
            <a:r>
              <a:rPr b="0" i="1" lang="fr-FR" sz="1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4648320"/>
            <a:ext cx="1676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 = 108/3,6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= 30 m.s </a:t>
            </a:r>
            <a:r>
              <a:rPr b="0" lang="nl-NL" sz="1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51055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k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= 2 x 14000x 30</a:t>
            </a:r>
            <a:r>
              <a:rPr b="0" i="1" lang="nl-NL" sz="1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=6 300 000J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943600"/>
            <a:ext cx="8001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Remarque :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si la vitesse du véhicule est divisée par deux (54 km.h</a:t>
            </a:r>
            <a:r>
              <a:rPr b="0" i="1" lang="fr-FR" sz="1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), l'énergie cinétique est divisée par 4 (6 300/4 = 1 575 kJ) et inversement. Le travail des freins consiste à absorber de l'énergie cinétique pour ralentir le véhicule. En cas de chocs, l'énergie cinétique accumulée est brutalement convertie en déformations (carrosserie, etc.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9240" y="2851200"/>
            <a:ext cx="838080" cy="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78600" y="2292480"/>
            <a:ext cx="927000" cy="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3429000"/>
            <a:ext cx="12193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93560" y="5181480"/>
            <a:ext cx="843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</a:t>
            </a:r>
            <a:r>
              <a:rPr b="0" i="1" lang="nl-NL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k</a:t>
            </a:r>
            <a:r>
              <a:rPr b="0" i="1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= 6300 k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5105520"/>
            <a:ext cx="1066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410080" y="4419720"/>
            <a:ext cx="3581640" cy="1454040"/>
            <a:chOff x="5410080" y="4419720"/>
            <a:chExt cx="3581640" cy="1454040"/>
          </a:xfrm>
        </p:grpSpPr>
        <p:pic>
          <p:nvPicPr>
            <p:cNvPr id="203" name="CLP4A2_Pic3" descr=""/>
            <p:cNvPicPr/>
            <p:nvPr/>
          </p:nvPicPr>
          <p:blipFill>
            <a:blip r:embed="rId2"/>
            <a:stretch/>
          </p:blipFill>
          <p:spPr>
            <a:xfrm>
              <a:off x="5486400" y="4495680"/>
              <a:ext cx="3467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410080" y="4448160"/>
              <a:ext cx="354348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4419720"/>
              <a:ext cx="7452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16840" y="4448160"/>
              <a:ext cx="74880" cy="13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2789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nergétique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914400"/>
            <a:ext cx="388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omic Sans MS"/>
              </a:rPr>
              <a:t>II -2. Solide en rotation par rapport à un axe fix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1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74840" y="1303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295280"/>
            <a:ext cx="2187360" cy="1960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824120" cy="1649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748000" y="282564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99320" y="1357200"/>
            <a:ext cx="12096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34240" y="3000240"/>
            <a:ext cx="1886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34240" y="1357200"/>
            <a:ext cx="5724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34240" y="1357200"/>
            <a:ext cx="18270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26520" y="1357200"/>
            <a:ext cx="234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295280"/>
            <a:ext cx="5181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our l'élément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de masse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d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dont la vitesse est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i="1" lang="fr-FR" sz="1000" spc="-1" strike="noStrike" baseline="-30000">
                <a:solidFill>
                  <a:srgbClr val="000000"/>
                </a:solidFill>
                <a:latin typeface="Comic Sans MS"/>
              </a:rPr>
              <a:t>M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 = ωr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, l'énergie cinétique est 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676520"/>
            <a:ext cx="1904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de-DE" sz="1000" spc="-1" strike="noStrike" baseline="-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de-DE" sz="1000" spc="-1" strike="noStrike">
                <a:solidFill>
                  <a:srgbClr val="000000"/>
                </a:solidFill>
                <a:latin typeface="Comic Sans MS"/>
              </a:rPr>
              <a:t>½(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i="1" lang="de-DE" sz="1000" spc="-1" strike="noStrike">
                <a:solidFill>
                  <a:srgbClr val="000000"/>
                </a:solidFill>
                <a:latin typeface="Comic Sans MS"/>
              </a:rPr>
              <a:t>r)</a:t>
            </a:r>
            <a:r>
              <a:rPr b="0" i="1" lang="de-DE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de-DE" sz="1000" spc="-1" strike="noStrike">
                <a:solidFill>
                  <a:srgbClr val="000000"/>
                </a:solidFill>
                <a:latin typeface="Comic Sans MS"/>
              </a:rPr>
              <a:t> dm = ½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1" i="1" lang="de-DE" sz="10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i="1" lang="de-DE" sz="1000" spc="-1" strike="noStrike">
                <a:solidFill>
                  <a:srgbClr val="000000"/>
                </a:solidFill>
                <a:latin typeface="Comic Sans MS"/>
              </a:rPr>
              <a:t> r</a:t>
            </a:r>
            <a:r>
              <a:rPr b="0" i="1" lang="de-DE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de-DE" sz="1000" spc="-1" strike="noStrike">
                <a:solidFill>
                  <a:srgbClr val="000000"/>
                </a:solidFill>
                <a:latin typeface="Comic Sans MS"/>
              </a:rPr>
              <a:t> dm</a:t>
            </a: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98108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Pour l'ensemble du solide :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k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=½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 ω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²Σr²dm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286000"/>
            <a:ext cx="4800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terme 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J = Σr²d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 représente le moment d'inertie par rapport à l'axe de rotation (voir cours «  moment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d'inertie »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743200"/>
            <a:ext cx="5105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'énergie cinétique d'un solide en rotation est éga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à la moitié du produit du moment d'inertie J du solide (par rapport à son axe de rotation) par le car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de sa vitesse angulaire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ω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429000"/>
            <a:ext cx="1143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fr-FR" sz="1000" spc="-1" strike="noStrike" baseline="-30000">
                <a:solidFill>
                  <a:srgbClr val="000000"/>
                </a:solidFill>
                <a:latin typeface="Comic Sans MS"/>
              </a:rPr>
              <a:t>k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= T = ½Jω</a:t>
            </a:r>
            <a:r>
              <a:rPr b="0" i="1" lang="fr-FR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429000"/>
            <a:ext cx="3809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avec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fr-FR" sz="1000" spc="-1" strike="noStrike" baseline="-30000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n J (joules) ;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en 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 kg ;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en rad.s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38098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xemp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419112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éterminons l'énergie cinétique d'un volant de presse cylindriqu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(Ø 2m,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h=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0,5 m) tournant à 1 000 tr.min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autour de son axe de révolu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a masse volumique de l'acier est ρ =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7 800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kg.m 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47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CLP4C0_Pic2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687680" cy="1905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487692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 = masse du volant = masse volumique x volu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ρ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x (π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h) =7800x π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x 0,5 = 12 252 k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861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362320" y="5486400"/>
                <a:ext cx="2371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252</m:t>
                        </m:r>
                        <m:r>
                          <m:t xml:space="preserve">x</m:t>
                        </m:r>
                        <m:r>
                          <m:t xml:space="preserve">1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26</m:t>
                    </m:r>
                    <m:r>
                      <m:t xml:space="preserve">m</m:t>
                    </m:r>
                    <m:r>
                      <m:t xml:space="preserve">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050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52760" y="6132600"/>
                <a:ext cx="219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ω</m:t>
                    </m:r>
                    <m:r>
                      <m:t xml:space="preserve">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2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590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7648560" y="1676520"/>
            <a:ext cx="11811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429000"/>
            <a:ext cx="11430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15040" y="6184800"/>
                <a:ext cx="80172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590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257800" y="6095880"/>
            <a:ext cx="99072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52680" y="4724280"/>
            <a:ext cx="60120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919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91915"/>
              </a:path>
            </a:pathLst>
          </a:cu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00960" y="4952880"/>
            <a:ext cx="38160" cy="9540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6553080" y="4191120"/>
            <a:ext cx="1809720" cy="1380960"/>
            <a:chOff x="6553080" y="4191120"/>
            <a:chExt cx="1809720" cy="1380960"/>
          </a:xfrm>
        </p:grpSpPr>
        <p:graphicFrame>
          <p:nvGraphicFramePr>
            <p:cNvPr id="242" name=""/>
            <p:cNvGraphicFramePr/>
            <p:nvPr/>
          </p:nvGraphicFramePr>
          <p:xfrm>
            <a:off x="6553080" y="4267440"/>
            <a:ext cx="1809720" cy="130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3080" y="4267440"/>
                      <a:ext cx="1809720" cy="13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"/>
            <p:cNvSpPr/>
            <p:nvPr/>
          </p:nvSpPr>
          <p:spPr>
            <a:xfrm>
              <a:off x="7238880" y="4191120"/>
              <a:ext cx="3524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4720" y="4248360"/>
              <a:ext cx="24768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6400" y="4781520"/>
              <a:ext cx="4190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24520" y="4648320"/>
              <a:ext cx="3333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2865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nergétique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68580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omic Sans MS"/>
              </a:rPr>
              <a:t>II - 3. Solide en mouvement 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99072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éfinition 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219320" y="1523880"/>
                <a:ext cx="1743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ω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429000" y="1219320"/>
            <a:ext cx="57150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</a:t>
            </a:r>
            <a:r>
              <a:rPr b="1" i="1" lang="en-US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(ou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) : énergie cinétique en J (jou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V</a:t>
            </a:r>
            <a:r>
              <a:rPr b="1" i="1" lang="en-US" sz="1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G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: vitesse (absolue) du centre de gravité G du solide (m.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ω: vitesse angulaire du solide (rad.s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: masse du solide (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i="1" lang="fr-FR" sz="1000" spc="-1" strike="noStrike" baseline="-30000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1000" spc="-1" strike="noStrike" baseline="-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fr-FR" sz="1000" spc="-1" strike="noStrike" baseline="-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moment d'inertie du solide par rapport à un axe perpendiculaire au plan du mouvement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passant par G (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kg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67000" y="226692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éfinition 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0068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685960" y="264780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ω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05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971960" y="2724120"/>
                <a:ext cx="1133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G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4210200" y="27241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avec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3124080"/>
            <a:ext cx="8001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e point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est le centre instantané de rotation du mouv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t J</a:t>
            </a:r>
            <a:r>
              <a:rPr b="0" lang="fr-FR" sz="1000" spc="-1" strike="noStrike" baseline="-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le moment d'inertie par rapport à l'axe instantané de rotation (axe passant par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et perpendiculaire au plan du mouvement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3657600"/>
            <a:ext cx="792504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xempl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: prenons le cas d'un disque plein, masse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, rayon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, roulant sans glisser sur un plan horizontal à la vitesse angulaire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ω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, déterminons son énergie cinét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e mouvement est un mouvement plan de centre instantané de rotation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905120" y="4343400"/>
                <a:ext cx="7239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  <m:r>
                              <m:t xml:space="preserve">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27241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006640" y="5149800"/>
                <a:ext cx="22734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ω</m:t>
                    </m:r>
                    <m:r>
                      <m:t xml:space="preserve">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ω</m:t>
                    </m:r>
                    <m:r>
                      <m:t xml:space="preserve">²</m:t>
                    </m:r>
                    <m:r>
                      <m:t xml:space="preserve">R</m:t>
                    </m:r>
                    <m:r>
                      <m:t xml:space="preserve">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36669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5683320"/>
            <a:ext cx="838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Remarque 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4080" y="5867280"/>
                <a:ext cx="633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t xml:space="preserve">²</m:t>
                        </m:r>
                      </m:e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76920" y="6324480"/>
                <a:ext cx="761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ω</m:t>
                        </m:r>
                        <m:r>
                          <m:t xml:space="preserve">²</m:t>
                        </m:r>
                        <m:r>
                          <m:t xml:space="preserve">R</m:t>
                        </m:r>
                        <m:r>
                          <m:t xml:space="preserve">²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876920" y="5867280"/>
                <a:ext cx="1168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  <m:r>
                              <m:t xml:space="preserve">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²</m:t>
                        </m:r>
                      </m:e>
                    </m:d>
                    <m:r>
                      <m:t xml:space="preserve">ω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24080" y="6324480"/>
                <a:ext cx="1130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G</m:t>
                        </m:r>
                        <m:r>
                          <m:t xml:space="preserve">²</m:t>
                        </m:r>
                      </m:e>
                    </m:d>
                    <m:r>
                      <m:t xml:space="preserve">ω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143000" y="1447920"/>
            <a:ext cx="1905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33680" y="2571840"/>
            <a:ext cx="14479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296120" y="4828680"/>
            <a:ext cx="695520" cy="97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17200" y="4325760"/>
            <a:ext cx="64332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92" y="7"/>
                </a:moveTo>
                <a:arcTo wR="10800" hR="10800" stAng="-5275146" swAng="4154528"/>
                <a:lnTo>
                  <a:pt x="10800" y="10800"/>
                </a:lnTo>
                <a:close/>
              </a:path>
              <a:path fill="none" w="21600" h="21600">
                <a:moveTo>
                  <a:pt x="11192" y="7"/>
                </a:moveTo>
                <a:arcTo wR="10800" hR="10800" stAng="-5275146" swAng="4154528"/>
              </a:path>
            </a:pathLst>
          </a:cu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34240" y="4533840"/>
            <a:ext cx="19080" cy="6660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838760" y="512460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ω</m:t>
                        </m:r>
                        <m:r>
                          <m:t xml:space="preserve">²</m:t>
                        </m:r>
                        <m:r>
                          <m:t xml:space="preserve">R</m:t>
                        </m:r>
                        <m:r>
                          <m:t xml:space="preserve">²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724280" y="5029200"/>
            <a:ext cx="10670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7905600" y="4600440"/>
                <a:ext cx="17784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7680240" y="4238640"/>
                <a:ext cx="15264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06:53:02Z</dcterms:created>
  <dc:creator>Michel</dc:creator>
  <dc:description/>
  <dc:language>en-US</dc:language>
  <cp:lastModifiedBy>Michel</cp:lastModifiedBy>
  <dcterms:modified xsi:type="dcterms:W3CDTF">2013-10-15T06:49:33Z</dcterms:modified>
  <cp:revision>18</cp:revision>
  <dc:subject/>
  <dc:title>Energétique 2</dc:title>
</cp:coreProperties>
</file>