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gif" ContentType="image/gif"/>
  <Override PartName="/ppt/media/image16.jpeg" ContentType="image/jpeg"/>
  <Override PartName="/ppt/media/image11.gif" ContentType="image/gif"/>
  <Override PartName="/ppt/media/image10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2.jpeg" ContentType="image/jpeg"/>
  <Override PartName="/ppt/media/image6.png" ContentType="image/png"/>
  <Override PartName="/ppt/media/image26.jpeg" ContentType="image/jpeg"/>
  <Override PartName="/ppt/media/image3.jpeg" ContentType="image/jpeg"/>
  <Override PartName="/ppt/media/image23.gif" ContentType="image/gif"/>
  <Override PartName="/ppt/media/image15.gif" ContentType="image/gif"/>
  <Override PartName="/ppt/media/image28.jpeg" ContentType="image/jpeg"/>
  <Override PartName="/ppt/media/image4.png" ContentType="image/png"/>
  <Override PartName="/ppt/media/image27.png" ContentType="image/png"/>
  <Override PartName="/ppt/media/image20.jpeg" ContentType="image/jpeg"/>
  <Override PartName="/ppt/media/image18.jpeg" ContentType="image/jpeg"/>
  <Override PartName="/ppt/media/image24.png" ContentType="image/png"/>
  <Override PartName="/ppt/media/image21.gif" ContentType="image/gif"/>
  <Override PartName="/ppt/media/image19.gif" ContentType="image/gif"/>
  <Override PartName="/ppt/media/image17.gif" ContentType="image/gi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9965A-CE49-4BD8-A4AA-58A18A0E4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54A58-4DE7-495C-B4D7-F3747E3AD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F6CA-B7E3-4430-BB95-C3EC7A0B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E53B-40C6-4087-AC43-77631FB1A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770C6-9507-425B-994D-5F4F8C287A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5582-9919-4545-AA6F-975779540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DAD7-9FA5-44C4-8FD4-EA6E11EF4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88D34-AF56-40C4-9FCE-3A5D79AF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78E04A-7707-4760-BB07-6DFE040CD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49E13-D825-43AC-875B-60F70DD5A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9449C-FAB7-49B7-9240-F40F19545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C0D7-9939-4686-88BC-E4842B912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EB57E-C59F-496B-B979-4784B02D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1EC4A-7347-4DCF-811A-9592A003D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07532-7172-444C-9BE7-E14E0ADC2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91145-395C-4BD0-8F56-D91C9C40B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FDB8-E38D-4B8B-A555-AB4FFB920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A217-2958-4359-BD34-CDB697E5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8E47-AE8C-4244-899E-CFA22DFDF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15D9-8ED1-4F3D-9C00-5DB635515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525-99CE-4F55-B55B-447916F9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9DA75-1167-47A7-85D9-24415CFE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ADE1-06D7-4EFF-9DDE-925193D01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DD9F-E497-4495-A932-256D1E2A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ABAD6-DEB4-49C6-ADAD-3255F23B60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195840"/>
            <a:ext cx="7772400" cy="228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25A95-D108-45EC-8472-1669BB8C8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jpeg"/><Relationship Id="rId4" Type="http://schemas.openxmlformats.org/officeDocument/2006/relationships/image" Target="../media/image13.gif"/><Relationship Id="rId5" Type="http://schemas.openxmlformats.org/officeDocument/2006/relationships/image" Target="../media/image14.jpeg"/><Relationship Id="rId6" Type="http://schemas.openxmlformats.org/officeDocument/2006/relationships/image" Target="../media/image15.gif"/><Relationship Id="rId7" Type="http://schemas.openxmlformats.org/officeDocument/2006/relationships/image" Target="../media/image16.jpeg"/><Relationship Id="rId8" Type="http://schemas.openxmlformats.org/officeDocument/2006/relationships/image" Target="../media/image17.gif"/><Relationship Id="rId9" Type="http://schemas.openxmlformats.org/officeDocument/2006/relationships/image" Target="../media/image18.jpeg"/><Relationship Id="rId10" Type="http://schemas.openxmlformats.org/officeDocument/2006/relationships/image" Target="../media/image19.gif"/><Relationship Id="rId11" Type="http://schemas.openxmlformats.org/officeDocument/2006/relationships/image" Target="../media/image20.jpeg"/><Relationship Id="rId12" Type="http://schemas.openxmlformats.org/officeDocument/2006/relationships/image" Target="../media/image21.gif"/><Relationship Id="rId13" Type="http://schemas.openxmlformats.org/officeDocument/2006/relationships/image" Target="../media/image22.jpeg"/><Relationship Id="rId14" Type="http://schemas.openxmlformats.org/officeDocument/2006/relationships/image" Target="../media/image23.gif"/><Relationship Id="rId15" Type="http://schemas.openxmlformats.org/officeDocument/2006/relationships/image" Target="../media/image24.png"/><Relationship Id="rId16" Type="http://schemas.openxmlformats.org/officeDocument/2006/relationships/image" Target="../media/image25.gif"/><Relationship Id="rId17" Type="http://schemas.openxmlformats.org/officeDocument/2006/relationships/image" Target="../media/image26.jpeg"/><Relationship Id="rId18" Type="http://schemas.openxmlformats.org/officeDocument/2006/relationships/image" Target="../media/image27.png"/><Relationship Id="rId19" Type="http://schemas.openxmlformats.org/officeDocument/2006/relationships/image" Target="../media/image28.jpeg"/><Relationship Id="rId20" Type="http://schemas.openxmlformats.org/officeDocument/2006/relationships/image" Target="../media/image10.jpeg"/><Relationship Id="rId21" Type="http://schemas.openxmlformats.org/officeDocument/2006/relationships/image" Target="../media/image11.gif"/><Relationship Id="rId22" Type="http://schemas.openxmlformats.org/officeDocument/2006/relationships/image" Target="../media/image12.jpeg"/><Relationship Id="rId23" Type="http://schemas.openxmlformats.org/officeDocument/2006/relationships/image" Target="../media/image13.gif"/><Relationship Id="rId24" Type="http://schemas.openxmlformats.org/officeDocument/2006/relationships/image" Target="../media/image14.jpeg"/><Relationship Id="rId25" Type="http://schemas.openxmlformats.org/officeDocument/2006/relationships/image" Target="../media/image15.gif"/><Relationship Id="rId26" Type="http://schemas.openxmlformats.org/officeDocument/2006/relationships/image" Target="../media/image16.jpeg"/><Relationship Id="rId27" Type="http://schemas.openxmlformats.org/officeDocument/2006/relationships/image" Target="../media/image17.gif"/><Relationship Id="rId28" Type="http://schemas.openxmlformats.org/officeDocument/2006/relationships/image" Target="../media/image18.jpeg"/><Relationship Id="rId29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gif"/><Relationship Id="rId4" Type="http://schemas.openxmlformats.org/officeDocument/2006/relationships/image" Target="../media/image22.jpeg"/><Relationship Id="rId5" Type="http://schemas.openxmlformats.org/officeDocument/2006/relationships/image" Target="../media/image23.gif"/><Relationship Id="rId6" Type="http://schemas.openxmlformats.org/officeDocument/2006/relationships/image" Target="../media/image24.png"/><Relationship Id="rId7" Type="http://schemas.openxmlformats.org/officeDocument/2006/relationships/image" Target="../media/image25.gif"/><Relationship Id="rId8" Type="http://schemas.openxmlformats.org/officeDocument/2006/relationships/image" Target="../media/image26.jpeg"/><Relationship Id="rId9" Type="http://schemas.openxmlformats.org/officeDocument/2006/relationships/image" Target="../media/image27.png"/><Relationship Id="rId10" Type="http://schemas.openxmlformats.org/officeDocument/2006/relationships/image" Target="../media/image28.jpe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760" y="-360"/>
            <a:ext cx="5151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aisons méca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5379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1-Mou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Trajec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Degrés de liber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Différentes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590560" y="0"/>
            <a:ext cx="4190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-Différentes liaison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321" name="avion" descr=""/>
          <p:cNvPicPr/>
          <p:nvPr/>
        </p:nvPicPr>
        <p:blipFill>
          <a:blip r:embed="rId1"/>
          <a:stretch/>
        </p:blipFill>
        <p:spPr>
          <a:xfrm>
            <a:off x="-4160880" y="-582480"/>
            <a:ext cx="1050840" cy="860400"/>
          </a:xfrm>
          <a:prstGeom prst="rect">
            <a:avLst/>
          </a:prstGeom>
          <a:ln w="0">
            <a:noFill/>
          </a:ln>
        </p:spPr>
      </p:pic>
      <p:pic>
        <p:nvPicPr>
          <p:cNvPr id="322" name="liaison_ponctuelle" descr=""/>
          <p:cNvPicPr/>
          <p:nvPr/>
        </p:nvPicPr>
        <p:blipFill>
          <a:blip r:embed="rId2"/>
          <a:stretch/>
        </p:blipFill>
        <p:spPr>
          <a:xfrm>
            <a:off x="-4160880" y="-58248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323" name="billes" descr=""/>
          <p:cNvPicPr/>
          <p:nvPr/>
        </p:nvPicPr>
        <p:blipFill>
          <a:blip r:embed="rId3"/>
          <a:stretch/>
        </p:blipFill>
        <p:spPr>
          <a:xfrm>
            <a:off x="-4160880" y="-582480"/>
            <a:ext cx="1050840" cy="860400"/>
          </a:xfrm>
          <a:prstGeom prst="rect">
            <a:avLst/>
          </a:prstGeom>
          <a:ln w="0">
            <a:noFill/>
          </a:ln>
        </p:spPr>
      </p:pic>
      <p:pic>
        <p:nvPicPr>
          <p:cNvPr id="324" name="liaison_rectiligne" descr=""/>
          <p:cNvPicPr/>
          <p:nvPr/>
        </p:nvPicPr>
        <p:blipFill>
          <a:blip r:embed="rId4"/>
          <a:stretch/>
        </p:blipFill>
        <p:spPr>
          <a:xfrm>
            <a:off x="-4160880" y="-58248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325" name="images%5B29%5D" descr=""/>
          <p:cNvPicPr/>
          <p:nvPr/>
        </p:nvPicPr>
        <p:blipFill>
          <a:blip r:embed="rId5"/>
          <a:stretch/>
        </p:blipFill>
        <p:spPr>
          <a:xfrm>
            <a:off x="-4160880" y="-582480"/>
            <a:ext cx="860400" cy="838080"/>
          </a:xfrm>
          <a:prstGeom prst="rect">
            <a:avLst/>
          </a:prstGeom>
          <a:ln w="0">
            <a:noFill/>
          </a:ln>
        </p:spPr>
      </p:pic>
      <p:pic>
        <p:nvPicPr>
          <p:cNvPr id="326" name="liaison_plane" descr=""/>
          <p:cNvPicPr/>
          <p:nvPr/>
        </p:nvPicPr>
        <p:blipFill>
          <a:blip r:embed="rId6"/>
          <a:stretch/>
        </p:blipFill>
        <p:spPr>
          <a:xfrm>
            <a:off x="-4160880" y="-58248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327" name="tabouret" descr=""/>
          <p:cNvPicPr/>
          <p:nvPr/>
        </p:nvPicPr>
        <p:blipFill>
          <a:blip r:embed="rId7"/>
          <a:stretch/>
        </p:blipFill>
        <p:spPr>
          <a:xfrm>
            <a:off x="-4160880" y="-582480"/>
            <a:ext cx="860400" cy="663480"/>
          </a:xfrm>
          <a:prstGeom prst="rect">
            <a:avLst/>
          </a:prstGeom>
          <a:ln w="0">
            <a:noFill/>
          </a:ln>
        </p:spPr>
      </p:pic>
      <p:pic>
        <p:nvPicPr>
          <p:cNvPr id="328" name="liaison_annulaire" descr=""/>
          <p:cNvPicPr/>
          <p:nvPr/>
        </p:nvPicPr>
        <p:blipFill>
          <a:blip r:embed="rId8"/>
          <a:stretch/>
        </p:blipFill>
        <p:spPr>
          <a:xfrm>
            <a:off x="-4160880" y="-58248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329" name="sparlit1" descr=""/>
          <p:cNvPicPr/>
          <p:nvPr/>
        </p:nvPicPr>
        <p:blipFill>
          <a:blip r:embed="rId9"/>
          <a:stretch/>
        </p:blipFill>
        <p:spPr>
          <a:xfrm>
            <a:off x="-4160880" y="-582480"/>
            <a:ext cx="1050840" cy="860400"/>
          </a:xfrm>
          <a:prstGeom prst="rect">
            <a:avLst/>
          </a:prstGeom>
          <a:ln w="0">
            <a:noFill/>
          </a:ln>
        </p:spPr>
      </p:pic>
      <p:pic>
        <p:nvPicPr>
          <p:cNvPr id="330" name="liaison_pivot_glissant" descr=""/>
          <p:cNvPicPr/>
          <p:nvPr/>
        </p:nvPicPr>
        <p:blipFill>
          <a:blip r:embed="rId10"/>
          <a:stretch/>
        </p:blipFill>
        <p:spPr>
          <a:xfrm>
            <a:off x="-4160880" y="-58248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331" name="targette" descr=""/>
          <p:cNvPicPr/>
          <p:nvPr/>
        </p:nvPicPr>
        <p:blipFill>
          <a:blip r:embed="rId11"/>
          <a:stretch/>
        </p:blipFill>
        <p:spPr>
          <a:xfrm>
            <a:off x="-4160880" y="-582480"/>
            <a:ext cx="952560" cy="860400"/>
          </a:xfrm>
          <a:prstGeom prst="rect">
            <a:avLst/>
          </a:prstGeom>
          <a:ln w="0">
            <a:noFill/>
          </a:ln>
        </p:spPr>
      </p:pic>
      <p:pic>
        <p:nvPicPr>
          <p:cNvPr id="332" name="liaison_pivot" descr=""/>
          <p:cNvPicPr/>
          <p:nvPr/>
        </p:nvPicPr>
        <p:blipFill>
          <a:blip r:embed="rId12"/>
          <a:stretch/>
        </p:blipFill>
        <p:spPr>
          <a:xfrm>
            <a:off x="-4160880" y="-58248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333" name="windmill" descr=""/>
          <p:cNvPicPr/>
          <p:nvPr/>
        </p:nvPicPr>
        <p:blipFill>
          <a:blip r:embed="rId13"/>
          <a:stretch/>
        </p:blipFill>
        <p:spPr>
          <a:xfrm>
            <a:off x="-4160880" y="-582480"/>
            <a:ext cx="1050840" cy="1143000"/>
          </a:xfrm>
          <a:prstGeom prst="rect">
            <a:avLst/>
          </a:prstGeom>
          <a:ln w="0">
            <a:noFill/>
          </a:ln>
        </p:spPr>
      </p:pic>
      <p:pic>
        <p:nvPicPr>
          <p:cNvPr id="334" name="liaison_glissiere" descr=""/>
          <p:cNvPicPr/>
          <p:nvPr/>
        </p:nvPicPr>
        <p:blipFill>
          <a:blip r:embed="rId14"/>
          <a:stretch/>
        </p:blipFill>
        <p:spPr>
          <a:xfrm>
            <a:off x="-4160880" y="-58248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335" name="train" descr=""/>
          <p:cNvPicPr/>
          <p:nvPr/>
        </p:nvPicPr>
        <p:blipFill>
          <a:blip r:embed="rId15"/>
          <a:stretch/>
        </p:blipFill>
        <p:spPr>
          <a:xfrm>
            <a:off x="-4160880" y="-582480"/>
            <a:ext cx="1050840" cy="860400"/>
          </a:xfrm>
          <a:prstGeom prst="rect">
            <a:avLst/>
          </a:prstGeom>
          <a:ln w="0">
            <a:noFill/>
          </a:ln>
        </p:spPr>
      </p:pic>
      <p:pic>
        <p:nvPicPr>
          <p:cNvPr id="336" name="liaison_helicoidale" descr=""/>
          <p:cNvPicPr/>
          <p:nvPr/>
        </p:nvPicPr>
        <p:blipFill>
          <a:blip r:embed="rId16"/>
          <a:stretch/>
        </p:blipFill>
        <p:spPr>
          <a:xfrm>
            <a:off x="-4160880" y="-58248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337" name="vis-ecrou" descr=""/>
          <p:cNvPicPr/>
          <p:nvPr/>
        </p:nvPicPr>
        <p:blipFill>
          <a:blip r:embed="rId17"/>
          <a:stretch/>
        </p:blipFill>
        <p:spPr>
          <a:xfrm>
            <a:off x="-4160880" y="-582480"/>
            <a:ext cx="792360" cy="792000"/>
          </a:xfrm>
          <a:prstGeom prst="rect">
            <a:avLst/>
          </a:prstGeom>
          <a:ln w="0">
            <a:noFill/>
          </a:ln>
        </p:spPr>
      </p:pic>
      <p:pic>
        <p:nvPicPr>
          <p:cNvPr id="338" name="liaison_encastrement" descr=""/>
          <p:cNvPicPr/>
          <p:nvPr/>
        </p:nvPicPr>
        <p:blipFill>
          <a:blip r:embed="rId18"/>
          <a:stretch/>
        </p:blipFill>
        <p:spPr>
          <a:xfrm>
            <a:off x="-4160880" y="-58248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339" name="boitiers" descr=""/>
          <p:cNvPicPr/>
          <p:nvPr/>
        </p:nvPicPr>
        <p:blipFill>
          <a:blip r:embed="rId19"/>
          <a:stretch/>
        </p:blipFill>
        <p:spPr>
          <a:xfrm>
            <a:off x="-4160880" y="-582480"/>
            <a:ext cx="1050840" cy="860400"/>
          </a:xfrm>
          <a:prstGeom prst="rect">
            <a:avLst/>
          </a:prstGeom>
          <a:ln w="0">
            <a:noFill/>
          </a:ln>
        </p:spPr>
      </p:pic>
      <p:grpSp>
        <p:nvGrpSpPr>
          <p:cNvPr id="340" name=""/>
          <p:cNvGrpSpPr/>
          <p:nvPr/>
        </p:nvGrpSpPr>
        <p:grpSpPr>
          <a:xfrm>
            <a:off x="1447920" y="1219320"/>
            <a:ext cx="7085880" cy="5180760"/>
            <a:chOff x="1447920" y="1219320"/>
            <a:chExt cx="7085880" cy="5180760"/>
          </a:xfrm>
        </p:grpSpPr>
        <p:grpSp>
          <p:nvGrpSpPr>
            <p:cNvPr id="341" name=""/>
            <p:cNvGrpSpPr/>
            <p:nvPr/>
          </p:nvGrpSpPr>
          <p:grpSpPr>
            <a:xfrm>
              <a:off x="1447920" y="1219320"/>
              <a:ext cx="1349280" cy="1353240"/>
              <a:chOff x="1447920" y="1219320"/>
              <a:chExt cx="1349280" cy="1353240"/>
            </a:xfrm>
          </p:grpSpPr>
          <p:sp>
            <p:nvSpPr>
              <p:cNvPr id="342" name=""/>
              <p:cNvSpPr/>
              <p:nvPr/>
            </p:nvSpPr>
            <p:spPr>
              <a:xfrm>
                <a:off x="1457640" y="1229040"/>
                <a:ext cx="1329840" cy="13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3399"/>
                    </a:solidFill>
                    <a:latin typeface="Comic Sans MS"/>
                  </a:rPr>
                  <a:t>Nom des liaisons</a:t>
                </a:r>
                <a:r>
                  <a:rPr b="1" lang="en-US" sz="1200" spc="-1" strike="noStrike">
                    <a:solidFill>
                      <a:srgbClr val="ff66ff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447920" y="1219320"/>
                <a:ext cx="1349280" cy="135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4" name=""/>
            <p:cNvGrpSpPr/>
            <p:nvPr/>
          </p:nvGrpSpPr>
          <p:grpSpPr>
            <a:xfrm>
              <a:off x="2797560" y="1219320"/>
              <a:ext cx="1372320" cy="666000"/>
              <a:chOff x="2797560" y="1219320"/>
              <a:chExt cx="1372320" cy="666000"/>
            </a:xfrm>
          </p:grpSpPr>
          <p:sp>
            <p:nvSpPr>
              <p:cNvPr id="345" name=""/>
              <p:cNvSpPr/>
              <p:nvPr/>
            </p:nvSpPr>
            <p:spPr>
              <a:xfrm>
                <a:off x="2807640" y="1229040"/>
                <a:ext cx="135252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cc3399"/>
                    </a:solidFill>
                    <a:latin typeface="Comic Sans MS"/>
                  </a:rPr>
                  <a:t> </a:t>
                </a:r>
                <a:r>
                  <a:rPr b="1" lang="en-GB" sz="1200" spc="-1" strike="noStrike">
                    <a:solidFill>
                      <a:srgbClr val="cc3399"/>
                    </a:solidFill>
                    <a:latin typeface="Comic Sans MS"/>
                  </a:rPr>
                  <a:t>Translations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797560" y="1219320"/>
                <a:ext cx="137232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47" name=""/>
            <p:cNvGrpSpPr/>
            <p:nvPr/>
          </p:nvGrpSpPr>
          <p:grpSpPr>
            <a:xfrm>
              <a:off x="4170600" y="1219320"/>
              <a:ext cx="1458720" cy="666000"/>
              <a:chOff x="4170600" y="1219320"/>
              <a:chExt cx="1458720" cy="666000"/>
            </a:xfrm>
          </p:grpSpPr>
          <p:sp>
            <p:nvSpPr>
              <p:cNvPr id="348" name=""/>
              <p:cNvSpPr/>
              <p:nvPr/>
            </p:nvSpPr>
            <p:spPr>
              <a:xfrm>
                <a:off x="4180680" y="1229040"/>
                <a:ext cx="1438560" cy="646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cc3399"/>
                    </a:solidFill>
                    <a:latin typeface="Comic Sans MS"/>
                  </a:rPr>
                  <a:t>   </a:t>
                </a:r>
                <a:r>
                  <a:rPr b="1" lang="en-GB" sz="1200" spc="-1" strike="noStrike">
                    <a:solidFill>
                      <a:srgbClr val="cc3399"/>
                    </a:solidFill>
                    <a:latin typeface="Comic Sans MS"/>
                  </a:rPr>
                  <a:t>Rotations  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4170600" y="1219320"/>
                <a:ext cx="145872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"/>
            <p:cNvGrpSpPr/>
            <p:nvPr/>
          </p:nvGrpSpPr>
          <p:grpSpPr>
            <a:xfrm>
              <a:off x="5630040" y="1219320"/>
              <a:ext cx="1480680" cy="1353240"/>
              <a:chOff x="5630040" y="1219320"/>
              <a:chExt cx="1480680" cy="1353240"/>
            </a:xfrm>
          </p:grpSpPr>
          <p:sp>
            <p:nvSpPr>
              <p:cNvPr id="351" name=""/>
              <p:cNvSpPr/>
              <p:nvPr/>
            </p:nvSpPr>
            <p:spPr>
              <a:xfrm>
                <a:off x="5639760" y="1229040"/>
                <a:ext cx="1461240" cy="13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cc3399"/>
                    </a:solidFill>
                    <a:latin typeface="Comic Sans MS"/>
                  </a:rPr>
                  <a:t>Schém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630040" y="1219320"/>
                <a:ext cx="1480680" cy="135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3" name=""/>
            <p:cNvGrpSpPr/>
            <p:nvPr/>
          </p:nvGrpSpPr>
          <p:grpSpPr>
            <a:xfrm>
              <a:off x="7111440" y="1219320"/>
              <a:ext cx="1422360" cy="1353240"/>
              <a:chOff x="7111440" y="1219320"/>
              <a:chExt cx="1422360" cy="1353240"/>
            </a:xfrm>
          </p:grpSpPr>
          <p:sp>
            <p:nvSpPr>
              <p:cNvPr id="354" name=""/>
              <p:cNvSpPr/>
              <p:nvPr/>
            </p:nvSpPr>
            <p:spPr>
              <a:xfrm>
                <a:off x="7121520" y="1229040"/>
                <a:ext cx="1402200" cy="133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3399"/>
                    </a:solidFill>
                    <a:latin typeface="Comic Sans MS"/>
                  </a:rPr>
                  <a:t>Exemp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7111440" y="1219320"/>
                <a:ext cx="1422360" cy="13532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2797560" y="1906200"/>
              <a:ext cx="456840" cy="666000"/>
              <a:chOff x="2797560" y="1906200"/>
              <a:chExt cx="456840" cy="666000"/>
            </a:xfrm>
          </p:grpSpPr>
          <p:sp>
            <p:nvSpPr>
              <p:cNvPr id="357" name=""/>
              <p:cNvSpPr/>
              <p:nvPr/>
            </p:nvSpPr>
            <p:spPr>
              <a:xfrm>
                <a:off x="2807640" y="1916280"/>
                <a:ext cx="4370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2797560" y="1906200"/>
                <a:ext cx="45684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3255120" y="1906200"/>
              <a:ext cx="457200" cy="666000"/>
              <a:chOff x="3255120" y="1906200"/>
              <a:chExt cx="457200" cy="666000"/>
            </a:xfrm>
          </p:grpSpPr>
          <p:sp>
            <p:nvSpPr>
              <p:cNvPr id="360" name=""/>
              <p:cNvSpPr/>
              <p:nvPr/>
            </p:nvSpPr>
            <p:spPr>
              <a:xfrm>
                <a:off x="3264840" y="1916280"/>
                <a:ext cx="43740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255120" y="1906200"/>
                <a:ext cx="45720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2" name=""/>
            <p:cNvGrpSpPr/>
            <p:nvPr/>
          </p:nvGrpSpPr>
          <p:grpSpPr>
            <a:xfrm>
              <a:off x="3713040" y="1906200"/>
              <a:ext cx="457200" cy="666000"/>
              <a:chOff x="3713040" y="1906200"/>
              <a:chExt cx="457200" cy="666000"/>
            </a:xfrm>
          </p:grpSpPr>
          <p:sp>
            <p:nvSpPr>
              <p:cNvPr id="363" name=""/>
              <p:cNvSpPr/>
              <p:nvPr/>
            </p:nvSpPr>
            <p:spPr>
              <a:xfrm>
                <a:off x="3722760" y="1916280"/>
                <a:ext cx="43776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3713040" y="1906200"/>
                <a:ext cx="45720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5" name=""/>
            <p:cNvGrpSpPr/>
            <p:nvPr/>
          </p:nvGrpSpPr>
          <p:grpSpPr>
            <a:xfrm>
              <a:off x="4170600" y="1906200"/>
              <a:ext cx="437040" cy="666000"/>
              <a:chOff x="4170600" y="1906200"/>
              <a:chExt cx="437040" cy="666000"/>
            </a:xfrm>
          </p:grpSpPr>
          <p:sp>
            <p:nvSpPr>
              <p:cNvPr id="366" name=""/>
              <p:cNvSpPr/>
              <p:nvPr/>
            </p:nvSpPr>
            <p:spPr>
              <a:xfrm>
                <a:off x="4180680" y="1916280"/>
                <a:ext cx="4172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170600" y="1906200"/>
                <a:ext cx="43704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8" name=""/>
            <p:cNvGrpSpPr/>
            <p:nvPr/>
          </p:nvGrpSpPr>
          <p:grpSpPr>
            <a:xfrm>
              <a:off x="4608000" y="1906200"/>
              <a:ext cx="437400" cy="666000"/>
              <a:chOff x="4608000" y="1906200"/>
              <a:chExt cx="437400" cy="666000"/>
            </a:xfrm>
          </p:grpSpPr>
          <p:sp>
            <p:nvSpPr>
              <p:cNvPr id="369" name=""/>
              <p:cNvSpPr/>
              <p:nvPr/>
            </p:nvSpPr>
            <p:spPr>
              <a:xfrm>
                <a:off x="4618080" y="1916280"/>
                <a:ext cx="4172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608000" y="1906200"/>
                <a:ext cx="43740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1" name=""/>
            <p:cNvGrpSpPr/>
            <p:nvPr/>
          </p:nvGrpSpPr>
          <p:grpSpPr>
            <a:xfrm>
              <a:off x="5046120" y="1906200"/>
              <a:ext cx="583560" cy="666000"/>
              <a:chOff x="5046120" y="1906200"/>
              <a:chExt cx="583560" cy="666000"/>
            </a:xfrm>
          </p:grpSpPr>
          <p:sp>
            <p:nvSpPr>
              <p:cNvPr id="372" name=""/>
              <p:cNvSpPr/>
              <p:nvPr/>
            </p:nvSpPr>
            <p:spPr>
              <a:xfrm>
                <a:off x="5055840" y="1916280"/>
                <a:ext cx="56376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5046120" y="1906200"/>
                <a:ext cx="58356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4" name=""/>
            <p:cNvGrpSpPr/>
            <p:nvPr/>
          </p:nvGrpSpPr>
          <p:grpSpPr>
            <a:xfrm>
              <a:off x="1447920" y="2593440"/>
              <a:ext cx="1349280" cy="666000"/>
              <a:chOff x="1447920" y="2593440"/>
              <a:chExt cx="1349280" cy="666000"/>
            </a:xfrm>
          </p:grpSpPr>
          <p:sp>
            <p:nvSpPr>
              <p:cNvPr id="375" name=""/>
              <p:cNvSpPr/>
              <p:nvPr/>
            </p:nvSpPr>
            <p:spPr>
              <a:xfrm>
                <a:off x="1457640" y="2603520"/>
                <a:ext cx="13298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Comic Sans MS"/>
                  </a:rPr>
                  <a:t>Aucune liais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1447920" y="2593440"/>
                <a:ext cx="134928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77" name=""/>
            <p:cNvGrpSpPr/>
            <p:nvPr/>
          </p:nvGrpSpPr>
          <p:grpSpPr>
            <a:xfrm>
              <a:off x="2797560" y="2593440"/>
              <a:ext cx="456840" cy="666000"/>
              <a:chOff x="2797560" y="2593440"/>
              <a:chExt cx="456840" cy="666000"/>
            </a:xfrm>
          </p:grpSpPr>
          <p:sp>
            <p:nvSpPr>
              <p:cNvPr id="378" name=""/>
              <p:cNvSpPr/>
              <p:nvPr/>
            </p:nvSpPr>
            <p:spPr>
              <a:xfrm>
                <a:off x="2807640" y="2603520"/>
                <a:ext cx="4370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2797560" y="2593440"/>
                <a:ext cx="45684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3255120" y="2593440"/>
              <a:ext cx="457200" cy="666000"/>
              <a:chOff x="3255120" y="2593440"/>
              <a:chExt cx="457200" cy="666000"/>
            </a:xfrm>
          </p:grpSpPr>
          <p:sp>
            <p:nvSpPr>
              <p:cNvPr id="381" name=""/>
              <p:cNvSpPr/>
              <p:nvPr/>
            </p:nvSpPr>
            <p:spPr>
              <a:xfrm>
                <a:off x="3264840" y="2603520"/>
                <a:ext cx="43740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3255120" y="2593440"/>
                <a:ext cx="45720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3" name=""/>
            <p:cNvGrpSpPr/>
            <p:nvPr/>
          </p:nvGrpSpPr>
          <p:grpSpPr>
            <a:xfrm>
              <a:off x="3713040" y="2593440"/>
              <a:ext cx="457200" cy="666000"/>
              <a:chOff x="3713040" y="2593440"/>
              <a:chExt cx="457200" cy="666000"/>
            </a:xfrm>
          </p:grpSpPr>
          <p:sp>
            <p:nvSpPr>
              <p:cNvPr id="384" name=""/>
              <p:cNvSpPr/>
              <p:nvPr/>
            </p:nvSpPr>
            <p:spPr>
              <a:xfrm>
                <a:off x="3722760" y="2603520"/>
                <a:ext cx="43776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3713040" y="2593440"/>
                <a:ext cx="45720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6" name=""/>
            <p:cNvGrpSpPr/>
            <p:nvPr/>
          </p:nvGrpSpPr>
          <p:grpSpPr>
            <a:xfrm>
              <a:off x="4170600" y="2593440"/>
              <a:ext cx="437040" cy="666000"/>
              <a:chOff x="4170600" y="2593440"/>
              <a:chExt cx="437040" cy="666000"/>
            </a:xfrm>
          </p:grpSpPr>
          <p:sp>
            <p:nvSpPr>
              <p:cNvPr id="387" name=""/>
              <p:cNvSpPr/>
              <p:nvPr/>
            </p:nvSpPr>
            <p:spPr>
              <a:xfrm>
                <a:off x="4180680" y="2603520"/>
                <a:ext cx="4172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4170600" y="2593440"/>
                <a:ext cx="43704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9" name=""/>
            <p:cNvGrpSpPr/>
            <p:nvPr/>
          </p:nvGrpSpPr>
          <p:grpSpPr>
            <a:xfrm>
              <a:off x="4608000" y="2593440"/>
              <a:ext cx="437400" cy="666000"/>
              <a:chOff x="4608000" y="2593440"/>
              <a:chExt cx="437400" cy="666000"/>
            </a:xfrm>
          </p:grpSpPr>
          <p:sp>
            <p:nvSpPr>
              <p:cNvPr id="390" name=""/>
              <p:cNvSpPr/>
              <p:nvPr/>
            </p:nvSpPr>
            <p:spPr>
              <a:xfrm>
                <a:off x="4618080" y="2603520"/>
                <a:ext cx="4172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4608000" y="2593440"/>
                <a:ext cx="43740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2" name=""/>
            <p:cNvGrpSpPr/>
            <p:nvPr/>
          </p:nvGrpSpPr>
          <p:grpSpPr>
            <a:xfrm>
              <a:off x="5046120" y="2593440"/>
              <a:ext cx="583560" cy="666000"/>
              <a:chOff x="5046120" y="2593440"/>
              <a:chExt cx="583560" cy="666000"/>
            </a:xfrm>
          </p:grpSpPr>
          <p:sp>
            <p:nvSpPr>
              <p:cNvPr id="393" name=""/>
              <p:cNvSpPr/>
              <p:nvPr/>
            </p:nvSpPr>
            <p:spPr>
              <a:xfrm>
                <a:off x="5055840" y="2603520"/>
                <a:ext cx="56376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5046120" y="2593440"/>
                <a:ext cx="58356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5" name=""/>
            <p:cNvGrpSpPr/>
            <p:nvPr/>
          </p:nvGrpSpPr>
          <p:grpSpPr>
            <a:xfrm>
              <a:off x="5630040" y="2593440"/>
              <a:ext cx="1480680" cy="666000"/>
              <a:chOff x="5630040" y="2593440"/>
              <a:chExt cx="1480680" cy="666000"/>
            </a:xfrm>
          </p:grpSpPr>
          <p:sp>
            <p:nvSpPr>
              <p:cNvPr id="396" name=""/>
              <p:cNvSpPr/>
              <p:nvPr/>
            </p:nvSpPr>
            <p:spPr>
              <a:xfrm>
                <a:off x="5639760" y="2603520"/>
                <a:ext cx="14612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5630040" y="2593440"/>
                <a:ext cx="148068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8" name=""/>
            <p:cNvGrpSpPr/>
            <p:nvPr/>
          </p:nvGrpSpPr>
          <p:grpSpPr>
            <a:xfrm>
              <a:off x="7111440" y="2593440"/>
              <a:ext cx="1422360" cy="666000"/>
              <a:chOff x="7111440" y="2593440"/>
              <a:chExt cx="1422360" cy="666000"/>
            </a:xfrm>
          </p:grpSpPr>
          <p:sp>
            <p:nvSpPr>
              <p:cNvPr id="399" name=""/>
              <p:cNvSpPr/>
              <p:nvPr/>
            </p:nvSpPr>
            <p:spPr>
              <a:xfrm>
                <a:off x="7121520" y="2603520"/>
                <a:ext cx="140220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111440" y="2593440"/>
                <a:ext cx="142236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1" name=""/>
            <p:cNvGrpSpPr/>
            <p:nvPr/>
          </p:nvGrpSpPr>
          <p:grpSpPr>
            <a:xfrm>
              <a:off x="1447920" y="3280320"/>
              <a:ext cx="1349280" cy="666360"/>
              <a:chOff x="1447920" y="3280320"/>
              <a:chExt cx="1349280" cy="666360"/>
            </a:xfrm>
          </p:grpSpPr>
          <p:sp>
            <p:nvSpPr>
              <p:cNvPr id="402" name=""/>
              <p:cNvSpPr/>
              <p:nvPr/>
            </p:nvSpPr>
            <p:spPr>
              <a:xfrm>
                <a:off x="1457640" y="3290400"/>
                <a:ext cx="132984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Comic Sans MS"/>
                  </a:rPr>
                  <a:t>Appui ponctue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1447920" y="3280320"/>
                <a:ext cx="1349280" cy="66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4" name=""/>
            <p:cNvGrpSpPr/>
            <p:nvPr/>
          </p:nvGrpSpPr>
          <p:grpSpPr>
            <a:xfrm>
              <a:off x="2797560" y="3280320"/>
              <a:ext cx="456840" cy="666360"/>
              <a:chOff x="2797560" y="3280320"/>
              <a:chExt cx="456840" cy="666360"/>
            </a:xfrm>
          </p:grpSpPr>
          <p:sp>
            <p:nvSpPr>
              <p:cNvPr id="405" name=""/>
              <p:cNvSpPr/>
              <p:nvPr/>
            </p:nvSpPr>
            <p:spPr>
              <a:xfrm>
                <a:off x="2807640" y="3290400"/>
                <a:ext cx="43704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797560" y="3280320"/>
                <a:ext cx="456840" cy="66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07" name=""/>
            <p:cNvGrpSpPr/>
            <p:nvPr/>
          </p:nvGrpSpPr>
          <p:grpSpPr>
            <a:xfrm>
              <a:off x="3255120" y="3280320"/>
              <a:ext cx="457200" cy="666360"/>
              <a:chOff x="3255120" y="3280320"/>
              <a:chExt cx="457200" cy="666360"/>
            </a:xfrm>
          </p:grpSpPr>
          <p:sp>
            <p:nvSpPr>
              <p:cNvPr id="408" name=""/>
              <p:cNvSpPr/>
              <p:nvPr/>
            </p:nvSpPr>
            <p:spPr>
              <a:xfrm>
                <a:off x="3264840" y="3290400"/>
                <a:ext cx="43740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3255120" y="3280320"/>
                <a:ext cx="457200" cy="66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0" name=""/>
            <p:cNvGrpSpPr/>
            <p:nvPr/>
          </p:nvGrpSpPr>
          <p:grpSpPr>
            <a:xfrm>
              <a:off x="3713040" y="3280320"/>
              <a:ext cx="457200" cy="666360"/>
              <a:chOff x="3713040" y="3280320"/>
              <a:chExt cx="457200" cy="666360"/>
            </a:xfrm>
          </p:grpSpPr>
          <p:sp>
            <p:nvSpPr>
              <p:cNvPr id="411" name=""/>
              <p:cNvSpPr/>
              <p:nvPr/>
            </p:nvSpPr>
            <p:spPr>
              <a:xfrm>
                <a:off x="3722760" y="3290400"/>
                <a:ext cx="43776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713040" y="3280320"/>
                <a:ext cx="457200" cy="66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3" name=""/>
            <p:cNvGrpSpPr/>
            <p:nvPr/>
          </p:nvGrpSpPr>
          <p:grpSpPr>
            <a:xfrm>
              <a:off x="4170600" y="3280320"/>
              <a:ext cx="437040" cy="666360"/>
              <a:chOff x="4170600" y="3280320"/>
              <a:chExt cx="437040" cy="666360"/>
            </a:xfrm>
          </p:grpSpPr>
          <p:sp>
            <p:nvSpPr>
              <p:cNvPr id="414" name=""/>
              <p:cNvSpPr/>
              <p:nvPr/>
            </p:nvSpPr>
            <p:spPr>
              <a:xfrm>
                <a:off x="4180680" y="3290400"/>
                <a:ext cx="41724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4170600" y="3280320"/>
                <a:ext cx="437040" cy="66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6" name=""/>
            <p:cNvGrpSpPr/>
            <p:nvPr/>
          </p:nvGrpSpPr>
          <p:grpSpPr>
            <a:xfrm>
              <a:off x="4608000" y="3280320"/>
              <a:ext cx="437400" cy="666360"/>
              <a:chOff x="4608000" y="3280320"/>
              <a:chExt cx="437400" cy="666360"/>
            </a:xfrm>
          </p:grpSpPr>
          <p:sp>
            <p:nvSpPr>
              <p:cNvPr id="417" name=""/>
              <p:cNvSpPr/>
              <p:nvPr/>
            </p:nvSpPr>
            <p:spPr>
              <a:xfrm>
                <a:off x="4618080" y="3290400"/>
                <a:ext cx="41724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4608000" y="3280320"/>
                <a:ext cx="437400" cy="66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19" name=""/>
            <p:cNvGrpSpPr/>
            <p:nvPr/>
          </p:nvGrpSpPr>
          <p:grpSpPr>
            <a:xfrm>
              <a:off x="5046120" y="3280320"/>
              <a:ext cx="583560" cy="666360"/>
              <a:chOff x="5046120" y="3280320"/>
              <a:chExt cx="583560" cy="666360"/>
            </a:xfrm>
          </p:grpSpPr>
          <p:sp>
            <p:nvSpPr>
              <p:cNvPr id="420" name=""/>
              <p:cNvSpPr/>
              <p:nvPr/>
            </p:nvSpPr>
            <p:spPr>
              <a:xfrm>
                <a:off x="5055840" y="3290400"/>
                <a:ext cx="56376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5046120" y="3280320"/>
                <a:ext cx="583560" cy="66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5630040" y="3280320"/>
              <a:ext cx="1480680" cy="666360"/>
              <a:chOff x="5630040" y="3280320"/>
              <a:chExt cx="1480680" cy="666360"/>
            </a:xfrm>
          </p:grpSpPr>
          <p:sp>
            <p:nvSpPr>
              <p:cNvPr id="423" name=""/>
              <p:cNvSpPr/>
              <p:nvPr/>
            </p:nvSpPr>
            <p:spPr>
              <a:xfrm>
                <a:off x="5639760" y="3290400"/>
                <a:ext cx="146124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630040" y="3280320"/>
                <a:ext cx="1480680" cy="66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7111440" y="3280320"/>
              <a:ext cx="1422360" cy="666360"/>
              <a:chOff x="7111440" y="3280320"/>
              <a:chExt cx="1422360" cy="666360"/>
            </a:xfrm>
          </p:grpSpPr>
          <p:sp>
            <p:nvSpPr>
              <p:cNvPr id="426" name=""/>
              <p:cNvSpPr/>
              <p:nvPr/>
            </p:nvSpPr>
            <p:spPr>
              <a:xfrm>
                <a:off x="7121520" y="3290400"/>
                <a:ext cx="1402200" cy="64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111440" y="3280320"/>
                <a:ext cx="1422360" cy="666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8" name=""/>
            <p:cNvGrpSpPr/>
            <p:nvPr/>
          </p:nvGrpSpPr>
          <p:grpSpPr>
            <a:xfrm>
              <a:off x="1447920" y="3967560"/>
              <a:ext cx="1349280" cy="862560"/>
              <a:chOff x="1447920" y="3967560"/>
              <a:chExt cx="1349280" cy="862560"/>
            </a:xfrm>
          </p:grpSpPr>
          <p:sp>
            <p:nvSpPr>
              <p:cNvPr id="429" name=""/>
              <p:cNvSpPr/>
              <p:nvPr/>
            </p:nvSpPr>
            <p:spPr>
              <a:xfrm>
                <a:off x="1457640" y="3977640"/>
                <a:ext cx="132984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Comic Sans MS"/>
                  </a:rPr>
                  <a:t>Linéaire rectilig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447920" y="3967560"/>
                <a:ext cx="1349280" cy="86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1" name=""/>
            <p:cNvGrpSpPr/>
            <p:nvPr/>
          </p:nvGrpSpPr>
          <p:grpSpPr>
            <a:xfrm>
              <a:off x="2797560" y="3967560"/>
              <a:ext cx="456840" cy="862560"/>
              <a:chOff x="2797560" y="3967560"/>
              <a:chExt cx="456840" cy="862560"/>
            </a:xfrm>
          </p:grpSpPr>
          <p:sp>
            <p:nvSpPr>
              <p:cNvPr id="432" name=""/>
              <p:cNvSpPr/>
              <p:nvPr/>
            </p:nvSpPr>
            <p:spPr>
              <a:xfrm>
                <a:off x="2807640" y="3977640"/>
                <a:ext cx="43704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2797560" y="3967560"/>
                <a:ext cx="456840" cy="86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4" name=""/>
            <p:cNvGrpSpPr/>
            <p:nvPr/>
          </p:nvGrpSpPr>
          <p:grpSpPr>
            <a:xfrm>
              <a:off x="3255120" y="3967560"/>
              <a:ext cx="457200" cy="862560"/>
              <a:chOff x="3255120" y="3967560"/>
              <a:chExt cx="457200" cy="862560"/>
            </a:xfrm>
          </p:grpSpPr>
          <p:sp>
            <p:nvSpPr>
              <p:cNvPr id="435" name=""/>
              <p:cNvSpPr/>
              <p:nvPr/>
            </p:nvSpPr>
            <p:spPr>
              <a:xfrm>
                <a:off x="3264840" y="3977640"/>
                <a:ext cx="43740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3255120" y="3967560"/>
                <a:ext cx="457200" cy="86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7" name=""/>
            <p:cNvGrpSpPr/>
            <p:nvPr/>
          </p:nvGrpSpPr>
          <p:grpSpPr>
            <a:xfrm>
              <a:off x="3713040" y="3967560"/>
              <a:ext cx="457200" cy="862560"/>
              <a:chOff x="3713040" y="3967560"/>
              <a:chExt cx="457200" cy="862560"/>
            </a:xfrm>
          </p:grpSpPr>
          <p:sp>
            <p:nvSpPr>
              <p:cNvPr id="438" name=""/>
              <p:cNvSpPr/>
              <p:nvPr/>
            </p:nvSpPr>
            <p:spPr>
              <a:xfrm>
                <a:off x="3722760" y="3977640"/>
                <a:ext cx="43776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713040" y="3967560"/>
                <a:ext cx="457200" cy="86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0" name=""/>
            <p:cNvGrpSpPr/>
            <p:nvPr/>
          </p:nvGrpSpPr>
          <p:grpSpPr>
            <a:xfrm>
              <a:off x="4170600" y="3967560"/>
              <a:ext cx="437040" cy="862560"/>
              <a:chOff x="4170600" y="3967560"/>
              <a:chExt cx="437040" cy="862560"/>
            </a:xfrm>
          </p:grpSpPr>
          <p:sp>
            <p:nvSpPr>
              <p:cNvPr id="441" name=""/>
              <p:cNvSpPr/>
              <p:nvPr/>
            </p:nvSpPr>
            <p:spPr>
              <a:xfrm>
                <a:off x="4180680" y="3977640"/>
                <a:ext cx="41724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4170600" y="3967560"/>
                <a:ext cx="437040" cy="86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4608000" y="3967560"/>
              <a:ext cx="437400" cy="862560"/>
              <a:chOff x="4608000" y="3967560"/>
              <a:chExt cx="437400" cy="862560"/>
            </a:xfrm>
          </p:grpSpPr>
          <p:sp>
            <p:nvSpPr>
              <p:cNvPr id="444" name=""/>
              <p:cNvSpPr/>
              <p:nvPr/>
            </p:nvSpPr>
            <p:spPr>
              <a:xfrm>
                <a:off x="4618080" y="3977640"/>
                <a:ext cx="41724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608000" y="3967560"/>
                <a:ext cx="437400" cy="86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5046120" y="3967560"/>
              <a:ext cx="583560" cy="862560"/>
              <a:chOff x="5046120" y="3967560"/>
              <a:chExt cx="583560" cy="862560"/>
            </a:xfrm>
          </p:grpSpPr>
          <p:sp>
            <p:nvSpPr>
              <p:cNvPr id="447" name=""/>
              <p:cNvSpPr/>
              <p:nvPr/>
            </p:nvSpPr>
            <p:spPr>
              <a:xfrm>
                <a:off x="5055840" y="3977640"/>
                <a:ext cx="56376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5046120" y="3967560"/>
                <a:ext cx="583560" cy="86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5630040" y="3967560"/>
              <a:ext cx="1480680" cy="862560"/>
              <a:chOff x="5630040" y="3967560"/>
              <a:chExt cx="1480680" cy="862560"/>
            </a:xfrm>
          </p:grpSpPr>
          <p:sp>
            <p:nvSpPr>
              <p:cNvPr id="450" name=""/>
              <p:cNvSpPr/>
              <p:nvPr/>
            </p:nvSpPr>
            <p:spPr>
              <a:xfrm>
                <a:off x="5639760" y="3977640"/>
                <a:ext cx="146124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5630040" y="3967560"/>
                <a:ext cx="1480680" cy="86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7111440" y="3967560"/>
              <a:ext cx="1422360" cy="862560"/>
              <a:chOff x="7111440" y="3967560"/>
              <a:chExt cx="1422360" cy="862560"/>
            </a:xfrm>
          </p:grpSpPr>
          <p:sp>
            <p:nvSpPr>
              <p:cNvPr id="453" name=""/>
              <p:cNvSpPr/>
              <p:nvPr/>
            </p:nvSpPr>
            <p:spPr>
              <a:xfrm>
                <a:off x="7121520" y="3977640"/>
                <a:ext cx="1402200" cy="841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7111440" y="3967560"/>
                <a:ext cx="1422360" cy="8625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1447920" y="4851000"/>
              <a:ext cx="1349280" cy="666000"/>
              <a:chOff x="1447920" y="4851000"/>
              <a:chExt cx="1349280" cy="666000"/>
            </a:xfrm>
          </p:grpSpPr>
          <p:sp>
            <p:nvSpPr>
              <p:cNvPr id="456" name=""/>
              <p:cNvSpPr/>
              <p:nvPr/>
            </p:nvSpPr>
            <p:spPr>
              <a:xfrm>
                <a:off x="1457640" y="4860720"/>
                <a:ext cx="13298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Comic Sans MS"/>
                  </a:rPr>
                  <a:t>Liaison plan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1447920" y="4851000"/>
                <a:ext cx="134928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2797560" y="4851000"/>
              <a:ext cx="456840" cy="666000"/>
              <a:chOff x="2797560" y="4851000"/>
              <a:chExt cx="456840" cy="666000"/>
            </a:xfrm>
          </p:grpSpPr>
          <p:sp>
            <p:nvSpPr>
              <p:cNvPr id="459" name=""/>
              <p:cNvSpPr/>
              <p:nvPr/>
            </p:nvSpPr>
            <p:spPr>
              <a:xfrm>
                <a:off x="2807640" y="4860720"/>
                <a:ext cx="4370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2797560" y="4851000"/>
                <a:ext cx="45684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1" name=""/>
            <p:cNvGrpSpPr/>
            <p:nvPr/>
          </p:nvGrpSpPr>
          <p:grpSpPr>
            <a:xfrm>
              <a:off x="3255120" y="4851000"/>
              <a:ext cx="457200" cy="666000"/>
              <a:chOff x="3255120" y="4851000"/>
              <a:chExt cx="457200" cy="666000"/>
            </a:xfrm>
          </p:grpSpPr>
          <p:sp>
            <p:nvSpPr>
              <p:cNvPr id="462" name=""/>
              <p:cNvSpPr/>
              <p:nvPr/>
            </p:nvSpPr>
            <p:spPr>
              <a:xfrm>
                <a:off x="3264840" y="4860720"/>
                <a:ext cx="43740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255120" y="4851000"/>
                <a:ext cx="45720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4" name=""/>
            <p:cNvGrpSpPr/>
            <p:nvPr/>
          </p:nvGrpSpPr>
          <p:grpSpPr>
            <a:xfrm>
              <a:off x="3713040" y="4851000"/>
              <a:ext cx="457200" cy="666000"/>
              <a:chOff x="3713040" y="4851000"/>
              <a:chExt cx="457200" cy="666000"/>
            </a:xfrm>
          </p:grpSpPr>
          <p:sp>
            <p:nvSpPr>
              <p:cNvPr id="465" name=""/>
              <p:cNvSpPr/>
              <p:nvPr/>
            </p:nvSpPr>
            <p:spPr>
              <a:xfrm>
                <a:off x="3722760" y="4860720"/>
                <a:ext cx="43776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713040" y="4851000"/>
                <a:ext cx="45720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4170600" y="4851000"/>
              <a:ext cx="437040" cy="666000"/>
              <a:chOff x="4170600" y="4851000"/>
              <a:chExt cx="437040" cy="666000"/>
            </a:xfrm>
          </p:grpSpPr>
          <p:sp>
            <p:nvSpPr>
              <p:cNvPr id="468" name=""/>
              <p:cNvSpPr/>
              <p:nvPr/>
            </p:nvSpPr>
            <p:spPr>
              <a:xfrm>
                <a:off x="4180680" y="4860720"/>
                <a:ext cx="4172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170600" y="4851000"/>
                <a:ext cx="43704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0" name=""/>
            <p:cNvGrpSpPr/>
            <p:nvPr/>
          </p:nvGrpSpPr>
          <p:grpSpPr>
            <a:xfrm>
              <a:off x="4608000" y="4851000"/>
              <a:ext cx="437400" cy="666000"/>
              <a:chOff x="4608000" y="4851000"/>
              <a:chExt cx="437400" cy="666000"/>
            </a:xfrm>
          </p:grpSpPr>
          <p:sp>
            <p:nvSpPr>
              <p:cNvPr id="471" name=""/>
              <p:cNvSpPr/>
              <p:nvPr/>
            </p:nvSpPr>
            <p:spPr>
              <a:xfrm>
                <a:off x="4618080" y="4860720"/>
                <a:ext cx="4172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608000" y="4851000"/>
                <a:ext cx="43740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3" name=""/>
            <p:cNvGrpSpPr/>
            <p:nvPr/>
          </p:nvGrpSpPr>
          <p:grpSpPr>
            <a:xfrm>
              <a:off x="5046120" y="4851000"/>
              <a:ext cx="583560" cy="666000"/>
              <a:chOff x="5046120" y="4851000"/>
              <a:chExt cx="583560" cy="666000"/>
            </a:xfrm>
          </p:grpSpPr>
          <p:sp>
            <p:nvSpPr>
              <p:cNvPr id="474" name=""/>
              <p:cNvSpPr/>
              <p:nvPr/>
            </p:nvSpPr>
            <p:spPr>
              <a:xfrm>
                <a:off x="5055840" y="4860720"/>
                <a:ext cx="56376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046120" y="4851000"/>
                <a:ext cx="58356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6" name=""/>
            <p:cNvGrpSpPr/>
            <p:nvPr/>
          </p:nvGrpSpPr>
          <p:grpSpPr>
            <a:xfrm>
              <a:off x="5630040" y="4851000"/>
              <a:ext cx="1480680" cy="666000"/>
              <a:chOff x="5630040" y="4851000"/>
              <a:chExt cx="1480680" cy="666000"/>
            </a:xfrm>
          </p:grpSpPr>
          <p:sp>
            <p:nvSpPr>
              <p:cNvPr id="477" name=""/>
              <p:cNvSpPr/>
              <p:nvPr/>
            </p:nvSpPr>
            <p:spPr>
              <a:xfrm>
                <a:off x="5639760" y="4860720"/>
                <a:ext cx="146124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5630040" y="4851000"/>
                <a:ext cx="148068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79" name=""/>
            <p:cNvGrpSpPr/>
            <p:nvPr/>
          </p:nvGrpSpPr>
          <p:grpSpPr>
            <a:xfrm>
              <a:off x="7111440" y="4851000"/>
              <a:ext cx="1422360" cy="666000"/>
              <a:chOff x="7111440" y="4851000"/>
              <a:chExt cx="1422360" cy="666000"/>
            </a:xfrm>
          </p:grpSpPr>
          <p:sp>
            <p:nvSpPr>
              <p:cNvPr id="480" name=""/>
              <p:cNvSpPr/>
              <p:nvPr/>
            </p:nvSpPr>
            <p:spPr>
              <a:xfrm>
                <a:off x="7121520" y="4860720"/>
                <a:ext cx="1402200" cy="645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7111440" y="4851000"/>
                <a:ext cx="1422360" cy="666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1447920" y="5537880"/>
              <a:ext cx="1349280" cy="862200"/>
              <a:chOff x="1447920" y="5537880"/>
              <a:chExt cx="1349280" cy="862200"/>
            </a:xfrm>
          </p:grpSpPr>
          <p:sp>
            <p:nvSpPr>
              <p:cNvPr id="483" name=""/>
              <p:cNvSpPr/>
              <p:nvPr/>
            </p:nvSpPr>
            <p:spPr>
              <a:xfrm>
                <a:off x="1457640" y="5547600"/>
                <a:ext cx="132984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Comic Sans MS"/>
                  </a:rPr>
                  <a:t>Linéaire annulai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1447920" y="5537880"/>
                <a:ext cx="1349280" cy="86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5" name=""/>
            <p:cNvGrpSpPr/>
            <p:nvPr/>
          </p:nvGrpSpPr>
          <p:grpSpPr>
            <a:xfrm>
              <a:off x="2797560" y="5537880"/>
              <a:ext cx="456840" cy="862200"/>
              <a:chOff x="2797560" y="5537880"/>
              <a:chExt cx="456840" cy="862200"/>
            </a:xfrm>
          </p:grpSpPr>
          <p:sp>
            <p:nvSpPr>
              <p:cNvPr id="486" name=""/>
              <p:cNvSpPr/>
              <p:nvPr/>
            </p:nvSpPr>
            <p:spPr>
              <a:xfrm>
                <a:off x="2807640" y="5547600"/>
                <a:ext cx="43704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2797560" y="5537880"/>
                <a:ext cx="456840" cy="86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8" name=""/>
            <p:cNvGrpSpPr/>
            <p:nvPr/>
          </p:nvGrpSpPr>
          <p:grpSpPr>
            <a:xfrm>
              <a:off x="3255120" y="5537880"/>
              <a:ext cx="457200" cy="862200"/>
              <a:chOff x="3255120" y="5537880"/>
              <a:chExt cx="457200" cy="862200"/>
            </a:xfrm>
          </p:grpSpPr>
          <p:sp>
            <p:nvSpPr>
              <p:cNvPr id="489" name=""/>
              <p:cNvSpPr/>
              <p:nvPr/>
            </p:nvSpPr>
            <p:spPr>
              <a:xfrm>
                <a:off x="3264840" y="5547600"/>
                <a:ext cx="43740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255120" y="5537880"/>
                <a:ext cx="457200" cy="86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1" name=""/>
            <p:cNvGrpSpPr/>
            <p:nvPr/>
          </p:nvGrpSpPr>
          <p:grpSpPr>
            <a:xfrm>
              <a:off x="3713040" y="5537880"/>
              <a:ext cx="457200" cy="862200"/>
              <a:chOff x="3713040" y="5537880"/>
              <a:chExt cx="457200" cy="862200"/>
            </a:xfrm>
          </p:grpSpPr>
          <p:sp>
            <p:nvSpPr>
              <p:cNvPr id="492" name=""/>
              <p:cNvSpPr/>
              <p:nvPr/>
            </p:nvSpPr>
            <p:spPr>
              <a:xfrm>
                <a:off x="3722760" y="5547600"/>
                <a:ext cx="43776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13040" y="5537880"/>
                <a:ext cx="457200" cy="86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4" name=""/>
            <p:cNvGrpSpPr/>
            <p:nvPr/>
          </p:nvGrpSpPr>
          <p:grpSpPr>
            <a:xfrm>
              <a:off x="4170600" y="5537880"/>
              <a:ext cx="437040" cy="862200"/>
              <a:chOff x="4170600" y="5537880"/>
              <a:chExt cx="437040" cy="862200"/>
            </a:xfrm>
          </p:grpSpPr>
          <p:sp>
            <p:nvSpPr>
              <p:cNvPr id="495" name=""/>
              <p:cNvSpPr/>
              <p:nvPr/>
            </p:nvSpPr>
            <p:spPr>
              <a:xfrm>
                <a:off x="4180680" y="5547600"/>
                <a:ext cx="41724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170600" y="5537880"/>
                <a:ext cx="437040" cy="86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4608000" y="5537880"/>
              <a:ext cx="437400" cy="862200"/>
              <a:chOff x="4608000" y="5537880"/>
              <a:chExt cx="437400" cy="862200"/>
            </a:xfrm>
          </p:grpSpPr>
          <p:sp>
            <p:nvSpPr>
              <p:cNvPr id="498" name=""/>
              <p:cNvSpPr/>
              <p:nvPr/>
            </p:nvSpPr>
            <p:spPr>
              <a:xfrm>
                <a:off x="4618080" y="5547600"/>
                <a:ext cx="41724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608000" y="5537880"/>
                <a:ext cx="437400" cy="86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5046120" y="5537880"/>
              <a:ext cx="583560" cy="862200"/>
              <a:chOff x="5046120" y="5537880"/>
              <a:chExt cx="583560" cy="862200"/>
            </a:xfrm>
          </p:grpSpPr>
          <p:sp>
            <p:nvSpPr>
              <p:cNvPr id="501" name=""/>
              <p:cNvSpPr/>
              <p:nvPr/>
            </p:nvSpPr>
            <p:spPr>
              <a:xfrm>
                <a:off x="5055840" y="5547600"/>
                <a:ext cx="56376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046120" y="5537880"/>
                <a:ext cx="583560" cy="86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630040" y="5537880"/>
              <a:ext cx="1480680" cy="862200"/>
              <a:chOff x="5630040" y="5537880"/>
              <a:chExt cx="1480680" cy="862200"/>
            </a:xfrm>
          </p:grpSpPr>
          <p:sp>
            <p:nvSpPr>
              <p:cNvPr id="504" name=""/>
              <p:cNvSpPr/>
              <p:nvPr/>
            </p:nvSpPr>
            <p:spPr>
              <a:xfrm>
                <a:off x="5639760" y="5547600"/>
                <a:ext cx="146124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5630040" y="5537880"/>
                <a:ext cx="1480680" cy="86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7111440" y="5537880"/>
              <a:ext cx="1422360" cy="862200"/>
              <a:chOff x="7111440" y="5537880"/>
              <a:chExt cx="1422360" cy="862200"/>
            </a:xfrm>
          </p:grpSpPr>
          <p:sp>
            <p:nvSpPr>
              <p:cNvPr id="507" name=""/>
              <p:cNvSpPr/>
              <p:nvPr/>
            </p:nvSpPr>
            <p:spPr>
              <a:xfrm>
                <a:off x="7121520" y="5547600"/>
                <a:ext cx="1402200" cy="842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111440" y="5537880"/>
                <a:ext cx="1422360" cy="8622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3684600" y="8317080"/>
            <a:ext cx="436320" cy="620640"/>
            <a:chOff x="3684600" y="8317080"/>
            <a:chExt cx="436320" cy="620640"/>
          </a:xfrm>
        </p:grpSpPr>
        <p:sp>
          <p:nvSpPr>
            <p:cNvPr id="510" name=""/>
            <p:cNvSpPr/>
            <p:nvPr/>
          </p:nvSpPr>
          <p:spPr>
            <a:xfrm>
              <a:off x="3693960" y="8326440"/>
              <a:ext cx="4176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684600" y="8317080"/>
              <a:ext cx="436320" cy="620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2" name=""/>
          <p:cNvGrpSpPr/>
          <p:nvPr/>
        </p:nvGrpSpPr>
        <p:grpSpPr>
          <a:xfrm>
            <a:off x="4121280" y="8317080"/>
            <a:ext cx="417240" cy="620640"/>
            <a:chOff x="4121280" y="8317080"/>
            <a:chExt cx="417240" cy="620640"/>
          </a:xfrm>
        </p:grpSpPr>
        <p:sp>
          <p:nvSpPr>
            <p:cNvPr id="513" name=""/>
            <p:cNvSpPr/>
            <p:nvPr/>
          </p:nvSpPr>
          <p:spPr>
            <a:xfrm>
              <a:off x="4130640" y="8326440"/>
              <a:ext cx="3981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121280" y="8317080"/>
              <a:ext cx="417240" cy="620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4538520" y="8317080"/>
            <a:ext cx="417600" cy="620640"/>
            <a:chOff x="4538520" y="8317080"/>
            <a:chExt cx="417600" cy="620640"/>
          </a:xfrm>
        </p:grpSpPr>
        <p:sp>
          <p:nvSpPr>
            <p:cNvPr id="516" name=""/>
            <p:cNvSpPr/>
            <p:nvPr/>
          </p:nvSpPr>
          <p:spPr>
            <a:xfrm>
              <a:off x="4548240" y="8326440"/>
              <a:ext cx="3981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38520" y="8317080"/>
              <a:ext cx="417600" cy="620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956120" y="8317080"/>
            <a:ext cx="557280" cy="620640"/>
            <a:chOff x="4956120" y="8317080"/>
            <a:chExt cx="557280" cy="620640"/>
          </a:xfrm>
        </p:grpSpPr>
        <p:sp>
          <p:nvSpPr>
            <p:cNvPr id="519" name=""/>
            <p:cNvSpPr/>
            <p:nvPr/>
          </p:nvSpPr>
          <p:spPr>
            <a:xfrm>
              <a:off x="4965480" y="8326440"/>
              <a:ext cx="53820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9999ff"/>
                  </a:solidFill>
                  <a:latin typeface="Comic Sans MS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56120" y="8317080"/>
              <a:ext cx="557280" cy="620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1" name=""/>
          <p:cNvGrpSpPr/>
          <p:nvPr/>
        </p:nvGrpSpPr>
        <p:grpSpPr>
          <a:xfrm>
            <a:off x="5513400" y="8317080"/>
            <a:ext cx="1412640" cy="620640"/>
            <a:chOff x="5513400" y="8317080"/>
            <a:chExt cx="1412640" cy="620640"/>
          </a:xfrm>
        </p:grpSpPr>
        <p:sp>
          <p:nvSpPr>
            <p:cNvPr id="522" name=""/>
            <p:cNvSpPr/>
            <p:nvPr/>
          </p:nvSpPr>
          <p:spPr>
            <a:xfrm>
              <a:off x="5522760" y="8326440"/>
              <a:ext cx="139392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513400" y="8317080"/>
              <a:ext cx="1412640" cy="620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4" name=""/>
          <p:cNvGrpSpPr/>
          <p:nvPr/>
        </p:nvGrpSpPr>
        <p:grpSpPr>
          <a:xfrm>
            <a:off x="6926400" y="8317080"/>
            <a:ext cx="1357200" cy="620640"/>
            <a:chOff x="6926400" y="8317080"/>
            <a:chExt cx="1357200" cy="620640"/>
          </a:xfrm>
        </p:grpSpPr>
        <p:sp>
          <p:nvSpPr>
            <p:cNvPr id="525" name=""/>
            <p:cNvSpPr/>
            <p:nvPr/>
          </p:nvSpPr>
          <p:spPr>
            <a:xfrm>
              <a:off x="6935760" y="8326440"/>
              <a:ext cx="1337760" cy="60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926400" y="8317080"/>
              <a:ext cx="1357200" cy="620640"/>
            </a:xfrm>
            <a:prstGeom prst="rect">
              <a:avLst/>
            </a:prstGeom>
            <a:noFill/>
            <a:ln w="0">
              <a:solidFill>
                <a:srgbClr val="a0a0a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7" name="avion" descr=""/>
          <p:cNvPicPr/>
          <p:nvPr/>
        </p:nvPicPr>
        <p:blipFill>
          <a:blip r:embed="rId20"/>
          <a:stretch/>
        </p:blipFill>
        <p:spPr>
          <a:xfrm>
            <a:off x="7467480" y="2590920"/>
            <a:ext cx="822600" cy="672840"/>
          </a:xfrm>
          <a:prstGeom prst="rect">
            <a:avLst/>
          </a:prstGeom>
          <a:ln w="0">
            <a:noFill/>
          </a:ln>
        </p:spPr>
      </p:pic>
      <p:pic>
        <p:nvPicPr>
          <p:cNvPr id="528" name="liaison_ponctuelle" descr=""/>
          <p:cNvPicPr/>
          <p:nvPr/>
        </p:nvPicPr>
        <p:blipFill>
          <a:blip r:embed="rId21"/>
          <a:stretch/>
        </p:blipFill>
        <p:spPr>
          <a:xfrm>
            <a:off x="5905440" y="3238560"/>
            <a:ext cx="932040" cy="731880"/>
          </a:xfrm>
          <a:prstGeom prst="rect">
            <a:avLst/>
          </a:prstGeom>
          <a:ln w="0">
            <a:noFill/>
          </a:ln>
        </p:spPr>
      </p:pic>
      <p:pic>
        <p:nvPicPr>
          <p:cNvPr id="529" name="billes" descr=""/>
          <p:cNvPicPr/>
          <p:nvPr/>
        </p:nvPicPr>
        <p:blipFill>
          <a:blip r:embed="rId22"/>
          <a:stretch/>
        </p:blipFill>
        <p:spPr>
          <a:xfrm>
            <a:off x="7473960" y="3290760"/>
            <a:ext cx="784080" cy="642960"/>
          </a:xfrm>
          <a:prstGeom prst="rect">
            <a:avLst/>
          </a:prstGeom>
          <a:ln w="0">
            <a:noFill/>
          </a:ln>
        </p:spPr>
      </p:pic>
      <p:pic>
        <p:nvPicPr>
          <p:cNvPr id="530" name="liaison_rectiligne" descr=""/>
          <p:cNvPicPr/>
          <p:nvPr/>
        </p:nvPicPr>
        <p:blipFill>
          <a:blip r:embed="rId23"/>
          <a:stretch/>
        </p:blipFill>
        <p:spPr>
          <a:xfrm>
            <a:off x="5838840" y="3936960"/>
            <a:ext cx="1081080" cy="847800"/>
          </a:xfrm>
          <a:prstGeom prst="rect">
            <a:avLst/>
          </a:prstGeom>
          <a:ln w="0">
            <a:noFill/>
          </a:ln>
        </p:spPr>
      </p:pic>
      <p:pic>
        <p:nvPicPr>
          <p:cNvPr id="531" name="images%5B29%5D" descr=""/>
          <p:cNvPicPr/>
          <p:nvPr/>
        </p:nvPicPr>
        <p:blipFill>
          <a:blip r:embed="rId24"/>
          <a:stretch/>
        </p:blipFill>
        <p:spPr>
          <a:xfrm>
            <a:off x="7510320" y="4030560"/>
            <a:ext cx="695520" cy="677880"/>
          </a:xfrm>
          <a:prstGeom prst="rect">
            <a:avLst/>
          </a:prstGeom>
          <a:ln w="0">
            <a:noFill/>
          </a:ln>
        </p:spPr>
      </p:pic>
      <p:pic>
        <p:nvPicPr>
          <p:cNvPr id="532" name="liaison_plane" descr=""/>
          <p:cNvPicPr/>
          <p:nvPr/>
        </p:nvPicPr>
        <p:blipFill>
          <a:blip r:embed="rId25"/>
          <a:stretch/>
        </p:blipFill>
        <p:spPr>
          <a:xfrm>
            <a:off x="5952960" y="4788000"/>
            <a:ext cx="898560" cy="704880"/>
          </a:xfrm>
          <a:prstGeom prst="rect">
            <a:avLst/>
          </a:prstGeom>
          <a:ln w="0">
            <a:noFill/>
          </a:ln>
        </p:spPr>
      </p:pic>
      <p:pic>
        <p:nvPicPr>
          <p:cNvPr id="533" name="tabouret" descr=""/>
          <p:cNvPicPr/>
          <p:nvPr/>
        </p:nvPicPr>
        <p:blipFill>
          <a:blip r:embed="rId26"/>
          <a:stretch/>
        </p:blipFill>
        <p:spPr>
          <a:xfrm>
            <a:off x="7513560" y="4894200"/>
            <a:ext cx="738360" cy="569880"/>
          </a:xfrm>
          <a:prstGeom prst="rect">
            <a:avLst/>
          </a:prstGeom>
          <a:ln w="0">
            <a:noFill/>
          </a:ln>
        </p:spPr>
      </p:pic>
      <p:pic>
        <p:nvPicPr>
          <p:cNvPr id="534" name="liaison_annulaire" descr=""/>
          <p:cNvPicPr/>
          <p:nvPr/>
        </p:nvPicPr>
        <p:blipFill>
          <a:blip r:embed="rId27"/>
          <a:stretch/>
        </p:blipFill>
        <p:spPr>
          <a:xfrm>
            <a:off x="5829480" y="5554800"/>
            <a:ext cx="1096920" cy="860400"/>
          </a:xfrm>
          <a:prstGeom prst="rect">
            <a:avLst/>
          </a:prstGeom>
          <a:ln w="0">
            <a:noFill/>
          </a:ln>
        </p:spPr>
      </p:pic>
      <p:pic>
        <p:nvPicPr>
          <p:cNvPr id="535" name="sparlit1" descr=""/>
          <p:cNvPicPr/>
          <p:nvPr/>
        </p:nvPicPr>
        <p:blipFill>
          <a:blip r:embed="rId28"/>
          <a:stretch/>
        </p:blipFill>
        <p:spPr>
          <a:xfrm>
            <a:off x="7421400" y="5597640"/>
            <a:ext cx="914400" cy="74916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/>
          <p:nvPr/>
        </p:nvSpPr>
        <p:spPr>
          <a:xfrm>
            <a:off x="1905120" y="914400"/>
            <a:ext cx="89064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ex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819520" y="838080"/>
            <a:ext cx="490032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200" spc="-1" strike="noStrike">
                <a:solidFill>
                  <a:srgbClr val="9999ff"/>
                </a:solidFill>
                <a:latin typeface="Comic Sans MS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: Il n'y a pas de contact, le mouvement est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1905120" y="1111320"/>
            <a:ext cx="89064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2795760" y="1111320"/>
            <a:ext cx="490032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200" spc="-1" strike="noStrike">
                <a:solidFill>
                  <a:srgbClr val="9999ff"/>
                </a:solidFill>
                <a:latin typeface="Comic Sans MS"/>
              </a:rPr>
              <a:t>0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: Il y a contact, le mouvement n’est pa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800100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flipH="1">
            <a:off x="7467480" y="685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8001000" y="685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7241040" y="838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8536320" y="838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079120" y="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4691520" y="4084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Comic Sans MS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liaison_pivot_glissant" descr=""/>
          <p:cNvPicPr/>
          <p:nvPr/>
        </p:nvPicPr>
        <p:blipFill>
          <a:blip r:embed="rId1"/>
          <a:stretch/>
        </p:blipFill>
        <p:spPr>
          <a:xfrm>
            <a:off x="6019920" y="2643120"/>
            <a:ext cx="846000" cy="712800"/>
          </a:xfrm>
          <a:prstGeom prst="rect">
            <a:avLst/>
          </a:prstGeom>
          <a:ln w="0">
            <a:noFill/>
          </a:ln>
        </p:spPr>
      </p:pic>
      <p:pic>
        <p:nvPicPr>
          <p:cNvPr id="548" name="targette" descr=""/>
          <p:cNvPicPr/>
          <p:nvPr/>
        </p:nvPicPr>
        <p:blipFill>
          <a:blip r:embed="rId2"/>
          <a:stretch/>
        </p:blipFill>
        <p:spPr>
          <a:xfrm>
            <a:off x="7605720" y="2660760"/>
            <a:ext cx="668160" cy="647640"/>
          </a:xfrm>
          <a:prstGeom prst="rect">
            <a:avLst/>
          </a:prstGeom>
          <a:ln w="0">
            <a:noFill/>
          </a:ln>
        </p:spPr>
      </p:pic>
      <p:pic>
        <p:nvPicPr>
          <p:cNvPr id="549" name="liaison_pivot" descr=""/>
          <p:cNvPicPr/>
          <p:nvPr/>
        </p:nvPicPr>
        <p:blipFill>
          <a:blip r:embed="rId3"/>
          <a:stretch/>
        </p:blipFill>
        <p:spPr>
          <a:xfrm>
            <a:off x="6019920" y="3340080"/>
            <a:ext cx="860400" cy="725400"/>
          </a:xfrm>
          <a:prstGeom prst="rect">
            <a:avLst/>
          </a:prstGeom>
          <a:ln w="0">
            <a:noFill/>
          </a:ln>
        </p:spPr>
      </p:pic>
      <p:pic>
        <p:nvPicPr>
          <p:cNvPr id="550" name="windmill" descr=""/>
          <p:cNvPicPr/>
          <p:nvPr/>
        </p:nvPicPr>
        <p:blipFill>
          <a:blip r:embed="rId4"/>
          <a:stretch/>
        </p:blipFill>
        <p:spPr>
          <a:xfrm>
            <a:off x="7674120" y="3352680"/>
            <a:ext cx="601560" cy="701640"/>
          </a:xfrm>
          <a:prstGeom prst="rect">
            <a:avLst/>
          </a:prstGeom>
          <a:ln w="0">
            <a:noFill/>
          </a:ln>
        </p:spPr>
      </p:pic>
      <p:pic>
        <p:nvPicPr>
          <p:cNvPr id="551" name="liaison_glissiere" descr=""/>
          <p:cNvPicPr/>
          <p:nvPr/>
        </p:nvPicPr>
        <p:blipFill>
          <a:blip r:embed="rId5"/>
          <a:stretch/>
        </p:blipFill>
        <p:spPr>
          <a:xfrm>
            <a:off x="6095880" y="4091040"/>
            <a:ext cx="860400" cy="722160"/>
          </a:xfrm>
          <a:prstGeom prst="rect">
            <a:avLst/>
          </a:prstGeom>
          <a:ln w="0">
            <a:noFill/>
          </a:ln>
        </p:spPr>
      </p:pic>
      <p:pic>
        <p:nvPicPr>
          <p:cNvPr id="552" name="train" descr=""/>
          <p:cNvPicPr/>
          <p:nvPr/>
        </p:nvPicPr>
        <p:blipFill>
          <a:blip r:embed="rId6"/>
          <a:stretch/>
        </p:blipFill>
        <p:spPr>
          <a:xfrm>
            <a:off x="7631280" y="4114800"/>
            <a:ext cx="731520" cy="642960"/>
          </a:xfrm>
          <a:prstGeom prst="rect">
            <a:avLst/>
          </a:prstGeom>
          <a:ln w="0">
            <a:noFill/>
          </a:ln>
        </p:spPr>
      </p:pic>
      <p:pic>
        <p:nvPicPr>
          <p:cNvPr id="553" name="liaison_helicoidale" descr=""/>
          <p:cNvPicPr/>
          <p:nvPr/>
        </p:nvPicPr>
        <p:blipFill>
          <a:blip r:embed="rId7"/>
          <a:stretch/>
        </p:blipFill>
        <p:spPr>
          <a:xfrm>
            <a:off x="6019920" y="4788000"/>
            <a:ext cx="869760" cy="731880"/>
          </a:xfrm>
          <a:prstGeom prst="rect">
            <a:avLst/>
          </a:prstGeom>
          <a:ln w="0">
            <a:noFill/>
          </a:ln>
        </p:spPr>
      </p:pic>
      <p:pic>
        <p:nvPicPr>
          <p:cNvPr id="554" name="vis-ecrou" descr=""/>
          <p:cNvPicPr/>
          <p:nvPr/>
        </p:nvPicPr>
        <p:blipFill>
          <a:blip r:embed="rId8"/>
          <a:stretch/>
        </p:blipFill>
        <p:spPr>
          <a:xfrm>
            <a:off x="7610400" y="4876920"/>
            <a:ext cx="704880" cy="755640"/>
          </a:xfrm>
          <a:prstGeom prst="rect">
            <a:avLst/>
          </a:prstGeom>
          <a:ln w="0">
            <a:noFill/>
          </a:ln>
        </p:spPr>
      </p:pic>
      <p:pic>
        <p:nvPicPr>
          <p:cNvPr id="555" name="liaison_encastrement" descr=""/>
          <p:cNvPicPr/>
          <p:nvPr/>
        </p:nvPicPr>
        <p:blipFill>
          <a:blip r:embed="rId9"/>
          <a:stretch/>
        </p:blipFill>
        <p:spPr>
          <a:xfrm>
            <a:off x="6019920" y="5562720"/>
            <a:ext cx="792000" cy="666720"/>
          </a:xfrm>
          <a:prstGeom prst="rect">
            <a:avLst/>
          </a:prstGeom>
          <a:ln w="0">
            <a:noFill/>
          </a:ln>
        </p:spPr>
      </p:pic>
      <p:pic>
        <p:nvPicPr>
          <p:cNvPr id="556" name="boitiers" descr=""/>
          <p:cNvPicPr/>
          <p:nvPr/>
        </p:nvPicPr>
        <p:blipFill>
          <a:blip r:embed="rId10"/>
          <a:stretch/>
        </p:blipFill>
        <p:spPr>
          <a:xfrm>
            <a:off x="7527960" y="5538960"/>
            <a:ext cx="819000" cy="71892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1371600" y="1139760"/>
            <a:ext cx="7238520" cy="5111280"/>
            <a:chOff x="1371600" y="1139760"/>
            <a:chExt cx="7238520" cy="5111280"/>
          </a:xfrm>
        </p:grpSpPr>
        <p:grpSp>
          <p:nvGrpSpPr>
            <p:cNvPr id="558" name=""/>
            <p:cNvGrpSpPr/>
            <p:nvPr/>
          </p:nvGrpSpPr>
          <p:grpSpPr>
            <a:xfrm>
              <a:off x="1371600" y="1139760"/>
              <a:ext cx="1377720" cy="1445760"/>
              <a:chOff x="1371600" y="1139760"/>
              <a:chExt cx="1377720" cy="1445760"/>
            </a:xfrm>
          </p:grpSpPr>
          <p:sp>
            <p:nvSpPr>
              <p:cNvPr id="559" name=""/>
              <p:cNvSpPr/>
              <p:nvPr/>
            </p:nvSpPr>
            <p:spPr>
              <a:xfrm>
                <a:off x="1381320" y="1150200"/>
                <a:ext cx="1357920" cy="14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3399"/>
                    </a:solidFill>
                    <a:latin typeface="Comic Sans MS"/>
                  </a:rPr>
                  <a:t>Nom des liaisons</a:t>
                </a:r>
                <a:r>
                  <a:rPr b="1" lang="en-US" sz="1200" spc="-1" strike="noStrike">
                    <a:solidFill>
                      <a:srgbClr val="ff66ff"/>
                    </a:solidFill>
                    <a:latin typeface="Comic Sans MS"/>
                  </a:rPr>
                  <a:t>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1371600" y="1139760"/>
                <a:ext cx="1377720" cy="144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1" name=""/>
            <p:cNvGrpSpPr/>
            <p:nvPr/>
          </p:nvGrpSpPr>
          <p:grpSpPr>
            <a:xfrm>
              <a:off x="2749680" y="1139760"/>
              <a:ext cx="1399680" cy="711000"/>
              <a:chOff x="2749680" y="1139760"/>
              <a:chExt cx="1399680" cy="711000"/>
            </a:xfrm>
          </p:grpSpPr>
          <p:sp>
            <p:nvSpPr>
              <p:cNvPr id="562" name=""/>
              <p:cNvSpPr/>
              <p:nvPr/>
            </p:nvSpPr>
            <p:spPr>
              <a:xfrm>
                <a:off x="2759760" y="1150200"/>
                <a:ext cx="1379520" cy="68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200" spc="-1" strike="noStrike">
                    <a:solidFill>
                      <a:srgbClr val="cc3399"/>
                    </a:solidFill>
                    <a:latin typeface="Comic Sans MS"/>
                  </a:rPr>
                  <a:t> </a:t>
                </a:r>
                <a:r>
                  <a:rPr b="1" lang="en-GB" sz="1200" spc="-1" strike="noStrike">
                    <a:solidFill>
                      <a:srgbClr val="cc3399"/>
                    </a:solidFill>
                    <a:latin typeface="Comic Sans MS"/>
                  </a:rPr>
                  <a:t>Translations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2749680" y="1139760"/>
                <a:ext cx="139968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4149720" y="1139760"/>
              <a:ext cx="1490400" cy="711000"/>
              <a:chOff x="4149720" y="1139760"/>
              <a:chExt cx="1490400" cy="711000"/>
            </a:xfrm>
          </p:grpSpPr>
          <p:sp>
            <p:nvSpPr>
              <p:cNvPr id="565" name=""/>
              <p:cNvSpPr/>
              <p:nvPr/>
            </p:nvSpPr>
            <p:spPr>
              <a:xfrm>
                <a:off x="4159800" y="1150200"/>
                <a:ext cx="1469880" cy="68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cc3399"/>
                    </a:solidFill>
                    <a:latin typeface="Comic Sans MS"/>
                  </a:rPr>
                  <a:t>   </a:t>
                </a:r>
                <a:r>
                  <a:rPr b="1" lang="en-GB" sz="1200" spc="-1" strike="noStrike">
                    <a:solidFill>
                      <a:srgbClr val="cc3399"/>
                    </a:solidFill>
                    <a:latin typeface="Comic Sans MS"/>
                  </a:rPr>
                  <a:t>Rotations  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149720" y="1139760"/>
                <a:ext cx="149040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7" name=""/>
            <p:cNvGrpSpPr/>
            <p:nvPr/>
          </p:nvGrpSpPr>
          <p:grpSpPr>
            <a:xfrm>
              <a:off x="5640480" y="1139760"/>
              <a:ext cx="1510920" cy="1445760"/>
              <a:chOff x="5640480" y="1139760"/>
              <a:chExt cx="1510920" cy="1445760"/>
            </a:xfrm>
          </p:grpSpPr>
          <p:sp>
            <p:nvSpPr>
              <p:cNvPr id="568" name=""/>
              <p:cNvSpPr/>
              <p:nvPr/>
            </p:nvSpPr>
            <p:spPr>
              <a:xfrm>
                <a:off x="5650200" y="1150200"/>
                <a:ext cx="1491120" cy="14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200" spc="-1" strike="noStrike">
                    <a:solidFill>
                      <a:srgbClr val="cc3399"/>
                    </a:solidFill>
                    <a:latin typeface="Comic Sans MS"/>
                  </a:rPr>
                  <a:t>Schéma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640480" y="1139760"/>
                <a:ext cx="1510920" cy="144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0" name=""/>
            <p:cNvGrpSpPr/>
            <p:nvPr/>
          </p:nvGrpSpPr>
          <p:grpSpPr>
            <a:xfrm>
              <a:off x="7151760" y="1139760"/>
              <a:ext cx="1452240" cy="1445760"/>
              <a:chOff x="7151760" y="1139760"/>
              <a:chExt cx="1452240" cy="1445760"/>
            </a:xfrm>
          </p:grpSpPr>
          <p:sp>
            <p:nvSpPr>
              <p:cNvPr id="571" name=""/>
              <p:cNvSpPr/>
              <p:nvPr/>
            </p:nvSpPr>
            <p:spPr>
              <a:xfrm>
                <a:off x="7161840" y="1150200"/>
                <a:ext cx="1431720" cy="1424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cc3399"/>
                    </a:solidFill>
                    <a:latin typeface="Comic Sans MS"/>
                  </a:rPr>
                  <a:t>Exemples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151760" y="1139760"/>
                <a:ext cx="1452240" cy="14457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3" name=""/>
            <p:cNvGrpSpPr/>
            <p:nvPr/>
          </p:nvGrpSpPr>
          <p:grpSpPr>
            <a:xfrm>
              <a:off x="2749680" y="1873080"/>
              <a:ext cx="466200" cy="712440"/>
              <a:chOff x="2749680" y="1873080"/>
              <a:chExt cx="466200" cy="712440"/>
            </a:xfrm>
          </p:grpSpPr>
          <p:sp>
            <p:nvSpPr>
              <p:cNvPr id="574" name=""/>
              <p:cNvSpPr/>
              <p:nvPr/>
            </p:nvSpPr>
            <p:spPr>
              <a:xfrm>
                <a:off x="2759760" y="1884240"/>
                <a:ext cx="44604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2749680" y="1873080"/>
                <a:ext cx="46620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6" name=""/>
            <p:cNvGrpSpPr/>
            <p:nvPr/>
          </p:nvGrpSpPr>
          <p:grpSpPr>
            <a:xfrm>
              <a:off x="3216240" y="1873080"/>
              <a:ext cx="466560" cy="712440"/>
              <a:chOff x="3216240" y="1873080"/>
              <a:chExt cx="466560" cy="712440"/>
            </a:xfrm>
          </p:grpSpPr>
          <p:sp>
            <p:nvSpPr>
              <p:cNvPr id="577" name=""/>
              <p:cNvSpPr/>
              <p:nvPr/>
            </p:nvSpPr>
            <p:spPr>
              <a:xfrm>
                <a:off x="3225960" y="1884240"/>
                <a:ext cx="44640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216240" y="1873080"/>
                <a:ext cx="46656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3683160" y="1873080"/>
              <a:ext cx="466200" cy="712440"/>
              <a:chOff x="3683160" y="1873080"/>
              <a:chExt cx="466200" cy="712440"/>
            </a:xfrm>
          </p:grpSpPr>
          <p:sp>
            <p:nvSpPr>
              <p:cNvPr id="580" name=""/>
              <p:cNvSpPr/>
              <p:nvPr/>
            </p:nvSpPr>
            <p:spPr>
              <a:xfrm>
                <a:off x="3692880" y="1884240"/>
                <a:ext cx="44640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683160" y="1873080"/>
                <a:ext cx="46620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2" name=""/>
            <p:cNvGrpSpPr/>
            <p:nvPr/>
          </p:nvGrpSpPr>
          <p:grpSpPr>
            <a:xfrm>
              <a:off x="4149720" y="1873080"/>
              <a:ext cx="447480" cy="712440"/>
              <a:chOff x="4149720" y="1873080"/>
              <a:chExt cx="447480" cy="712440"/>
            </a:xfrm>
          </p:grpSpPr>
          <p:sp>
            <p:nvSpPr>
              <p:cNvPr id="583" name=""/>
              <p:cNvSpPr/>
              <p:nvPr/>
            </p:nvSpPr>
            <p:spPr>
              <a:xfrm>
                <a:off x="4159800" y="1884240"/>
                <a:ext cx="42732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149720" y="1873080"/>
                <a:ext cx="44748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5" name=""/>
            <p:cNvGrpSpPr/>
            <p:nvPr/>
          </p:nvGrpSpPr>
          <p:grpSpPr>
            <a:xfrm>
              <a:off x="4597560" y="1873080"/>
              <a:ext cx="445680" cy="712440"/>
              <a:chOff x="4597560" y="1873080"/>
              <a:chExt cx="445680" cy="712440"/>
            </a:xfrm>
          </p:grpSpPr>
          <p:sp>
            <p:nvSpPr>
              <p:cNvPr id="586" name=""/>
              <p:cNvSpPr/>
              <p:nvPr/>
            </p:nvSpPr>
            <p:spPr>
              <a:xfrm>
                <a:off x="4607640" y="1884240"/>
                <a:ext cx="42516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597560" y="1873080"/>
                <a:ext cx="44568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5043600" y="1873080"/>
              <a:ext cx="596520" cy="712440"/>
              <a:chOff x="5043600" y="1873080"/>
              <a:chExt cx="596520" cy="712440"/>
            </a:xfrm>
          </p:grpSpPr>
          <p:sp>
            <p:nvSpPr>
              <p:cNvPr id="589" name=""/>
              <p:cNvSpPr/>
              <p:nvPr/>
            </p:nvSpPr>
            <p:spPr>
              <a:xfrm>
                <a:off x="5053320" y="1884240"/>
                <a:ext cx="576360" cy="690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ccff"/>
                    </a:solidFill>
                    <a:latin typeface="Comic Sans MS"/>
                  </a:rPr>
                  <a:t>Z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043600" y="1873080"/>
                <a:ext cx="59652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1" name=""/>
            <p:cNvGrpSpPr/>
            <p:nvPr/>
          </p:nvGrpSpPr>
          <p:grpSpPr>
            <a:xfrm>
              <a:off x="1374840" y="2612880"/>
              <a:ext cx="1377360" cy="711000"/>
              <a:chOff x="1374840" y="2612880"/>
              <a:chExt cx="1377360" cy="711000"/>
            </a:xfrm>
          </p:grpSpPr>
          <p:sp>
            <p:nvSpPr>
              <p:cNvPr id="592" name=""/>
              <p:cNvSpPr/>
              <p:nvPr/>
            </p:nvSpPr>
            <p:spPr>
              <a:xfrm>
                <a:off x="1384560" y="2623680"/>
                <a:ext cx="135756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Comic Sans MS"/>
                  </a:rPr>
                  <a:t>Pivot glissa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1374840" y="2612880"/>
                <a:ext cx="137736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4" name=""/>
            <p:cNvGrpSpPr/>
            <p:nvPr/>
          </p:nvGrpSpPr>
          <p:grpSpPr>
            <a:xfrm>
              <a:off x="2752560" y="2612880"/>
              <a:ext cx="466560" cy="711000"/>
              <a:chOff x="2752560" y="2612880"/>
              <a:chExt cx="466560" cy="711000"/>
            </a:xfrm>
          </p:grpSpPr>
          <p:sp>
            <p:nvSpPr>
              <p:cNvPr id="595" name=""/>
              <p:cNvSpPr/>
              <p:nvPr/>
            </p:nvSpPr>
            <p:spPr>
              <a:xfrm>
                <a:off x="2762640" y="2623680"/>
                <a:ext cx="4464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2752560" y="2612880"/>
                <a:ext cx="46656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7" name=""/>
            <p:cNvGrpSpPr/>
            <p:nvPr/>
          </p:nvGrpSpPr>
          <p:grpSpPr>
            <a:xfrm>
              <a:off x="3219480" y="2612880"/>
              <a:ext cx="466200" cy="711000"/>
              <a:chOff x="3219480" y="2612880"/>
              <a:chExt cx="466200" cy="711000"/>
            </a:xfrm>
          </p:grpSpPr>
          <p:sp>
            <p:nvSpPr>
              <p:cNvPr id="598" name=""/>
              <p:cNvSpPr/>
              <p:nvPr/>
            </p:nvSpPr>
            <p:spPr>
              <a:xfrm>
                <a:off x="3229200" y="2623680"/>
                <a:ext cx="44604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 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1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3219480" y="2612880"/>
                <a:ext cx="46620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0" name=""/>
            <p:cNvGrpSpPr/>
            <p:nvPr/>
          </p:nvGrpSpPr>
          <p:grpSpPr>
            <a:xfrm>
              <a:off x="3686040" y="2612880"/>
              <a:ext cx="468000" cy="711000"/>
              <a:chOff x="3686040" y="2612880"/>
              <a:chExt cx="468000" cy="711000"/>
            </a:xfrm>
          </p:grpSpPr>
          <p:sp>
            <p:nvSpPr>
              <p:cNvPr id="601" name=""/>
              <p:cNvSpPr/>
              <p:nvPr/>
            </p:nvSpPr>
            <p:spPr>
              <a:xfrm>
                <a:off x="3695760" y="2623680"/>
                <a:ext cx="44820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3686040" y="2612880"/>
                <a:ext cx="46800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3" name=""/>
            <p:cNvGrpSpPr/>
            <p:nvPr/>
          </p:nvGrpSpPr>
          <p:grpSpPr>
            <a:xfrm>
              <a:off x="4154400" y="2612880"/>
              <a:ext cx="445680" cy="711000"/>
              <a:chOff x="4154400" y="2612880"/>
              <a:chExt cx="445680" cy="711000"/>
            </a:xfrm>
          </p:grpSpPr>
          <p:sp>
            <p:nvSpPr>
              <p:cNvPr id="604" name=""/>
              <p:cNvSpPr/>
              <p:nvPr/>
            </p:nvSpPr>
            <p:spPr>
              <a:xfrm>
                <a:off x="4164480" y="2623680"/>
                <a:ext cx="42552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4154400" y="2612880"/>
                <a:ext cx="44568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4600440" y="2612880"/>
              <a:ext cx="446040" cy="711000"/>
              <a:chOff x="4600440" y="2612880"/>
              <a:chExt cx="446040" cy="711000"/>
            </a:xfrm>
          </p:grpSpPr>
          <p:sp>
            <p:nvSpPr>
              <p:cNvPr id="607" name=""/>
              <p:cNvSpPr/>
              <p:nvPr/>
            </p:nvSpPr>
            <p:spPr>
              <a:xfrm>
                <a:off x="4610520" y="2623680"/>
                <a:ext cx="42552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 </a:t>
                </a: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4600440" y="2612880"/>
                <a:ext cx="44604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09" name=""/>
            <p:cNvGrpSpPr/>
            <p:nvPr/>
          </p:nvGrpSpPr>
          <p:grpSpPr>
            <a:xfrm>
              <a:off x="5046840" y="2612880"/>
              <a:ext cx="596520" cy="711000"/>
              <a:chOff x="5046840" y="2612880"/>
              <a:chExt cx="596520" cy="711000"/>
            </a:xfrm>
          </p:grpSpPr>
          <p:sp>
            <p:nvSpPr>
              <p:cNvPr id="610" name=""/>
              <p:cNvSpPr/>
              <p:nvPr/>
            </p:nvSpPr>
            <p:spPr>
              <a:xfrm>
                <a:off x="5056560" y="2623680"/>
                <a:ext cx="57636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5046840" y="2612880"/>
                <a:ext cx="59652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2" name=""/>
            <p:cNvGrpSpPr/>
            <p:nvPr/>
          </p:nvGrpSpPr>
          <p:grpSpPr>
            <a:xfrm>
              <a:off x="5643720" y="2612880"/>
              <a:ext cx="1510920" cy="711000"/>
              <a:chOff x="5643720" y="2612880"/>
              <a:chExt cx="1510920" cy="711000"/>
            </a:xfrm>
          </p:grpSpPr>
          <p:sp>
            <p:nvSpPr>
              <p:cNvPr id="613" name=""/>
              <p:cNvSpPr/>
              <p:nvPr/>
            </p:nvSpPr>
            <p:spPr>
              <a:xfrm>
                <a:off x="5653440" y="2623680"/>
                <a:ext cx="149112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5643720" y="2612880"/>
                <a:ext cx="151092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5" name=""/>
            <p:cNvGrpSpPr/>
            <p:nvPr/>
          </p:nvGrpSpPr>
          <p:grpSpPr>
            <a:xfrm>
              <a:off x="7155000" y="2612880"/>
              <a:ext cx="1452240" cy="711000"/>
              <a:chOff x="7155000" y="2612880"/>
              <a:chExt cx="1452240" cy="711000"/>
            </a:xfrm>
          </p:grpSpPr>
          <p:sp>
            <p:nvSpPr>
              <p:cNvPr id="616" name=""/>
              <p:cNvSpPr/>
              <p:nvPr/>
            </p:nvSpPr>
            <p:spPr>
              <a:xfrm>
                <a:off x="7165080" y="2623680"/>
                <a:ext cx="1431720" cy="68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155000" y="2612880"/>
                <a:ext cx="145224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18" name=""/>
            <p:cNvGrpSpPr/>
            <p:nvPr/>
          </p:nvGrpSpPr>
          <p:grpSpPr>
            <a:xfrm>
              <a:off x="1374840" y="3346560"/>
              <a:ext cx="1377360" cy="710640"/>
              <a:chOff x="1374840" y="3346560"/>
              <a:chExt cx="1377360" cy="710640"/>
            </a:xfrm>
          </p:grpSpPr>
          <p:sp>
            <p:nvSpPr>
              <p:cNvPr id="619" name=""/>
              <p:cNvSpPr/>
              <p:nvPr/>
            </p:nvSpPr>
            <p:spPr>
              <a:xfrm>
                <a:off x="1384560" y="3357360"/>
                <a:ext cx="135756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Comic Sans MS"/>
                  </a:rPr>
                  <a:t>Piv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1374840" y="3346560"/>
                <a:ext cx="137736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1" name=""/>
            <p:cNvGrpSpPr/>
            <p:nvPr/>
          </p:nvGrpSpPr>
          <p:grpSpPr>
            <a:xfrm>
              <a:off x="2752560" y="3346560"/>
              <a:ext cx="466560" cy="710640"/>
              <a:chOff x="2752560" y="3346560"/>
              <a:chExt cx="466560" cy="710640"/>
            </a:xfrm>
          </p:grpSpPr>
          <p:sp>
            <p:nvSpPr>
              <p:cNvPr id="622" name=""/>
              <p:cNvSpPr/>
              <p:nvPr/>
            </p:nvSpPr>
            <p:spPr>
              <a:xfrm>
                <a:off x="2762640" y="3357360"/>
                <a:ext cx="4464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2752560" y="3346560"/>
                <a:ext cx="46656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4" name=""/>
            <p:cNvGrpSpPr/>
            <p:nvPr/>
          </p:nvGrpSpPr>
          <p:grpSpPr>
            <a:xfrm>
              <a:off x="3219480" y="3346560"/>
              <a:ext cx="466200" cy="710640"/>
              <a:chOff x="3219480" y="3346560"/>
              <a:chExt cx="466200" cy="710640"/>
            </a:xfrm>
          </p:grpSpPr>
          <p:sp>
            <p:nvSpPr>
              <p:cNvPr id="625" name=""/>
              <p:cNvSpPr/>
              <p:nvPr/>
            </p:nvSpPr>
            <p:spPr>
              <a:xfrm>
                <a:off x="3229200" y="3357360"/>
                <a:ext cx="44604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3219480" y="3346560"/>
                <a:ext cx="46620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27" name=""/>
            <p:cNvGrpSpPr/>
            <p:nvPr/>
          </p:nvGrpSpPr>
          <p:grpSpPr>
            <a:xfrm>
              <a:off x="3686040" y="3346560"/>
              <a:ext cx="468000" cy="710640"/>
              <a:chOff x="3686040" y="3346560"/>
              <a:chExt cx="468000" cy="710640"/>
            </a:xfrm>
          </p:grpSpPr>
          <p:sp>
            <p:nvSpPr>
              <p:cNvPr id="628" name=""/>
              <p:cNvSpPr/>
              <p:nvPr/>
            </p:nvSpPr>
            <p:spPr>
              <a:xfrm>
                <a:off x="3695760" y="3357360"/>
                <a:ext cx="4482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3686040" y="3346560"/>
                <a:ext cx="46800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4154400" y="3346560"/>
              <a:ext cx="445680" cy="710640"/>
              <a:chOff x="4154400" y="3346560"/>
              <a:chExt cx="445680" cy="710640"/>
            </a:xfrm>
          </p:grpSpPr>
          <p:sp>
            <p:nvSpPr>
              <p:cNvPr id="631" name=""/>
              <p:cNvSpPr/>
              <p:nvPr/>
            </p:nvSpPr>
            <p:spPr>
              <a:xfrm>
                <a:off x="4164480" y="3357360"/>
                <a:ext cx="4255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4154400" y="3346560"/>
                <a:ext cx="44568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3" name=""/>
            <p:cNvGrpSpPr/>
            <p:nvPr/>
          </p:nvGrpSpPr>
          <p:grpSpPr>
            <a:xfrm>
              <a:off x="4600440" y="3346560"/>
              <a:ext cx="446040" cy="710640"/>
              <a:chOff x="4600440" y="3346560"/>
              <a:chExt cx="446040" cy="710640"/>
            </a:xfrm>
          </p:grpSpPr>
          <p:sp>
            <p:nvSpPr>
              <p:cNvPr id="634" name=""/>
              <p:cNvSpPr/>
              <p:nvPr/>
            </p:nvSpPr>
            <p:spPr>
              <a:xfrm>
                <a:off x="4610520" y="3357360"/>
                <a:ext cx="4255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4600440" y="3346560"/>
                <a:ext cx="44604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6" name=""/>
            <p:cNvGrpSpPr/>
            <p:nvPr/>
          </p:nvGrpSpPr>
          <p:grpSpPr>
            <a:xfrm>
              <a:off x="5046840" y="3346560"/>
              <a:ext cx="596520" cy="710640"/>
              <a:chOff x="5046840" y="3346560"/>
              <a:chExt cx="596520" cy="710640"/>
            </a:xfrm>
          </p:grpSpPr>
          <p:sp>
            <p:nvSpPr>
              <p:cNvPr id="637" name=""/>
              <p:cNvSpPr/>
              <p:nvPr/>
            </p:nvSpPr>
            <p:spPr>
              <a:xfrm>
                <a:off x="5056560" y="3357360"/>
                <a:ext cx="57636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046840" y="3346560"/>
                <a:ext cx="59652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9" name=""/>
            <p:cNvGrpSpPr/>
            <p:nvPr/>
          </p:nvGrpSpPr>
          <p:grpSpPr>
            <a:xfrm>
              <a:off x="5643720" y="3346560"/>
              <a:ext cx="1510920" cy="710640"/>
              <a:chOff x="5643720" y="3346560"/>
              <a:chExt cx="1510920" cy="710640"/>
            </a:xfrm>
          </p:grpSpPr>
          <p:sp>
            <p:nvSpPr>
              <p:cNvPr id="640" name=""/>
              <p:cNvSpPr/>
              <p:nvPr/>
            </p:nvSpPr>
            <p:spPr>
              <a:xfrm>
                <a:off x="5653440" y="3357360"/>
                <a:ext cx="14911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643720" y="3346560"/>
                <a:ext cx="151092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2" name=""/>
            <p:cNvGrpSpPr/>
            <p:nvPr/>
          </p:nvGrpSpPr>
          <p:grpSpPr>
            <a:xfrm>
              <a:off x="7155000" y="3346560"/>
              <a:ext cx="1452240" cy="710640"/>
              <a:chOff x="7155000" y="3346560"/>
              <a:chExt cx="1452240" cy="710640"/>
            </a:xfrm>
          </p:grpSpPr>
          <p:sp>
            <p:nvSpPr>
              <p:cNvPr id="643" name=""/>
              <p:cNvSpPr/>
              <p:nvPr/>
            </p:nvSpPr>
            <p:spPr>
              <a:xfrm>
                <a:off x="7165080" y="3357360"/>
                <a:ext cx="14317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7155000" y="3346560"/>
                <a:ext cx="145224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5" name=""/>
            <p:cNvGrpSpPr/>
            <p:nvPr/>
          </p:nvGrpSpPr>
          <p:grpSpPr>
            <a:xfrm>
              <a:off x="1374840" y="4079880"/>
              <a:ext cx="1377360" cy="711000"/>
              <a:chOff x="1374840" y="4079880"/>
              <a:chExt cx="1377360" cy="711000"/>
            </a:xfrm>
          </p:grpSpPr>
          <p:sp>
            <p:nvSpPr>
              <p:cNvPr id="646" name=""/>
              <p:cNvSpPr/>
              <p:nvPr/>
            </p:nvSpPr>
            <p:spPr>
              <a:xfrm>
                <a:off x="1384560" y="4090680"/>
                <a:ext cx="135756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Comic Sans MS"/>
                  </a:rPr>
                  <a:t>Glissièr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1374840" y="4079880"/>
                <a:ext cx="137736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48" name=""/>
            <p:cNvGrpSpPr/>
            <p:nvPr/>
          </p:nvGrpSpPr>
          <p:grpSpPr>
            <a:xfrm>
              <a:off x="2752560" y="4079880"/>
              <a:ext cx="466560" cy="711000"/>
              <a:chOff x="2752560" y="4079880"/>
              <a:chExt cx="466560" cy="711000"/>
            </a:xfrm>
          </p:grpSpPr>
          <p:sp>
            <p:nvSpPr>
              <p:cNvPr id="649" name=""/>
              <p:cNvSpPr/>
              <p:nvPr/>
            </p:nvSpPr>
            <p:spPr>
              <a:xfrm>
                <a:off x="2762640" y="4090680"/>
                <a:ext cx="4464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2752560" y="4079880"/>
                <a:ext cx="46656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1" name=""/>
            <p:cNvGrpSpPr/>
            <p:nvPr/>
          </p:nvGrpSpPr>
          <p:grpSpPr>
            <a:xfrm>
              <a:off x="3219480" y="4079880"/>
              <a:ext cx="466200" cy="711000"/>
              <a:chOff x="3219480" y="4079880"/>
              <a:chExt cx="466200" cy="711000"/>
            </a:xfrm>
          </p:grpSpPr>
          <p:sp>
            <p:nvSpPr>
              <p:cNvPr id="652" name=""/>
              <p:cNvSpPr/>
              <p:nvPr/>
            </p:nvSpPr>
            <p:spPr>
              <a:xfrm>
                <a:off x="3229200" y="4090680"/>
                <a:ext cx="44604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1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219480" y="4079880"/>
                <a:ext cx="46620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4" name=""/>
            <p:cNvGrpSpPr/>
            <p:nvPr/>
          </p:nvGrpSpPr>
          <p:grpSpPr>
            <a:xfrm>
              <a:off x="3686040" y="4079880"/>
              <a:ext cx="468000" cy="711000"/>
              <a:chOff x="3686040" y="4079880"/>
              <a:chExt cx="468000" cy="711000"/>
            </a:xfrm>
          </p:grpSpPr>
          <p:sp>
            <p:nvSpPr>
              <p:cNvPr id="655" name=""/>
              <p:cNvSpPr/>
              <p:nvPr/>
            </p:nvSpPr>
            <p:spPr>
              <a:xfrm>
                <a:off x="3695760" y="4090680"/>
                <a:ext cx="4482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3686040" y="4079880"/>
                <a:ext cx="46800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57" name=""/>
            <p:cNvGrpSpPr/>
            <p:nvPr/>
          </p:nvGrpSpPr>
          <p:grpSpPr>
            <a:xfrm>
              <a:off x="4154400" y="4079880"/>
              <a:ext cx="445680" cy="711000"/>
              <a:chOff x="4154400" y="4079880"/>
              <a:chExt cx="445680" cy="711000"/>
            </a:xfrm>
          </p:grpSpPr>
          <p:sp>
            <p:nvSpPr>
              <p:cNvPr id="658" name=""/>
              <p:cNvSpPr/>
              <p:nvPr/>
            </p:nvSpPr>
            <p:spPr>
              <a:xfrm>
                <a:off x="4164480" y="4090680"/>
                <a:ext cx="4255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4154400" y="4079880"/>
                <a:ext cx="44568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0" name=""/>
            <p:cNvGrpSpPr/>
            <p:nvPr/>
          </p:nvGrpSpPr>
          <p:grpSpPr>
            <a:xfrm>
              <a:off x="4600440" y="4079880"/>
              <a:ext cx="446040" cy="711000"/>
              <a:chOff x="4600440" y="4079880"/>
              <a:chExt cx="446040" cy="711000"/>
            </a:xfrm>
          </p:grpSpPr>
          <p:sp>
            <p:nvSpPr>
              <p:cNvPr id="661" name=""/>
              <p:cNvSpPr/>
              <p:nvPr/>
            </p:nvSpPr>
            <p:spPr>
              <a:xfrm>
                <a:off x="4610520" y="4090680"/>
                <a:ext cx="4255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4600440" y="4079880"/>
                <a:ext cx="44604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3" name=""/>
            <p:cNvGrpSpPr/>
            <p:nvPr/>
          </p:nvGrpSpPr>
          <p:grpSpPr>
            <a:xfrm>
              <a:off x="5046840" y="4079880"/>
              <a:ext cx="596520" cy="711000"/>
              <a:chOff x="5046840" y="4079880"/>
              <a:chExt cx="596520" cy="711000"/>
            </a:xfrm>
          </p:grpSpPr>
          <p:sp>
            <p:nvSpPr>
              <p:cNvPr id="664" name=""/>
              <p:cNvSpPr/>
              <p:nvPr/>
            </p:nvSpPr>
            <p:spPr>
              <a:xfrm>
                <a:off x="5056560" y="4090680"/>
                <a:ext cx="57636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5046840" y="4079880"/>
                <a:ext cx="59652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6" name=""/>
            <p:cNvGrpSpPr/>
            <p:nvPr/>
          </p:nvGrpSpPr>
          <p:grpSpPr>
            <a:xfrm>
              <a:off x="5643720" y="4079880"/>
              <a:ext cx="1510920" cy="711000"/>
              <a:chOff x="5643720" y="4079880"/>
              <a:chExt cx="1510920" cy="711000"/>
            </a:xfrm>
          </p:grpSpPr>
          <p:sp>
            <p:nvSpPr>
              <p:cNvPr id="667" name=""/>
              <p:cNvSpPr/>
              <p:nvPr/>
            </p:nvSpPr>
            <p:spPr>
              <a:xfrm>
                <a:off x="5653440" y="4090680"/>
                <a:ext cx="14911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5643720" y="4079880"/>
                <a:ext cx="151092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9" name=""/>
            <p:cNvGrpSpPr/>
            <p:nvPr/>
          </p:nvGrpSpPr>
          <p:grpSpPr>
            <a:xfrm>
              <a:off x="7155000" y="4079880"/>
              <a:ext cx="1452240" cy="711000"/>
              <a:chOff x="7155000" y="4079880"/>
              <a:chExt cx="1452240" cy="711000"/>
            </a:xfrm>
          </p:grpSpPr>
          <p:sp>
            <p:nvSpPr>
              <p:cNvPr id="670" name=""/>
              <p:cNvSpPr/>
              <p:nvPr/>
            </p:nvSpPr>
            <p:spPr>
              <a:xfrm>
                <a:off x="7165080" y="4090680"/>
                <a:ext cx="14317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>
                <a:off x="7155000" y="4079880"/>
                <a:ext cx="1452240" cy="71100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2" name=""/>
            <p:cNvGrpSpPr/>
            <p:nvPr/>
          </p:nvGrpSpPr>
          <p:grpSpPr>
            <a:xfrm>
              <a:off x="1374840" y="4813200"/>
              <a:ext cx="1377360" cy="712440"/>
              <a:chOff x="1374840" y="4813200"/>
              <a:chExt cx="1377360" cy="712440"/>
            </a:xfrm>
          </p:grpSpPr>
          <p:sp>
            <p:nvSpPr>
              <p:cNvPr id="673" name=""/>
              <p:cNvSpPr/>
              <p:nvPr/>
            </p:nvSpPr>
            <p:spPr>
              <a:xfrm>
                <a:off x="1384560" y="4824000"/>
                <a:ext cx="135756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200" spc="-1" strike="noStrike">
                    <a:solidFill>
                      <a:srgbClr val="ff9900"/>
                    </a:solidFill>
                    <a:latin typeface="Comic Sans MS"/>
                  </a:rPr>
                  <a:t>Helicoïdale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1374840" y="4813200"/>
                <a:ext cx="137736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5" name=""/>
            <p:cNvGrpSpPr/>
            <p:nvPr/>
          </p:nvGrpSpPr>
          <p:grpSpPr>
            <a:xfrm>
              <a:off x="2752560" y="4813200"/>
              <a:ext cx="466560" cy="712440"/>
              <a:chOff x="2752560" y="4813200"/>
              <a:chExt cx="466560" cy="712440"/>
            </a:xfrm>
          </p:grpSpPr>
          <p:sp>
            <p:nvSpPr>
              <p:cNvPr id="676" name=""/>
              <p:cNvSpPr/>
              <p:nvPr/>
            </p:nvSpPr>
            <p:spPr>
              <a:xfrm>
                <a:off x="2762640" y="4824000"/>
                <a:ext cx="44640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2752560" y="4813200"/>
                <a:ext cx="46656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8" name=""/>
            <p:cNvGrpSpPr/>
            <p:nvPr/>
          </p:nvGrpSpPr>
          <p:grpSpPr>
            <a:xfrm>
              <a:off x="3219480" y="4813200"/>
              <a:ext cx="466200" cy="712440"/>
              <a:chOff x="3219480" y="4813200"/>
              <a:chExt cx="466200" cy="712440"/>
            </a:xfrm>
          </p:grpSpPr>
          <p:sp>
            <p:nvSpPr>
              <p:cNvPr id="679" name=""/>
              <p:cNvSpPr/>
              <p:nvPr/>
            </p:nvSpPr>
            <p:spPr>
              <a:xfrm>
                <a:off x="3229200" y="4824000"/>
                <a:ext cx="44604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0000"/>
                    </a:solidFill>
                    <a:latin typeface="Comic Sans MS"/>
                  </a:rPr>
                  <a:t>1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3219480" y="4813200"/>
                <a:ext cx="46620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1" name=""/>
            <p:cNvGrpSpPr/>
            <p:nvPr/>
          </p:nvGrpSpPr>
          <p:grpSpPr>
            <a:xfrm>
              <a:off x="3686040" y="4813200"/>
              <a:ext cx="468000" cy="712440"/>
              <a:chOff x="3686040" y="4813200"/>
              <a:chExt cx="468000" cy="712440"/>
            </a:xfrm>
          </p:grpSpPr>
          <p:sp>
            <p:nvSpPr>
              <p:cNvPr id="682" name=""/>
              <p:cNvSpPr/>
              <p:nvPr/>
            </p:nvSpPr>
            <p:spPr>
              <a:xfrm>
                <a:off x="3695760" y="4824000"/>
                <a:ext cx="44820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 </a:t>
                </a: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3686040" y="4813200"/>
                <a:ext cx="46800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4" name=""/>
            <p:cNvGrpSpPr/>
            <p:nvPr/>
          </p:nvGrpSpPr>
          <p:grpSpPr>
            <a:xfrm>
              <a:off x="4154400" y="4813200"/>
              <a:ext cx="445680" cy="712440"/>
              <a:chOff x="4154400" y="4813200"/>
              <a:chExt cx="445680" cy="712440"/>
            </a:xfrm>
          </p:grpSpPr>
          <p:sp>
            <p:nvSpPr>
              <p:cNvPr id="685" name=""/>
              <p:cNvSpPr/>
              <p:nvPr/>
            </p:nvSpPr>
            <p:spPr>
              <a:xfrm>
                <a:off x="4164480" y="4824000"/>
                <a:ext cx="42552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4154400" y="4813200"/>
                <a:ext cx="44568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7" name=""/>
            <p:cNvGrpSpPr/>
            <p:nvPr/>
          </p:nvGrpSpPr>
          <p:grpSpPr>
            <a:xfrm>
              <a:off x="4600440" y="4813200"/>
              <a:ext cx="446040" cy="712440"/>
              <a:chOff x="4600440" y="4813200"/>
              <a:chExt cx="446040" cy="712440"/>
            </a:xfrm>
          </p:grpSpPr>
          <p:sp>
            <p:nvSpPr>
              <p:cNvPr id="688" name=""/>
              <p:cNvSpPr/>
              <p:nvPr/>
            </p:nvSpPr>
            <p:spPr>
              <a:xfrm>
                <a:off x="4610520" y="4824000"/>
                <a:ext cx="42552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0000"/>
                    </a:solidFill>
                    <a:latin typeface="Comic Sans MS"/>
                  </a:rPr>
                  <a:t>1*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4600440" y="4813200"/>
                <a:ext cx="44604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0" name=""/>
            <p:cNvGrpSpPr/>
            <p:nvPr/>
          </p:nvGrpSpPr>
          <p:grpSpPr>
            <a:xfrm>
              <a:off x="5046840" y="4813200"/>
              <a:ext cx="596520" cy="712440"/>
              <a:chOff x="5046840" y="4813200"/>
              <a:chExt cx="596520" cy="712440"/>
            </a:xfrm>
          </p:grpSpPr>
          <p:sp>
            <p:nvSpPr>
              <p:cNvPr id="691" name=""/>
              <p:cNvSpPr/>
              <p:nvPr/>
            </p:nvSpPr>
            <p:spPr>
              <a:xfrm>
                <a:off x="5056560" y="4824000"/>
                <a:ext cx="57636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 </a:t>
                </a: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 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5046840" y="4813200"/>
                <a:ext cx="59652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3" name=""/>
            <p:cNvGrpSpPr/>
            <p:nvPr/>
          </p:nvGrpSpPr>
          <p:grpSpPr>
            <a:xfrm>
              <a:off x="5643720" y="4813200"/>
              <a:ext cx="1510920" cy="712440"/>
              <a:chOff x="5643720" y="4813200"/>
              <a:chExt cx="1510920" cy="712440"/>
            </a:xfrm>
          </p:grpSpPr>
          <p:sp>
            <p:nvSpPr>
              <p:cNvPr id="694" name=""/>
              <p:cNvSpPr/>
              <p:nvPr/>
            </p:nvSpPr>
            <p:spPr>
              <a:xfrm>
                <a:off x="5653440" y="4824000"/>
                <a:ext cx="149112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5643720" y="4813200"/>
                <a:ext cx="151092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6" name=""/>
            <p:cNvGrpSpPr/>
            <p:nvPr/>
          </p:nvGrpSpPr>
          <p:grpSpPr>
            <a:xfrm>
              <a:off x="7155000" y="4813200"/>
              <a:ext cx="1452240" cy="712440"/>
              <a:chOff x="7155000" y="4813200"/>
              <a:chExt cx="1452240" cy="712440"/>
            </a:xfrm>
          </p:grpSpPr>
          <p:sp>
            <p:nvSpPr>
              <p:cNvPr id="697" name=""/>
              <p:cNvSpPr/>
              <p:nvPr/>
            </p:nvSpPr>
            <p:spPr>
              <a:xfrm>
                <a:off x="7165080" y="4824000"/>
                <a:ext cx="1431720" cy="69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155000" y="4813200"/>
                <a:ext cx="1452240" cy="7124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"/>
            <p:cNvGrpSpPr/>
            <p:nvPr/>
          </p:nvGrpSpPr>
          <p:grpSpPr>
            <a:xfrm>
              <a:off x="1378080" y="5540400"/>
              <a:ext cx="1377360" cy="710640"/>
              <a:chOff x="1378080" y="5540400"/>
              <a:chExt cx="1377360" cy="710640"/>
            </a:xfrm>
          </p:grpSpPr>
          <p:sp>
            <p:nvSpPr>
              <p:cNvPr id="700" name=""/>
              <p:cNvSpPr/>
              <p:nvPr/>
            </p:nvSpPr>
            <p:spPr>
              <a:xfrm>
                <a:off x="1387800" y="5550840"/>
                <a:ext cx="135756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9900"/>
                    </a:solidFill>
                    <a:latin typeface="Comic Sans MS"/>
                  </a:rPr>
                  <a:t>Encastrem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1378080" y="5540400"/>
                <a:ext cx="137736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2" name=""/>
            <p:cNvGrpSpPr/>
            <p:nvPr/>
          </p:nvGrpSpPr>
          <p:grpSpPr>
            <a:xfrm>
              <a:off x="2755800" y="5540400"/>
              <a:ext cx="466560" cy="710640"/>
              <a:chOff x="2755800" y="5540400"/>
              <a:chExt cx="466560" cy="710640"/>
            </a:xfrm>
          </p:grpSpPr>
          <p:sp>
            <p:nvSpPr>
              <p:cNvPr id="703" name=""/>
              <p:cNvSpPr/>
              <p:nvPr/>
            </p:nvSpPr>
            <p:spPr>
              <a:xfrm>
                <a:off x="2765880" y="5550840"/>
                <a:ext cx="4464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2755800" y="5540400"/>
                <a:ext cx="46656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5" name=""/>
            <p:cNvGrpSpPr/>
            <p:nvPr/>
          </p:nvGrpSpPr>
          <p:grpSpPr>
            <a:xfrm>
              <a:off x="3222720" y="5540400"/>
              <a:ext cx="466200" cy="710640"/>
              <a:chOff x="3222720" y="5540400"/>
              <a:chExt cx="466200" cy="710640"/>
            </a:xfrm>
          </p:grpSpPr>
          <p:sp>
            <p:nvSpPr>
              <p:cNvPr id="706" name=""/>
              <p:cNvSpPr/>
              <p:nvPr/>
            </p:nvSpPr>
            <p:spPr>
              <a:xfrm>
                <a:off x="3232440" y="5550840"/>
                <a:ext cx="44604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3222720" y="5540400"/>
                <a:ext cx="46620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08" name=""/>
            <p:cNvGrpSpPr/>
            <p:nvPr/>
          </p:nvGrpSpPr>
          <p:grpSpPr>
            <a:xfrm>
              <a:off x="3689280" y="5540400"/>
              <a:ext cx="468000" cy="710640"/>
              <a:chOff x="3689280" y="5540400"/>
              <a:chExt cx="468000" cy="710640"/>
            </a:xfrm>
          </p:grpSpPr>
          <p:sp>
            <p:nvSpPr>
              <p:cNvPr id="709" name=""/>
              <p:cNvSpPr/>
              <p:nvPr/>
            </p:nvSpPr>
            <p:spPr>
              <a:xfrm>
                <a:off x="3699000" y="5550840"/>
                <a:ext cx="44820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689280" y="5540400"/>
                <a:ext cx="46800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1" name=""/>
            <p:cNvGrpSpPr/>
            <p:nvPr/>
          </p:nvGrpSpPr>
          <p:grpSpPr>
            <a:xfrm>
              <a:off x="4157640" y="5540400"/>
              <a:ext cx="445680" cy="710640"/>
              <a:chOff x="4157640" y="5540400"/>
              <a:chExt cx="445680" cy="710640"/>
            </a:xfrm>
          </p:grpSpPr>
          <p:sp>
            <p:nvSpPr>
              <p:cNvPr id="712" name=""/>
              <p:cNvSpPr/>
              <p:nvPr/>
            </p:nvSpPr>
            <p:spPr>
              <a:xfrm>
                <a:off x="4167720" y="5550840"/>
                <a:ext cx="4255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4157640" y="5540400"/>
                <a:ext cx="44568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4" name=""/>
            <p:cNvGrpSpPr/>
            <p:nvPr/>
          </p:nvGrpSpPr>
          <p:grpSpPr>
            <a:xfrm>
              <a:off x="4603680" y="5540400"/>
              <a:ext cx="445680" cy="710640"/>
              <a:chOff x="4603680" y="5540400"/>
              <a:chExt cx="445680" cy="710640"/>
            </a:xfrm>
          </p:grpSpPr>
          <p:sp>
            <p:nvSpPr>
              <p:cNvPr id="715" name=""/>
              <p:cNvSpPr/>
              <p:nvPr/>
            </p:nvSpPr>
            <p:spPr>
              <a:xfrm>
                <a:off x="4613760" y="5550840"/>
                <a:ext cx="42516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4603680" y="5540400"/>
                <a:ext cx="44568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7" name=""/>
            <p:cNvGrpSpPr/>
            <p:nvPr/>
          </p:nvGrpSpPr>
          <p:grpSpPr>
            <a:xfrm>
              <a:off x="5049720" y="5540400"/>
              <a:ext cx="596520" cy="710640"/>
              <a:chOff x="5049720" y="5540400"/>
              <a:chExt cx="596520" cy="710640"/>
            </a:xfrm>
          </p:grpSpPr>
          <p:sp>
            <p:nvSpPr>
              <p:cNvPr id="718" name=""/>
              <p:cNvSpPr/>
              <p:nvPr/>
            </p:nvSpPr>
            <p:spPr>
              <a:xfrm>
                <a:off x="5059440" y="5550840"/>
                <a:ext cx="57636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9999ff"/>
                    </a:solidFill>
                    <a:latin typeface="Comic Sans MS"/>
                  </a:rPr>
                  <a:t>0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5049720" y="5540400"/>
                <a:ext cx="59652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5646600" y="5540400"/>
              <a:ext cx="1510920" cy="710640"/>
              <a:chOff x="5646600" y="5540400"/>
              <a:chExt cx="1510920" cy="710640"/>
            </a:xfrm>
          </p:grpSpPr>
          <p:sp>
            <p:nvSpPr>
              <p:cNvPr id="721" name=""/>
              <p:cNvSpPr/>
              <p:nvPr/>
            </p:nvSpPr>
            <p:spPr>
              <a:xfrm>
                <a:off x="5656320" y="5550840"/>
                <a:ext cx="14911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5646600" y="5540400"/>
                <a:ext cx="151092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7157880" y="5540400"/>
              <a:ext cx="1452240" cy="710640"/>
              <a:chOff x="7157880" y="5540400"/>
              <a:chExt cx="1452240" cy="710640"/>
            </a:xfrm>
          </p:grpSpPr>
          <p:sp>
            <p:nvSpPr>
              <p:cNvPr id="724" name=""/>
              <p:cNvSpPr/>
              <p:nvPr/>
            </p:nvSpPr>
            <p:spPr>
              <a:xfrm>
                <a:off x="7167960" y="5550840"/>
                <a:ext cx="1431720" cy="689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7157880" y="5540400"/>
                <a:ext cx="1452240" cy="71064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6" name=""/>
          <p:cNvSpPr/>
          <p:nvPr/>
        </p:nvSpPr>
        <p:spPr>
          <a:xfrm>
            <a:off x="1981080" y="914400"/>
            <a:ext cx="9255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Lexique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2906640" y="914400"/>
            <a:ext cx="5094360" cy="1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200" spc="-1" strike="noStrike">
                <a:solidFill>
                  <a:srgbClr val="9999ff"/>
                </a:solidFill>
                <a:latin typeface="Comic Sans MS"/>
              </a:rPr>
              <a:t>1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 : Il n'y a pas de contact, le mouvement est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981080" y="1111320"/>
            <a:ext cx="9255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2906640" y="1111320"/>
            <a:ext cx="5094360" cy="1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en-US" sz="1200" spc="-1" strike="noStrike">
                <a:solidFill>
                  <a:srgbClr val="9999ff"/>
                </a:solidFill>
                <a:latin typeface="Comic Sans MS"/>
              </a:rPr>
              <a:t>0 </a:t>
            </a: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: Il y a contact, le mouvement n’est pas possi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666880" y="-360"/>
            <a:ext cx="4114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4-Différentes liaisons 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5186520" y="337356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789720" y="4114800"/>
            <a:ext cx="2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9999ff"/>
                </a:solidFill>
                <a:latin typeface="Comic Sans MS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800100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>
            <a:off x="7467480" y="685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8001000" y="685800"/>
            <a:ext cx="5335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241040" y="838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8536320" y="83808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8079120" y="0"/>
            <a:ext cx="2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94920" y="228600"/>
            <a:ext cx="3627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-Mouv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0" name="Translation" descr=""/>
          <p:cNvPicPr/>
          <p:nvPr/>
        </p:nvPicPr>
        <p:blipFill>
          <a:blip r:embed="rId1"/>
          <a:stretch/>
        </p:blipFill>
        <p:spPr>
          <a:xfrm>
            <a:off x="1287360" y="1447920"/>
            <a:ext cx="7112160" cy="453708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1368360" y="1523880"/>
            <a:ext cx="253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lati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tilig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93360" y="2209680"/>
            <a:ext cx="25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ranslation circul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28800" y="2514600"/>
            <a:ext cx="106668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1828800" y="1790640"/>
            <a:ext cx="3580920" cy="1814040"/>
            <a:chOff x="1828800" y="1790640"/>
            <a:chExt cx="3580920" cy="1814040"/>
          </a:xfrm>
        </p:grpSpPr>
        <p:sp>
          <p:nvSpPr>
            <p:cNvPr id="135" name=""/>
            <p:cNvSpPr/>
            <p:nvPr/>
          </p:nvSpPr>
          <p:spPr>
            <a:xfrm flipV="1">
              <a:off x="1828800" y="1790640"/>
              <a:ext cx="2514240" cy="72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2887560" y="2864880"/>
              <a:ext cx="252216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4365720" y="1774800"/>
            <a:ext cx="1066680" cy="10666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6081840" y="3192120"/>
            <a:ext cx="1440" cy="1546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4397400" y="4724280"/>
            <a:ext cx="1698480" cy="960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5880" y="4724280"/>
            <a:ext cx="1798920" cy="104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56386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7480" y="57150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15000" y="31240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5400" y="48006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05640" y="3992400"/>
            <a:ext cx="1066680" cy="10670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2027520" y="1757520"/>
            <a:ext cx="5637960" cy="5529240"/>
            <a:chOff x="2027520" y="1757520"/>
            <a:chExt cx="5637960" cy="5529240"/>
          </a:xfrm>
        </p:grpSpPr>
        <p:sp>
          <p:nvSpPr>
            <p:cNvPr id="147" name=""/>
            <p:cNvSpPr/>
            <p:nvPr/>
          </p:nvSpPr>
          <p:spPr>
            <a:xfrm>
              <a:off x="2027520" y="1757520"/>
              <a:ext cx="4571280" cy="441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983" y="2"/>
                  </a:moveTo>
                  <a:arcTo wR="10800" hR="10800" stAng="-5341704" swAng="53922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983" y="2"/>
                  </a:moveTo>
                  <a:arcTo wR="10800" hR="10800" stAng="-5341704" swAng="539223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94200" y="2868480"/>
              <a:ext cx="4571280" cy="4418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017" y="2"/>
                  </a:moveTo>
                  <a:arcTo wR="10800" hR="10800" stAng="-5330768" swAng="5381295"/>
                  <a:lnTo>
                    <a:pt x="10800" y="10800"/>
                  </a:lnTo>
                  <a:close/>
                </a:path>
                <a:path fill="none" w="21600" h="21600">
                  <a:moveTo>
                    <a:pt x="11017" y="2"/>
                  </a:moveTo>
                  <a:arcTo wR="10800" hR="10800" stAng="-5330768" swAng="5381295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6249960" y="358128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49360" y="205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963960" y="1371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698240" y="49528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973600" y="3581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2240" y="281952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5684760" y="4732200"/>
            <a:ext cx="385920" cy="2239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638680" y="495288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87960" y="4716360"/>
            <a:ext cx="389160" cy="220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248520" y="49528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6081840" y="4305240"/>
            <a:ext cx="2880" cy="403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791320" y="419112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261760" y="541008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ère orthonor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72880" y="258840"/>
            <a:ext cx="3932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1-Mouv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63" name="Rotation" descr=""/>
          <p:cNvPicPr/>
          <p:nvPr/>
        </p:nvPicPr>
        <p:blipFill>
          <a:blip r:embed="rId1"/>
          <a:stretch/>
        </p:blipFill>
        <p:spPr>
          <a:xfrm>
            <a:off x="1981080" y="1143000"/>
            <a:ext cx="6070680" cy="55166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057400" y="11430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2854080" y="1229760"/>
            <a:ext cx="4695480" cy="4760280"/>
            <a:chOff x="2854080" y="1229760"/>
            <a:chExt cx="4695480" cy="4760280"/>
          </a:xfrm>
        </p:grpSpPr>
        <p:sp>
          <p:nvSpPr>
            <p:cNvPr id="166" name=""/>
            <p:cNvSpPr/>
            <p:nvPr/>
          </p:nvSpPr>
          <p:spPr>
            <a:xfrm flipH="1">
              <a:off x="3626640" y="2027520"/>
              <a:ext cx="3143160" cy="3158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211" y="553"/>
                  </a:moveTo>
                  <a:arcTo wR="10800" hR="10800" stAng="-4295419" swAng="4295419"/>
                  <a:lnTo>
                    <a:pt x="10800" y="10800"/>
                  </a:lnTo>
                  <a:close/>
                </a:path>
                <a:path fill="none" w="21600" h="21600">
                  <a:moveTo>
                    <a:pt x="14211" y="553"/>
                  </a:moveTo>
                  <a:arcTo wR="10800" hR="10800" stAng="-4295419" swAng="4295419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2853720" y="1229760"/>
              <a:ext cx="4695480" cy="476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335" y="5729"/>
                  </a:moveTo>
                  <a:arcTo wR="10800" hR="10800" stAng="-1680424" swAng="1680424"/>
                  <a:lnTo>
                    <a:pt x="10800" y="10800"/>
                  </a:lnTo>
                  <a:close/>
                </a:path>
                <a:path fill="none" w="21600" h="21600">
                  <a:moveTo>
                    <a:pt x="20335" y="5729"/>
                  </a:moveTo>
                  <a:arcTo wR="10800" hR="10800" stAng="-1680424" swAng="1680424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2853720" y="1277280"/>
            <a:ext cx="4787640" cy="4666320"/>
            <a:chOff x="2853720" y="1277280"/>
            <a:chExt cx="4787640" cy="4666320"/>
          </a:xfrm>
        </p:grpSpPr>
        <p:sp>
          <p:nvSpPr>
            <p:cNvPr id="169" name=""/>
            <p:cNvSpPr/>
            <p:nvPr/>
          </p:nvSpPr>
          <p:spPr>
            <a:xfrm flipH="1" rot="16200000">
              <a:off x="3680280" y="2003760"/>
              <a:ext cx="3098160" cy="3206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 rot="16200000">
              <a:off x="2913840" y="1216440"/>
              <a:ext cx="4666320" cy="4787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2866320" y="1238400"/>
            <a:ext cx="4705920" cy="4628160"/>
            <a:chOff x="2866320" y="1238400"/>
            <a:chExt cx="4705920" cy="4628160"/>
          </a:xfrm>
        </p:grpSpPr>
        <p:sp>
          <p:nvSpPr>
            <p:cNvPr id="172" name=""/>
            <p:cNvSpPr/>
            <p:nvPr/>
          </p:nvSpPr>
          <p:spPr>
            <a:xfrm flipH="1" rot="5400000">
              <a:off x="3621240" y="1964880"/>
              <a:ext cx="3098160" cy="32068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643216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643216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rot="5400000">
              <a:off x="2904840" y="1199160"/>
              <a:ext cx="4628160" cy="4705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915775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9157751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2869200" y="1184760"/>
            <a:ext cx="4695120" cy="4758840"/>
            <a:chOff x="2869200" y="1184760"/>
            <a:chExt cx="4695120" cy="4758840"/>
          </a:xfrm>
        </p:grpSpPr>
        <p:sp>
          <p:nvSpPr>
            <p:cNvPr id="175" name=""/>
            <p:cNvSpPr/>
            <p:nvPr/>
          </p:nvSpPr>
          <p:spPr>
            <a:xfrm flipH="1" rot="10800000">
              <a:off x="3639240" y="1997280"/>
              <a:ext cx="3142080" cy="3159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 rot="10800000">
              <a:off x="2869200" y="1184760"/>
              <a:ext cx="4695120" cy="4758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7" name=""/>
          <p:cNvSpPr/>
          <p:nvPr/>
        </p:nvSpPr>
        <p:spPr>
          <a:xfrm flipV="1">
            <a:off x="3133800" y="2103480"/>
            <a:ext cx="1523880" cy="3808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 flipV="1">
            <a:off x="5418000" y="3755520"/>
            <a:ext cx="6480" cy="15462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3736440" y="5294160"/>
            <a:ext cx="1698840" cy="960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35640" y="5294160"/>
            <a:ext cx="1798560" cy="1043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911760" y="62085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807240" y="628488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85160" y="53704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725720" y="2057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592720" y="2438280"/>
            <a:ext cx="349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5024160" y="5302080"/>
            <a:ext cx="385560" cy="2239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978440" y="552276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427720" y="5286240"/>
            <a:ext cx="388800" cy="220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87920" y="552276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21240" y="4875120"/>
            <a:ext cx="3240" cy="40320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30720" y="47610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01520" y="597996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ère orthonor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6400" y="36576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197320" y="3352680"/>
            <a:ext cx="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029200" y="3581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22960" y="297180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xe de ro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49200" y="122400"/>
            <a:ext cx="378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1-Mouvement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98" name="Helicoidal" descr=""/>
          <p:cNvPicPr/>
          <p:nvPr/>
        </p:nvPicPr>
        <p:blipFill>
          <a:blip r:embed="rId1"/>
          <a:stretch/>
        </p:blipFill>
        <p:spPr>
          <a:xfrm>
            <a:off x="1446120" y="1130400"/>
            <a:ext cx="6134040" cy="5273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751400" y="1371600"/>
            <a:ext cx="1453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élicoï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5105520" y="3504960"/>
            <a:ext cx="2880" cy="15541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3406320" y="5029200"/>
            <a:ext cx="1698840" cy="960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105520" y="5029200"/>
            <a:ext cx="1798560" cy="104292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5943600"/>
            <a:ext cx="381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X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477120" y="601992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Y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954680" y="51055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694040" y="5037120"/>
            <a:ext cx="385560" cy="22392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48320" y="525780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97600" y="5021280"/>
            <a:ext cx="388800" cy="22068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525780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105520" y="4559400"/>
            <a:ext cx="0" cy="480960"/>
          </a:xfrm>
          <a:prstGeom prst="line">
            <a:avLst/>
          </a:prstGeom>
          <a:ln w="284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800600" y="4495680"/>
            <a:ext cx="2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71040" y="5715000"/>
            <a:ext cx="188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père orthonorm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56280" y="3392640"/>
            <a:ext cx="380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Z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056040" y="2649600"/>
            <a:ext cx="4098600" cy="259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9" y="0"/>
                </a:moveTo>
                <a:arcTo wR="10800" hR="10800" stAng="-5413114" swAng="5413114"/>
                <a:lnTo>
                  <a:pt x="10800" y="10800"/>
                </a:lnTo>
                <a:close/>
              </a:path>
              <a:path fill="none" w="21600" h="21600">
                <a:moveTo>
                  <a:pt x="10759" y="0"/>
                </a:moveTo>
                <a:arcTo wR="10800" hR="10800" stAng="-5413114" swAng="541311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548160" y="4490280"/>
            <a:ext cx="3106440" cy="774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394442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394442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2909160" y="2577960"/>
            <a:ext cx="4390920" cy="22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47" y="1"/>
                </a:moveTo>
                <a:arcTo wR="10800" hR="10800" stAng="-5353089" swAng="5373243"/>
                <a:lnTo>
                  <a:pt x="10800" y="10800"/>
                </a:lnTo>
                <a:close/>
              </a:path>
              <a:path fill="none" w="21600" h="21600">
                <a:moveTo>
                  <a:pt x="10947" y="1"/>
                </a:moveTo>
                <a:arcTo wR="10800" hR="10800" stAng="-5353089" swAng="537324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036960" y="2598840"/>
            <a:ext cx="4107960" cy="2660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6" y="3"/>
                </a:moveTo>
                <a:arcTo wR="10800" hR="10800" stAng="-5321560" swAng="5308880"/>
                <a:lnTo>
                  <a:pt x="10800" y="10800"/>
                </a:lnTo>
                <a:close/>
              </a:path>
              <a:path fill="none" w="21600" h="21600">
                <a:moveTo>
                  <a:pt x="11046" y="3"/>
                </a:moveTo>
                <a:arcTo wR="10800" hR="10800" stAng="-5321560" swAng="53088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 flipH="1">
            <a:off x="2920320" y="2130480"/>
            <a:ext cx="4390920" cy="2241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947" y="1"/>
                </a:moveTo>
                <a:arcTo wR="10800" hR="10800" stAng="-5353089" swAng="5373243"/>
                <a:lnTo>
                  <a:pt x="10800" y="10800"/>
                </a:lnTo>
                <a:close/>
              </a:path>
              <a:path fill="none" w="21600" h="21600">
                <a:moveTo>
                  <a:pt x="10947" y="1"/>
                </a:moveTo>
                <a:arcTo wR="10800" hR="10800" stAng="-5353089" swAng="537324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048120" y="2151000"/>
            <a:ext cx="4107960" cy="2661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046" y="3"/>
                </a:moveTo>
                <a:arcTo wR="10800" hR="10800" stAng="-5321560" swAng="5308880"/>
                <a:lnTo>
                  <a:pt x="10800" y="10800"/>
                </a:lnTo>
                <a:close/>
              </a:path>
              <a:path fill="none" w="21600" h="21600">
                <a:moveTo>
                  <a:pt x="11046" y="3"/>
                </a:moveTo>
                <a:arcTo wR="10800" hR="10800" stAng="-5321560" swAng="530888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 flipV="1">
            <a:off x="2922840" y="2696040"/>
            <a:ext cx="4355280" cy="21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6386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638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3063960" y="2205720"/>
            <a:ext cx="4098600" cy="259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9" y="0"/>
                </a:moveTo>
                <a:arcTo wR="10800" hR="10800" stAng="-5413114" swAng="5413114"/>
                <a:lnTo>
                  <a:pt x="10800" y="10800"/>
                </a:lnTo>
                <a:close/>
              </a:path>
              <a:path fill="none" w="21600" h="21600">
                <a:moveTo>
                  <a:pt x="10759" y="0"/>
                </a:moveTo>
                <a:arcTo wR="10800" hR="10800" stAng="-5413114" swAng="541311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 flipV="1">
            <a:off x="2930760" y="2265840"/>
            <a:ext cx="4355280" cy="21168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6386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6386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3062160" y="1802520"/>
            <a:ext cx="4098600" cy="259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59" y="0"/>
                </a:moveTo>
                <a:arcTo wR="10800" hR="10800" stAng="-5413114" swAng="5413114"/>
                <a:lnTo>
                  <a:pt x="10800" y="10800"/>
                </a:lnTo>
                <a:close/>
              </a:path>
              <a:path fill="none" w="21600" h="21600">
                <a:moveTo>
                  <a:pt x="10759" y="0"/>
                </a:moveTo>
                <a:arcTo wR="10800" hR="10800" stAng="-5413114" swAng="541311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049560" y="1817640"/>
            <a:ext cx="4107960" cy="2660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693" y="1172"/>
                </a:moveTo>
                <a:arcTo wR="10800" hR="10800" stAng="-3783464" swAng="3770784"/>
                <a:lnTo>
                  <a:pt x="10800" y="10800"/>
                </a:lnTo>
                <a:close/>
              </a:path>
              <a:path fill="none" w="21600" h="21600">
                <a:moveTo>
                  <a:pt x="15693" y="1172"/>
                </a:moveTo>
                <a:arcTo wR="10800" hR="10800" stAng="-3783464" swAng="3770784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76360" y="45594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172200" y="1587600"/>
            <a:ext cx="365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4844520" y="1914480"/>
            <a:ext cx="1195560" cy="884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H="1">
            <a:off x="2417400" y="4983120"/>
            <a:ext cx="1195560" cy="884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5151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aisons méca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5379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Mou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2-Trajec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Degrés de liber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Différentes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244440"/>
            <a:ext cx="362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2-Trajectoir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905120" y="1599840"/>
            <a:ext cx="1752480" cy="1066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752480"/>
            <a:ext cx="2346120" cy="185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" y="11283"/>
                </a:moveTo>
                <a:arcTo wR="10800" hR="10800" stAng="10646193" swAng="5514253"/>
                <a:lnTo>
                  <a:pt x="10800" y="10800"/>
                </a:lnTo>
                <a:close/>
              </a:path>
              <a:path fill="none" w="21600" h="21600">
                <a:moveTo>
                  <a:pt x="11" y="11283"/>
                </a:moveTo>
                <a:arcTo wR="10800" hR="10800" stAng="10646193" swAng="5514253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828800" y="3581280"/>
            <a:ext cx="2133720" cy="838440"/>
          </a:xfrm>
          <a:custGeom>
            <a:avLst/>
            <a:gdLst/>
            <a:ahLst/>
            <a:rect l="l" t="t" r="r" b="b"/>
            <a:pathLst>
              <a:path w="2448" h="1160">
                <a:moveTo>
                  <a:pt x="0" y="1112"/>
                </a:moveTo>
                <a:cubicBezTo>
                  <a:pt x="420" y="556"/>
                  <a:pt x="840" y="0"/>
                  <a:pt x="1248" y="8"/>
                </a:cubicBezTo>
                <a:cubicBezTo>
                  <a:pt x="1656" y="16"/>
                  <a:pt x="2256" y="976"/>
                  <a:pt x="2448" y="116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648320" y="3733920"/>
            <a:ext cx="3657240" cy="1371240"/>
            <a:chOff x="4648320" y="3733920"/>
            <a:chExt cx="3657240" cy="1371240"/>
          </a:xfrm>
        </p:grpSpPr>
        <p:sp>
          <p:nvSpPr>
            <p:cNvPr id="236" name=""/>
            <p:cNvSpPr/>
            <p:nvPr/>
          </p:nvSpPr>
          <p:spPr>
            <a:xfrm flipH="1">
              <a:off x="4648320" y="3733920"/>
              <a:ext cx="12182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648680" y="3733920"/>
              <a:ext cx="12182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5867280" y="3733920"/>
              <a:ext cx="12189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5868000" y="3733920"/>
              <a:ext cx="12182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086600" y="3733920"/>
              <a:ext cx="121824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086600" y="3733920"/>
              <a:ext cx="1218960" cy="137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 flipV="1">
            <a:off x="5558040" y="5713920"/>
            <a:ext cx="1990080" cy="76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64250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64250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5715360" y="5638680"/>
            <a:ext cx="1828080" cy="914040"/>
            <a:chOff x="5715360" y="5638680"/>
            <a:chExt cx="1828080" cy="914040"/>
          </a:xfrm>
        </p:grpSpPr>
        <p:sp>
          <p:nvSpPr>
            <p:cNvPr id="244" name=""/>
            <p:cNvSpPr/>
            <p:nvPr/>
          </p:nvSpPr>
          <p:spPr>
            <a:xfrm>
              <a:off x="5715360" y="5638680"/>
              <a:ext cx="182808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5791320" y="5638680"/>
              <a:ext cx="1675440" cy="651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564520" y="5257440"/>
            <a:ext cx="1969200" cy="914040"/>
            <a:chOff x="5564520" y="5257440"/>
            <a:chExt cx="1969200" cy="914040"/>
          </a:xfrm>
        </p:grpSpPr>
        <p:sp>
          <p:nvSpPr>
            <p:cNvPr id="247" name=""/>
            <p:cNvSpPr/>
            <p:nvPr/>
          </p:nvSpPr>
          <p:spPr>
            <a:xfrm flipH="1" flipV="1">
              <a:off x="5791320" y="5866200"/>
              <a:ext cx="1514880" cy="304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V="1">
              <a:off x="5564520" y="5257080"/>
              <a:ext cx="1969200" cy="914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5715360" y="5181480"/>
            <a:ext cx="1828080" cy="1066680"/>
            <a:chOff x="5715360" y="5181480"/>
            <a:chExt cx="1828080" cy="1066680"/>
          </a:xfrm>
        </p:grpSpPr>
        <p:sp>
          <p:nvSpPr>
            <p:cNvPr id="250" name=""/>
            <p:cNvSpPr/>
            <p:nvPr/>
          </p:nvSpPr>
          <p:spPr>
            <a:xfrm>
              <a:off x="5715360" y="5181480"/>
              <a:ext cx="1828080" cy="1066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791320" y="5181480"/>
              <a:ext cx="167544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 flipH="1" flipV="1">
            <a:off x="5791320" y="5333400"/>
            <a:ext cx="1522800" cy="456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447920" y="5181480"/>
            <a:ext cx="3429000" cy="1422360"/>
          </a:xfrm>
          <a:custGeom>
            <a:avLst/>
            <a:gdLst/>
            <a:ahLst/>
            <a:rect l="l" t="t" r="r" b="b"/>
            <a:pathLst>
              <a:path w="2160" h="896">
                <a:moveTo>
                  <a:pt x="0" y="448"/>
                </a:moveTo>
                <a:cubicBezTo>
                  <a:pt x="76" y="224"/>
                  <a:pt x="152" y="0"/>
                  <a:pt x="288" y="64"/>
                </a:cubicBezTo>
                <a:cubicBezTo>
                  <a:pt x="424" y="128"/>
                  <a:pt x="640" y="832"/>
                  <a:pt x="816" y="832"/>
                </a:cubicBezTo>
                <a:cubicBezTo>
                  <a:pt x="992" y="832"/>
                  <a:pt x="1168" y="64"/>
                  <a:pt x="1344" y="64"/>
                </a:cubicBezTo>
                <a:cubicBezTo>
                  <a:pt x="1520" y="64"/>
                  <a:pt x="1736" y="768"/>
                  <a:pt x="1872" y="832"/>
                </a:cubicBezTo>
                <a:cubicBezTo>
                  <a:pt x="2008" y="896"/>
                  <a:pt x="2112" y="512"/>
                  <a:pt x="2160" y="44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981800" y="114300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o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85680" y="1143000"/>
            <a:ext cx="180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c de cerc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3124080"/>
            <a:ext cx="124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bo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715000" y="312408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ycloï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4648320"/>
            <a:ext cx="97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él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86720" y="472428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usoï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422440" y="30240"/>
            <a:ext cx="5151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aisons méca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5379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Mou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Trajec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3-Degrés de liber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-Différentes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742840" y="228600"/>
            <a:ext cx="4800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3-Degrés de liberté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5410080" y="5029200"/>
            <a:ext cx="2438640" cy="152388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1143000" y="2971800"/>
            <a:ext cx="2438280" cy="152388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1905120" y="1066680"/>
            <a:ext cx="2438280" cy="152424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6324480" y="2971800"/>
            <a:ext cx="2514600" cy="157176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5"/>
          <a:stretch/>
        </p:blipFill>
        <p:spPr>
          <a:xfrm>
            <a:off x="2133720" y="5029200"/>
            <a:ext cx="2514600" cy="15717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6"/>
          <a:stretch/>
        </p:blipFill>
        <p:spPr>
          <a:xfrm>
            <a:off x="5334120" y="1066680"/>
            <a:ext cx="2514600" cy="157176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4724280" y="4191120"/>
            <a:ext cx="160020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4419720" y="2695680"/>
            <a:ext cx="533160" cy="504720"/>
            <a:chOff x="4419720" y="2695680"/>
            <a:chExt cx="533160" cy="504720"/>
          </a:xfrm>
        </p:grpSpPr>
        <p:sp>
          <p:nvSpPr>
            <p:cNvPr id="271" name=""/>
            <p:cNvSpPr/>
            <p:nvPr/>
          </p:nvSpPr>
          <p:spPr>
            <a:xfrm>
              <a:off x="4495680" y="2743200"/>
              <a:ext cx="457200" cy="457200"/>
            </a:xfrm>
            <a:custGeom>
              <a:avLst/>
              <a:gdLst>
                <a:gd name="textAreaLeft" fmla="*/ 61200 w 457200"/>
                <a:gd name="textAreaRight" fmla="*/ 396000 w 457200"/>
                <a:gd name="textAreaTop" fmla="*/ 79920 h 457200"/>
                <a:gd name="textAreaBottom" fmla="*/ 33156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19720" y="2695680"/>
              <a:ext cx="152280" cy="209520"/>
            </a:xfrm>
            <a:prstGeom prst="leftArrow">
              <a:avLst>
                <a:gd name="adj1" fmla="val 18185"/>
                <a:gd name="adj2" fmla="val 100000"/>
              </a:avLst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25920" y="2759040"/>
              <a:ext cx="74520" cy="74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4" name=""/>
          <p:cNvSpPr/>
          <p:nvPr/>
        </p:nvSpPr>
        <p:spPr>
          <a:xfrm>
            <a:off x="4802040" y="34290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T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031000" y="2666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R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802400" y="19810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3633480" y="1143000"/>
            <a:ext cx="519120" cy="459720"/>
            <a:chOff x="3633480" y="1143000"/>
            <a:chExt cx="519120" cy="459720"/>
          </a:xfrm>
        </p:grpSpPr>
        <p:sp>
          <p:nvSpPr>
            <p:cNvPr id="278" name=""/>
            <p:cNvSpPr/>
            <p:nvPr/>
          </p:nvSpPr>
          <p:spPr>
            <a:xfrm>
              <a:off x="3657600" y="114300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633480" y="1143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T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0" name=""/>
          <p:cNvGrpSpPr/>
          <p:nvPr/>
        </p:nvGrpSpPr>
        <p:grpSpPr>
          <a:xfrm>
            <a:off x="3581280" y="4449600"/>
            <a:ext cx="573120" cy="528120"/>
            <a:chOff x="3581280" y="4449600"/>
            <a:chExt cx="573120" cy="528120"/>
          </a:xfrm>
        </p:grpSpPr>
        <p:sp>
          <p:nvSpPr>
            <p:cNvPr id="281" name=""/>
            <p:cNvSpPr/>
            <p:nvPr/>
          </p:nvSpPr>
          <p:spPr>
            <a:xfrm>
              <a:off x="3620880" y="4449600"/>
              <a:ext cx="533520" cy="380880"/>
            </a:xfrm>
            <a:custGeom>
              <a:avLst/>
              <a:gdLst>
                <a:gd name="textAreaLeft" fmla="*/ 93240 w 533520"/>
                <a:gd name="textAreaRight" fmla="*/ 387000 w 533520"/>
                <a:gd name="textAreaTop" fmla="*/ 50760 h 380880"/>
                <a:gd name="textAreaBottom" fmla="*/ 33012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560" hR="21600" stAng="10800000" swAng="5400000"/>
                  <a:lnTo>
                    <a:pt x="11880" y="0"/>
                  </a:lnTo>
                  <a:arcTo wR="7560" hR="21600" stAng="-5400000" swAng="2682637"/>
                  <a:lnTo>
                    <a:pt x="21168" y="14400"/>
                  </a:lnTo>
                  <a:lnTo>
                    <a:pt x="17280" y="21600"/>
                  </a:lnTo>
                  <a:lnTo>
                    <a:pt x="12528" y="14400"/>
                  </a:lnTo>
                  <a:lnTo>
                    <a:pt x="14688" y="14400"/>
                  </a:lnTo>
                  <a:arcTo wR="7560" hR="21600" stAng="-2717363" swAng="-2325203"/>
                  <a:lnTo>
                    <a:pt x="9720" y="900"/>
                  </a:lnTo>
                  <a:arcTo wR="7560" hR="21600" stAng="-5757435" swAng="-5042565"/>
                  <a:close/>
                </a:path>
                <a:path fill="darkenLess" w="21600" h="21600">
                  <a:moveTo>
                    <a:pt x="0" y="21600"/>
                  </a:moveTo>
                  <a:arcTo wR="7560" hR="21600" stAng="10800000" swAng="5400000"/>
                  <a:lnTo>
                    <a:pt x="7560" y="0"/>
                  </a:lnTo>
                  <a:arcTo wR="7560" hR="21600" stAng="-5400000" swAng="357435"/>
                  <a:lnTo>
                    <a:pt x="9720" y="900"/>
                  </a:lnTo>
                  <a:arcTo wR="7560" hR="21600" stAng="-5757435" swAng="-5042565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16200000">
              <a:off x="3609720" y="4796640"/>
              <a:ext cx="152280" cy="209520"/>
            </a:xfrm>
            <a:prstGeom prst="leftArrow">
              <a:avLst>
                <a:gd name="adj1" fmla="val 18185"/>
                <a:gd name="adj2" fmla="val 100000"/>
              </a:avLst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30600" y="4786200"/>
              <a:ext cx="98280" cy="74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5546880" y="4322880"/>
            <a:ext cx="457200" cy="583920"/>
            <a:chOff x="5546880" y="4322880"/>
            <a:chExt cx="457200" cy="583920"/>
          </a:xfrm>
        </p:grpSpPr>
        <p:sp>
          <p:nvSpPr>
            <p:cNvPr id="285" name=""/>
            <p:cNvSpPr/>
            <p:nvPr/>
          </p:nvSpPr>
          <p:spPr>
            <a:xfrm rot="5400000">
              <a:off x="5432400" y="4487760"/>
              <a:ext cx="533160" cy="304560"/>
            </a:xfrm>
            <a:custGeom>
              <a:avLst/>
              <a:gdLst>
                <a:gd name="textAreaLeft" fmla="*/ 95400 w 533160"/>
                <a:gd name="textAreaRight" fmla="*/ 384480 w 533160"/>
                <a:gd name="textAreaTop" fmla="*/ 40680 h 304560"/>
                <a:gd name="textAreaBottom" fmla="*/ 263880 h 304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746" hR="21600" stAng="10800000" swAng="-5400000"/>
                  <a:lnTo>
                    <a:pt x="11695" y="21600"/>
                  </a:lnTo>
                  <a:arcTo wR="7746" hR="21600" stAng="5400000" swAng="-2724303"/>
                  <a:lnTo>
                    <a:pt x="21157" y="7200"/>
                  </a:lnTo>
                  <a:lnTo>
                    <a:pt x="17466" y="0"/>
                  </a:lnTo>
                  <a:lnTo>
                    <a:pt x="12888" y="7200"/>
                  </a:lnTo>
                  <a:lnTo>
                    <a:pt x="15048" y="7200"/>
                  </a:lnTo>
                  <a:arcTo wR="7746" hR="21600" stAng="2675697" swAng="2400278"/>
                  <a:lnTo>
                    <a:pt x="9720" y="20886"/>
                  </a:lnTo>
                  <a:arcTo wR="7746" hR="21600" stAng="5724026" swAng="5075974"/>
                  <a:close/>
                </a:path>
                <a:path fill="darkenLess" w="21600" h="21600">
                  <a:moveTo>
                    <a:pt x="0" y="0"/>
                  </a:moveTo>
                  <a:arcTo wR="7746" hR="21600" stAng="10800000" swAng="-5400000"/>
                  <a:lnTo>
                    <a:pt x="11695" y="21600"/>
                  </a:lnTo>
                  <a:arcTo wR="7746" hR="21600" stAng="5400000" swAng="324026"/>
                  <a:lnTo>
                    <a:pt x="9720" y="20886"/>
                  </a:lnTo>
                  <a:arcTo wR="7746" hR="21600" stAng="5724026" swAng="5075974"/>
                  <a:close/>
                </a:path>
              </a:pathLst>
            </a:cu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rot="10800000">
              <a:off x="5851440" y="4322880"/>
              <a:ext cx="152640" cy="209520"/>
            </a:xfrm>
            <a:prstGeom prst="leftArrow">
              <a:avLst>
                <a:gd name="adj1" fmla="val 18185"/>
                <a:gd name="adj2" fmla="val 100000"/>
              </a:avLst>
            </a:prstGeom>
            <a:solidFill>
              <a:srgbClr val="00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07160" y="4389480"/>
              <a:ext cx="74520" cy="74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8" name=""/>
          <p:cNvSpPr/>
          <p:nvPr/>
        </p:nvSpPr>
        <p:spPr>
          <a:xfrm rot="6720000">
            <a:off x="5073480" y="4024080"/>
            <a:ext cx="190440" cy="685800"/>
          </a:xfrm>
          <a:prstGeom prst="upDownArrow">
            <a:avLst>
              <a:gd name="adj1" fmla="val 50000"/>
              <a:gd name="adj2" fmla="val 7168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107320" y="388620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T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40640" y="3809880"/>
            <a:ext cx="53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17160" y="388620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R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7480" y="3962520"/>
            <a:ext cx="55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Times New Roman"/>
              </a:rPr>
              <a:t>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"/>
          <p:cNvGrpSpPr/>
          <p:nvPr/>
        </p:nvGrpSpPr>
        <p:grpSpPr>
          <a:xfrm>
            <a:off x="2897640" y="3048120"/>
            <a:ext cx="535680" cy="459720"/>
            <a:chOff x="2897640" y="3048120"/>
            <a:chExt cx="535680" cy="459720"/>
          </a:xfrm>
        </p:grpSpPr>
        <p:sp>
          <p:nvSpPr>
            <p:cNvPr id="294" name=""/>
            <p:cNvSpPr/>
            <p:nvPr/>
          </p:nvSpPr>
          <p:spPr>
            <a:xfrm>
              <a:off x="2921040" y="30481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897640" y="30481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964680" y="5181480"/>
            <a:ext cx="552600" cy="459720"/>
            <a:chOff x="3964680" y="5181480"/>
            <a:chExt cx="552600" cy="459720"/>
          </a:xfrm>
        </p:grpSpPr>
        <p:sp>
          <p:nvSpPr>
            <p:cNvPr id="297" name=""/>
            <p:cNvSpPr/>
            <p:nvPr/>
          </p:nvSpPr>
          <p:spPr>
            <a:xfrm>
              <a:off x="3987720" y="518148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964680" y="518148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9" name=""/>
          <p:cNvGrpSpPr/>
          <p:nvPr/>
        </p:nvGrpSpPr>
        <p:grpSpPr>
          <a:xfrm>
            <a:off x="7164720" y="1143000"/>
            <a:ext cx="535680" cy="459720"/>
            <a:chOff x="7164720" y="1143000"/>
            <a:chExt cx="535680" cy="459720"/>
          </a:xfrm>
        </p:grpSpPr>
        <p:sp>
          <p:nvSpPr>
            <p:cNvPr id="300" name=""/>
            <p:cNvSpPr/>
            <p:nvPr/>
          </p:nvSpPr>
          <p:spPr>
            <a:xfrm>
              <a:off x="7188120" y="114300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164720" y="114300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Rz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8155440" y="3048120"/>
            <a:ext cx="552600" cy="459720"/>
            <a:chOff x="8155440" y="3048120"/>
            <a:chExt cx="552600" cy="459720"/>
          </a:xfrm>
        </p:grpSpPr>
        <p:sp>
          <p:nvSpPr>
            <p:cNvPr id="303" name=""/>
            <p:cNvSpPr/>
            <p:nvPr/>
          </p:nvSpPr>
          <p:spPr>
            <a:xfrm>
              <a:off x="8178840" y="30481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8155440" y="3048120"/>
              <a:ext cx="552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R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164720" y="5105520"/>
            <a:ext cx="535680" cy="459720"/>
            <a:chOff x="7164720" y="5105520"/>
            <a:chExt cx="535680" cy="459720"/>
          </a:xfrm>
        </p:grpSpPr>
        <p:sp>
          <p:nvSpPr>
            <p:cNvPr id="306" name=""/>
            <p:cNvSpPr/>
            <p:nvPr/>
          </p:nvSpPr>
          <p:spPr>
            <a:xfrm>
              <a:off x="7188120" y="5105520"/>
              <a:ext cx="457200" cy="457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64720" y="5105520"/>
              <a:ext cx="535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0000"/>
                  </a:solidFill>
                  <a:latin typeface="Times New Roman"/>
                </a:rPr>
                <a:t>T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"/>
          <p:cNvSpPr/>
          <p:nvPr/>
        </p:nvSpPr>
        <p:spPr>
          <a:xfrm>
            <a:off x="5945760" y="2895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402960" y="45720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317400" y="3392280"/>
            <a:ext cx="2966040" cy="1503720"/>
            <a:chOff x="3317400" y="3392280"/>
            <a:chExt cx="2966040" cy="1503720"/>
          </a:xfrm>
        </p:grpSpPr>
        <p:sp>
          <p:nvSpPr>
            <p:cNvPr id="311" name=""/>
            <p:cNvSpPr/>
            <p:nvPr/>
          </p:nvSpPr>
          <p:spPr>
            <a:xfrm flipH="1">
              <a:off x="3317400" y="4743360"/>
              <a:ext cx="30492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V="1">
              <a:off x="3733920" y="3392280"/>
              <a:ext cx="2549520" cy="1299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 rot="3840000">
            <a:off x="4285440" y="4019400"/>
            <a:ext cx="190800" cy="685800"/>
          </a:xfrm>
          <a:prstGeom prst="upDownArrow">
            <a:avLst>
              <a:gd name="adj1" fmla="val 50000"/>
              <a:gd name="adj2" fmla="val 71554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4724280" y="2286000"/>
            <a:ext cx="0" cy="1905120"/>
            <a:chOff x="4724280" y="2286000"/>
            <a:chExt cx="0" cy="1905120"/>
          </a:xfrm>
        </p:grpSpPr>
        <p:sp>
          <p:nvSpPr>
            <p:cNvPr id="315" name=""/>
            <p:cNvSpPr/>
            <p:nvPr/>
          </p:nvSpPr>
          <p:spPr>
            <a:xfrm>
              <a:off x="4724280" y="228600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724280" y="3124080"/>
              <a:ext cx="0" cy="1067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7" name=""/>
          <p:cNvSpPr/>
          <p:nvPr/>
        </p:nvSpPr>
        <p:spPr>
          <a:xfrm>
            <a:off x="4629240" y="3390840"/>
            <a:ext cx="190440" cy="685800"/>
          </a:xfrm>
          <a:prstGeom prst="upDownArrow">
            <a:avLst>
              <a:gd name="adj1" fmla="val 50000"/>
              <a:gd name="adj2" fmla="val 71689"/>
            </a:avLst>
          </a:prstGeom>
          <a:solidFill>
            <a:srgbClr val="00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2590560" y="228240"/>
            <a:ext cx="5151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Liaisons mécaniques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537984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-Mou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Trajecto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-Degrés de libert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4-Différentes liais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8T19:25:26Z</dcterms:created>
  <dc:creator>Antonin ARTAUD</dc:creator>
  <dc:description/>
  <dc:language>en-US</dc:language>
  <cp:lastModifiedBy>Michel</cp:lastModifiedBy>
  <dcterms:modified xsi:type="dcterms:W3CDTF">2007-12-17T18:39:42Z</dcterms:modified>
  <cp:revision>44</cp:revision>
  <dc:subject/>
  <dc:title>Translation</dc:title>
</cp:coreProperties>
</file>