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355-9E3F-4FD7-8E4E-4FD6A30D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2F3-8FDF-40CD-88F1-04D74AE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FC3-43D9-49C5-9267-6CD347A6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6E0-5583-40E0-96CE-8F97A525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079C-7BDD-41B5-9C10-6A5B55D1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403C-C11C-48B6-B9C7-674E522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EB67-940B-4192-B01C-3DC1A7A2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EF8-67AD-48BA-BC5C-20C26EA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0A46-5968-4EF2-9650-0DDD50D5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C8C-5329-4843-8C8E-C4E7EF7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4A4C-D8E3-4C06-AF23-8BC7A3C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9C5-C139-4A94-AF5A-5737635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2FF0-84F2-4B7F-B8C4-C318E53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2044-AE57-433E-9D8B-1D7C5CA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4B1A-0CDF-49E1-91C9-A339A91A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96C-B403-4A89-813C-45F95939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F49F-4F76-429D-9CCA-DB660813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62D-7B6C-4CA1-8593-7BFA9C99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F47-03C4-4179-9DCB-6C1A6CD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EB6-531A-4461-AB2B-469CBAE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8F1-43DF-4CDF-BEBB-0126171A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3D8-F418-4060-8266-4991326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D94-1475-40C5-ABD5-49E0D57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112-025B-4D3F-86AF-EF62077C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7139-0279-4521-AC70-6928C6CD5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7159-1C4C-42F3-8BD8-45251F2A4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et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Filet%20Rond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658960" cy="1150920"/>
          </a:xfrm>
          <a:prstGeom prst="rect">
            <a:avLst/>
          </a:prstGeom>
          <a:ln w="0">
            <a:noFill/>
          </a:ln>
        </p:spPr>
      </p:pic>
      <p:pic>
        <p:nvPicPr>
          <p:cNvPr id="129" name="Filet%20Trapezoidal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265896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Filet%20Triangulaire" descr=""/>
          <p:cNvPicPr/>
          <p:nvPr/>
        </p:nvPicPr>
        <p:blipFill>
          <a:blip r:embed="rId3"/>
          <a:stretch/>
        </p:blipFill>
        <p:spPr>
          <a:xfrm>
            <a:off x="1066680" y="2971800"/>
            <a:ext cx="26593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321160" y="3104640"/>
            <a:ext cx="2124360" cy="867240"/>
            <a:chOff x="5321160" y="3104640"/>
            <a:chExt cx="2124360" cy="867240"/>
          </a:xfrm>
        </p:grpSpPr>
        <p:sp>
          <p:nvSpPr>
            <p:cNvPr id="132" name=""/>
            <p:cNvSpPr/>
            <p:nvPr/>
          </p:nvSpPr>
          <p:spPr>
            <a:xfrm>
              <a:off x="5321160" y="3232080"/>
              <a:ext cx="0" cy="6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321160" y="3104640"/>
              <a:ext cx="88920" cy="12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21160" y="3867120"/>
              <a:ext cx="8892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7480" y="3124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3962520"/>
              <a:ext cx="196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31040" y="3133800"/>
              <a:ext cx="114480" cy="838080"/>
            </a:xfrm>
            <a:custGeom>
              <a:avLst/>
              <a:gdLst/>
              <a:ahLst/>
              <a:rect l="l" t="t" r="r" b="b"/>
              <a:pathLst>
                <a:path w="72" h="528">
                  <a:moveTo>
                    <a:pt x="36" y="0"/>
                  </a:moveTo>
                  <a:cubicBezTo>
                    <a:pt x="65" y="86"/>
                    <a:pt x="19" y="141"/>
                    <a:pt x="0" y="216"/>
                  </a:cubicBezTo>
                  <a:cubicBezTo>
                    <a:pt x="12" y="276"/>
                    <a:pt x="53" y="320"/>
                    <a:pt x="72" y="378"/>
                  </a:cubicBezTo>
                  <a:cubicBezTo>
                    <a:pt x="70" y="401"/>
                    <a:pt x="67" y="452"/>
                    <a:pt x="60" y="480"/>
                  </a:cubicBezTo>
                  <a:cubicBezTo>
                    <a:pt x="57" y="492"/>
                    <a:pt x="60" y="512"/>
                    <a:pt x="48" y="516"/>
                  </a:cubicBezTo>
                  <a:cubicBezTo>
                    <a:pt x="27" y="523"/>
                    <a:pt x="34" y="518"/>
                    <a:pt x="24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832880" y="3124080"/>
            <a:ext cx="83808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31240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24080" y="3867120"/>
            <a:ext cx="0" cy="5907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3440" y="4343400"/>
            <a:ext cx="167652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9960" y="3886200"/>
            <a:ext cx="0" cy="552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21160" y="4305240"/>
            <a:ext cx="167652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1160" y="3809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97680" y="392436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6720" y="3200400"/>
            <a:ext cx="164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1160" y="3886200"/>
            <a:ext cx="1651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97680" y="3124080"/>
            <a:ext cx="763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97680" y="3886200"/>
            <a:ext cx="763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4880" y="205740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fr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’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1920" y="33130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61560" y="3886200"/>
            <a:ext cx="98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6840" y="4800600"/>
            <a:ext cx="137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ueur file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32280" y="1447920"/>
            <a:ext cx="116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t 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is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 file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020920" y="3124080"/>
            <a:ext cx="3826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992840" y="3976560"/>
            <a:ext cx="411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60880" y="3130560"/>
            <a:ext cx="0" cy="84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4579200" y="357516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M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4680" y="4000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57600" y="2362320"/>
            <a:ext cx="1676520" cy="838080"/>
            <a:chOff x="3657600" y="2362320"/>
            <a:chExt cx="1676520" cy="838080"/>
          </a:xfrm>
        </p:grpSpPr>
        <p:sp>
          <p:nvSpPr>
            <p:cNvPr id="161" name=""/>
            <p:cNvSpPr/>
            <p:nvPr/>
          </p:nvSpPr>
          <p:spPr>
            <a:xfrm>
              <a:off x="3657600" y="2362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3623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733920" y="3892320"/>
            <a:ext cx="1022040" cy="298800"/>
            <a:chOff x="3733920" y="3892320"/>
            <a:chExt cx="1022040" cy="298800"/>
          </a:xfrm>
        </p:grpSpPr>
        <p:sp>
          <p:nvSpPr>
            <p:cNvPr id="164" name=""/>
            <p:cNvSpPr/>
            <p:nvPr/>
          </p:nvSpPr>
          <p:spPr>
            <a:xfrm>
              <a:off x="3733920" y="4191120"/>
              <a:ext cx="80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537080" y="3892320"/>
              <a:ext cx="21888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908840" y="3200400"/>
            <a:ext cx="685800" cy="685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700000">
            <a:off x="8260560" y="3283560"/>
            <a:ext cx="40788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40600" y="2286000"/>
            <a:ext cx="1885320" cy="954000"/>
            <a:chOff x="6240600" y="2286000"/>
            <a:chExt cx="1885320" cy="954000"/>
          </a:xfrm>
        </p:grpSpPr>
        <p:sp>
          <p:nvSpPr>
            <p:cNvPr id="169" name=""/>
            <p:cNvSpPr/>
            <p:nvPr/>
          </p:nvSpPr>
          <p:spPr>
            <a:xfrm>
              <a:off x="6724440" y="228600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240600" y="2286000"/>
              <a:ext cx="483840" cy="90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4440" y="2286000"/>
              <a:ext cx="50148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75360" y="3549600"/>
            <a:ext cx="2438280" cy="0"/>
            <a:chOff x="5175360" y="3549600"/>
            <a:chExt cx="2438280" cy="0"/>
          </a:xfrm>
        </p:grpSpPr>
        <p:sp>
          <p:nvSpPr>
            <p:cNvPr id="173" name=""/>
            <p:cNvSpPr/>
            <p:nvPr/>
          </p:nvSpPr>
          <p:spPr>
            <a:xfrm>
              <a:off x="5175360" y="3549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56240" y="35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08520" y="3549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89760" y="3549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2040" y="3549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22920" y="35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5560" y="3549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56440" y="35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8720" y="3549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680240" y="3549600"/>
            <a:ext cx="1143000" cy="0"/>
            <a:chOff x="7680240" y="3549600"/>
            <a:chExt cx="1143000" cy="0"/>
          </a:xfrm>
        </p:grpSpPr>
        <p:sp>
          <p:nvSpPr>
            <p:cNvPr id="183" name=""/>
            <p:cNvSpPr/>
            <p:nvPr/>
          </p:nvSpPr>
          <p:spPr>
            <a:xfrm>
              <a:off x="7680240" y="35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32880" y="3549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13760" y="35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66040" y="3549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47280" y="3549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251920" y="2978280"/>
            <a:ext cx="0" cy="1143000"/>
            <a:chOff x="8251920" y="2978280"/>
            <a:chExt cx="0" cy="1143000"/>
          </a:xfrm>
        </p:grpSpPr>
        <p:sp>
          <p:nvSpPr>
            <p:cNvPr id="189" name=""/>
            <p:cNvSpPr/>
            <p:nvPr/>
          </p:nvSpPr>
          <p:spPr>
            <a:xfrm>
              <a:off x="8251920" y="297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51920" y="3130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51920" y="351180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51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51920" y="404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9630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9400" y="8380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t r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2120" y="243828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t triangulaire 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9280" y="46483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t trapézoï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0720" y="2552760"/>
            <a:ext cx="38088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75000" y="2685960"/>
            <a:ext cx="771840" cy="85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82" y="449"/>
                </a:moveTo>
                <a:arcTo wR="10800" hR="10800" stAng="-4405297" swAng="4294143"/>
                <a:lnTo>
                  <a:pt x="10800" y="10800"/>
                </a:lnTo>
                <a:close/>
              </a:path>
              <a:path fill="none" w="21600" h="21600">
                <a:moveTo>
                  <a:pt x="13882" y="449"/>
                </a:moveTo>
                <a:arcTo wR="10800" hR="10800" stAng="-4405297" swAng="4294143"/>
              </a:path>
            </a:pathLst>
          </a:custGeom>
          <a:noFill/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700000">
            <a:off x="5778360" y="2618280"/>
            <a:ext cx="4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742840" y="4419360"/>
            <a:ext cx="3277080" cy="686160"/>
            <a:chOff x="2742840" y="4419360"/>
            <a:chExt cx="3277080" cy="686160"/>
          </a:xfrm>
        </p:grpSpPr>
        <p:sp>
          <p:nvSpPr>
            <p:cNvPr id="202" name=""/>
            <p:cNvSpPr/>
            <p:nvPr/>
          </p:nvSpPr>
          <p:spPr>
            <a:xfrm>
              <a:off x="3962520" y="5105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34120" y="441936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742840" y="44193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rot="16200000">
            <a:off x="4653000" y="31125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X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02160" y="3124080"/>
            <a:ext cx="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000" y="36338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78120" y="35672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8000" y="2666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4290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82560" y="2903040"/>
            <a:ext cx="756000" cy="243000"/>
            <a:chOff x="2482560" y="2903040"/>
            <a:chExt cx="756000" cy="243000"/>
          </a:xfrm>
        </p:grpSpPr>
        <p:sp>
          <p:nvSpPr>
            <p:cNvPr id="214" name=""/>
            <p:cNvSpPr/>
            <p:nvPr/>
          </p:nvSpPr>
          <p:spPr>
            <a:xfrm flipV="1">
              <a:off x="2697120" y="290304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857680" y="29095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57680" y="2971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482560" y="29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44920" y="264492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7240" y="0"/>
            <a:ext cx="210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et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1" name="Trou%20Borgne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2195280" cy="1638360"/>
          </a:xfrm>
          <a:prstGeom prst="rect">
            <a:avLst/>
          </a:prstGeom>
          <a:ln w="0">
            <a:noFill/>
          </a:ln>
        </p:spPr>
      </p:pic>
      <p:pic>
        <p:nvPicPr>
          <p:cNvPr id="222" name="Trou%20Debouchant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2195280" cy="163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6978600" y="2359080"/>
            <a:ext cx="93600" cy="79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54920" y="23623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54920" y="3048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978600" y="2971800"/>
            <a:ext cx="7632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00840" y="2038320"/>
            <a:ext cx="2438280" cy="1352520"/>
            <a:chOff x="6000840" y="2038320"/>
            <a:chExt cx="2438280" cy="1352520"/>
          </a:xfrm>
        </p:grpSpPr>
        <p:sp>
          <p:nvSpPr>
            <p:cNvPr id="228" name=""/>
            <p:cNvSpPr/>
            <p:nvPr/>
          </p:nvSpPr>
          <p:spPr>
            <a:xfrm>
              <a:off x="6454800" y="2038320"/>
              <a:ext cx="152388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12"/>
                  </a:moveTo>
                  <a:cubicBezTo>
                    <a:pt x="108" y="48"/>
                    <a:pt x="23" y="24"/>
                    <a:pt x="264" y="18"/>
                  </a:cubicBezTo>
                  <a:cubicBezTo>
                    <a:pt x="335" y="0"/>
                    <a:pt x="382" y="8"/>
                    <a:pt x="462" y="12"/>
                  </a:cubicBezTo>
                  <a:cubicBezTo>
                    <a:pt x="514" y="21"/>
                    <a:pt x="486" y="15"/>
                    <a:pt x="546" y="30"/>
                  </a:cubicBezTo>
                  <a:cubicBezTo>
                    <a:pt x="558" y="33"/>
                    <a:pt x="570" y="38"/>
                    <a:pt x="582" y="42"/>
                  </a:cubicBezTo>
                  <a:cubicBezTo>
                    <a:pt x="588" y="44"/>
                    <a:pt x="600" y="48"/>
                    <a:pt x="600" y="48"/>
                  </a:cubicBezTo>
                  <a:cubicBezTo>
                    <a:pt x="669" y="41"/>
                    <a:pt x="735" y="26"/>
                    <a:pt x="804" y="18"/>
                  </a:cubicBezTo>
                  <a:cubicBezTo>
                    <a:pt x="859" y="4"/>
                    <a:pt x="903" y="12"/>
                    <a:pt x="96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51560" y="3257640"/>
              <a:ext cx="1523880" cy="133200"/>
            </a:xfrm>
            <a:custGeom>
              <a:avLst/>
              <a:gdLst/>
              <a:ahLst/>
              <a:rect l="l" t="t" r="r" b="b"/>
              <a:pathLst>
                <a:path w="960" h="84">
                  <a:moveTo>
                    <a:pt x="0" y="56"/>
                  </a:moveTo>
                  <a:cubicBezTo>
                    <a:pt x="27" y="74"/>
                    <a:pt x="43" y="79"/>
                    <a:pt x="76" y="84"/>
                  </a:cubicBezTo>
                  <a:cubicBezTo>
                    <a:pt x="103" y="83"/>
                    <a:pt x="129" y="83"/>
                    <a:pt x="156" y="80"/>
                  </a:cubicBezTo>
                  <a:cubicBezTo>
                    <a:pt x="224" y="72"/>
                    <a:pt x="285" y="22"/>
                    <a:pt x="352" y="12"/>
                  </a:cubicBezTo>
                  <a:cubicBezTo>
                    <a:pt x="390" y="7"/>
                    <a:pt x="425" y="3"/>
                    <a:pt x="464" y="0"/>
                  </a:cubicBezTo>
                  <a:cubicBezTo>
                    <a:pt x="531" y="8"/>
                    <a:pt x="600" y="31"/>
                    <a:pt x="664" y="52"/>
                  </a:cubicBezTo>
                  <a:cubicBezTo>
                    <a:pt x="674" y="55"/>
                    <a:pt x="685" y="55"/>
                    <a:pt x="696" y="56"/>
                  </a:cubicBezTo>
                  <a:cubicBezTo>
                    <a:pt x="724" y="59"/>
                    <a:pt x="780" y="64"/>
                    <a:pt x="780" y="64"/>
                  </a:cubicBezTo>
                  <a:cubicBezTo>
                    <a:pt x="939" y="60"/>
                    <a:pt x="879" y="60"/>
                    <a:pt x="960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20574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9320" y="20574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5080" y="243828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5080" y="29718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00840" y="2698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81720" y="2698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2698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15240" y="2698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67520" y="2698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48400" y="2698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040" y="2698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81920" y="2698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34200" y="2698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V="1">
            <a:off x="6991200" y="4765680"/>
            <a:ext cx="63720" cy="79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67520" y="4768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67520" y="54547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6991200" y="5378400"/>
            <a:ext cx="7632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013440" y="4444920"/>
            <a:ext cx="2438280" cy="1352520"/>
            <a:chOff x="6013440" y="4444920"/>
            <a:chExt cx="2438280" cy="1352520"/>
          </a:xfrm>
        </p:grpSpPr>
        <p:sp>
          <p:nvSpPr>
            <p:cNvPr id="248" name=""/>
            <p:cNvSpPr/>
            <p:nvPr/>
          </p:nvSpPr>
          <p:spPr>
            <a:xfrm>
              <a:off x="6458040" y="4464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81920" y="4464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1680" y="4844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81680" y="53784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67400" y="4444920"/>
              <a:ext cx="152424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12"/>
                  </a:moveTo>
                  <a:cubicBezTo>
                    <a:pt x="108" y="48"/>
                    <a:pt x="23" y="24"/>
                    <a:pt x="264" y="18"/>
                  </a:cubicBezTo>
                  <a:cubicBezTo>
                    <a:pt x="335" y="0"/>
                    <a:pt x="382" y="8"/>
                    <a:pt x="462" y="12"/>
                  </a:cubicBezTo>
                  <a:cubicBezTo>
                    <a:pt x="514" y="21"/>
                    <a:pt x="486" y="15"/>
                    <a:pt x="546" y="30"/>
                  </a:cubicBezTo>
                  <a:cubicBezTo>
                    <a:pt x="558" y="33"/>
                    <a:pt x="570" y="38"/>
                    <a:pt x="582" y="42"/>
                  </a:cubicBezTo>
                  <a:cubicBezTo>
                    <a:pt x="588" y="44"/>
                    <a:pt x="600" y="48"/>
                    <a:pt x="600" y="48"/>
                  </a:cubicBezTo>
                  <a:cubicBezTo>
                    <a:pt x="669" y="41"/>
                    <a:pt x="735" y="26"/>
                    <a:pt x="804" y="18"/>
                  </a:cubicBezTo>
                  <a:cubicBezTo>
                    <a:pt x="859" y="4"/>
                    <a:pt x="903" y="12"/>
                    <a:pt x="96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64160" y="5664240"/>
              <a:ext cx="1524240" cy="133200"/>
            </a:xfrm>
            <a:custGeom>
              <a:avLst/>
              <a:gdLst/>
              <a:ahLst/>
              <a:rect l="l" t="t" r="r" b="b"/>
              <a:pathLst>
                <a:path w="960" h="84">
                  <a:moveTo>
                    <a:pt x="0" y="56"/>
                  </a:moveTo>
                  <a:cubicBezTo>
                    <a:pt x="27" y="74"/>
                    <a:pt x="43" y="79"/>
                    <a:pt x="76" y="84"/>
                  </a:cubicBezTo>
                  <a:cubicBezTo>
                    <a:pt x="103" y="83"/>
                    <a:pt x="129" y="83"/>
                    <a:pt x="156" y="80"/>
                  </a:cubicBezTo>
                  <a:cubicBezTo>
                    <a:pt x="224" y="72"/>
                    <a:pt x="285" y="22"/>
                    <a:pt x="352" y="12"/>
                  </a:cubicBezTo>
                  <a:cubicBezTo>
                    <a:pt x="390" y="7"/>
                    <a:pt x="425" y="3"/>
                    <a:pt x="464" y="0"/>
                  </a:cubicBezTo>
                  <a:cubicBezTo>
                    <a:pt x="531" y="8"/>
                    <a:pt x="600" y="31"/>
                    <a:pt x="664" y="52"/>
                  </a:cubicBezTo>
                  <a:cubicBezTo>
                    <a:pt x="674" y="55"/>
                    <a:pt x="685" y="55"/>
                    <a:pt x="696" y="56"/>
                  </a:cubicBezTo>
                  <a:cubicBezTo>
                    <a:pt x="724" y="59"/>
                    <a:pt x="780" y="64"/>
                    <a:pt x="780" y="64"/>
                  </a:cubicBezTo>
                  <a:cubicBezTo>
                    <a:pt x="939" y="60"/>
                    <a:pt x="879" y="60"/>
                    <a:pt x="960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3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943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4696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2784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8012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13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136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945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4716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81680" y="4844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619680" y="4844880"/>
              <a:ext cx="16164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6619680" y="5101920"/>
              <a:ext cx="161640" cy="27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74320" y="1371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u débouchant tarau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5880" y="3733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u borgne tarau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48320" y="2011320"/>
            <a:ext cx="1143000" cy="1379520"/>
            <a:chOff x="4648320" y="2011320"/>
            <a:chExt cx="1143000" cy="1379520"/>
          </a:xfrm>
        </p:grpSpPr>
        <p:sp>
          <p:nvSpPr>
            <p:cNvPr id="269" name=""/>
            <p:cNvSpPr/>
            <p:nvPr/>
          </p:nvSpPr>
          <p:spPr>
            <a:xfrm>
              <a:off x="4952880" y="24382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48320" y="2011320"/>
              <a:ext cx="1117440" cy="84240"/>
            </a:xfrm>
            <a:custGeom>
              <a:avLst/>
              <a:gdLst/>
              <a:ahLst/>
              <a:rect l="l" t="t" r="r" b="b"/>
              <a:pathLst>
                <a:path w="674" h="53">
                  <a:moveTo>
                    <a:pt x="0" y="35"/>
                  </a:moveTo>
                  <a:cubicBezTo>
                    <a:pt x="51" y="48"/>
                    <a:pt x="105" y="30"/>
                    <a:pt x="156" y="23"/>
                  </a:cubicBezTo>
                  <a:cubicBezTo>
                    <a:pt x="225" y="0"/>
                    <a:pt x="316" y="14"/>
                    <a:pt x="384" y="17"/>
                  </a:cubicBezTo>
                  <a:cubicBezTo>
                    <a:pt x="439" y="26"/>
                    <a:pt x="491" y="45"/>
                    <a:pt x="546" y="53"/>
                  </a:cubicBezTo>
                  <a:cubicBezTo>
                    <a:pt x="582" y="51"/>
                    <a:pt x="618" y="52"/>
                    <a:pt x="654" y="47"/>
                  </a:cubicBezTo>
                  <a:cubicBezTo>
                    <a:pt x="674" y="44"/>
                    <a:pt x="672" y="39"/>
                    <a:pt x="672" y="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48320" y="20574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1320" y="20574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8320" y="3257640"/>
              <a:ext cx="1143000" cy="133200"/>
            </a:xfrm>
            <a:custGeom>
              <a:avLst/>
              <a:gdLst/>
              <a:ahLst/>
              <a:rect l="l" t="t" r="r" b="b"/>
              <a:pathLst>
                <a:path w="720" h="84">
                  <a:moveTo>
                    <a:pt x="0" y="6"/>
                  </a:moveTo>
                  <a:cubicBezTo>
                    <a:pt x="43" y="35"/>
                    <a:pt x="22" y="27"/>
                    <a:pt x="60" y="36"/>
                  </a:cubicBezTo>
                  <a:cubicBezTo>
                    <a:pt x="156" y="31"/>
                    <a:pt x="229" y="22"/>
                    <a:pt x="318" y="0"/>
                  </a:cubicBezTo>
                  <a:cubicBezTo>
                    <a:pt x="364" y="4"/>
                    <a:pt x="402" y="4"/>
                    <a:pt x="444" y="18"/>
                  </a:cubicBezTo>
                  <a:cubicBezTo>
                    <a:pt x="473" y="40"/>
                    <a:pt x="507" y="47"/>
                    <a:pt x="540" y="60"/>
                  </a:cubicBezTo>
                  <a:cubicBezTo>
                    <a:pt x="552" y="65"/>
                    <a:pt x="576" y="72"/>
                    <a:pt x="576" y="72"/>
                  </a:cubicBezTo>
                  <a:cubicBezTo>
                    <a:pt x="577" y="72"/>
                    <a:pt x="690" y="84"/>
                    <a:pt x="720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819680" y="2698920"/>
              <a:ext cx="838080" cy="0"/>
              <a:chOff x="4819680" y="2698920"/>
              <a:chExt cx="83808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4819680" y="2698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200560" y="26989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53200" y="2698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219640" y="2308320"/>
              <a:ext cx="0" cy="838080"/>
              <a:chOff x="5219640" y="2308320"/>
              <a:chExt cx="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5219640" y="2308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19640" y="26892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19640" y="28418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4876920" y="2362320"/>
            <a:ext cx="685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700000">
            <a:off x="5219640" y="2399760"/>
            <a:ext cx="4572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22760" y="4411800"/>
            <a:ext cx="1143000" cy="1379520"/>
            <a:chOff x="4622760" y="4411800"/>
            <a:chExt cx="1143000" cy="1379520"/>
          </a:xfrm>
        </p:grpSpPr>
        <p:sp>
          <p:nvSpPr>
            <p:cNvPr id="285" name=""/>
            <p:cNvSpPr/>
            <p:nvPr/>
          </p:nvSpPr>
          <p:spPr>
            <a:xfrm>
              <a:off x="4927680" y="48387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22760" y="4411800"/>
              <a:ext cx="1117800" cy="83880"/>
            </a:xfrm>
            <a:custGeom>
              <a:avLst/>
              <a:gdLst/>
              <a:ahLst/>
              <a:rect l="l" t="t" r="r" b="b"/>
              <a:pathLst>
                <a:path w="674" h="53">
                  <a:moveTo>
                    <a:pt x="0" y="35"/>
                  </a:moveTo>
                  <a:cubicBezTo>
                    <a:pt x="51" y="48"/>
                    <a:pt x="105" y="30"/>
                    <a:pt x="156" y="23"/>
                  </a:cubicBezTo>
                  <a:cubicBezTo>
                    <a:pt x="225" y="0"/>
                    <a:pt x="316" y="14"/>
                    <a:pt x="384" y="17"/>
                  </a:cubicBezTo>
                  <a:cubicBezTo>
                    <a:pt x="439" y="26"/>
                    <a:pt x="491" y="45"/>
                    <a:pt x="546" y="53"/>
                  </a:cubicBezTo>
                  <a:cubicBezTo>
                    <a:pt x="582" y="51"/>
                    <a:pt x="618" y="52"/>
                    <a:pt x="654" y="47"/>
                  </a:cubicBezTo>
                  <a:cubicBezTo>
                    <a:pt x="674" y="44"/>
                    <a:pt x="672" y="39"/>
                    <a:pt x="672" y="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22760" y="44578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5760" y="4457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22760" y="5657760"/>
              <a:ext cx="1143000" cy="133560"/>
            </a:xfrm>
            <a:custGeom>
              <a:avLst/>
              <a:gdLst/>
              <a:ahLst/>
              <a:rect l="l" t="t" r="r" b="b"/>
              <a:pathLst>
                <a:path w="720" h="84">
                  <a:moveTo>
                    <a:pt x="0" y="6"/>
                  </a:moveTo>
                  <a:cubicBezTo>
                    <a:pt x="43" y="35"/>
                    <a:pt x="22" y="27"/>
                    <a:pt x="60" y="36"/>
                  </a:cubicBezTo>
                  <a:cubicBezTo>
                    <a:pt x="156" y="31"/>
                    <a:pt x="229" y="22"/>
                    <a:pt x="318" y="0"/>
                  </a:cubicBezTo>
                  <a:cubicBezTo>
                    <a:pt x="364" y="4"/>
                    <a:pt x="402" y="4"/>
                    <a:pt x="444" y="18"/>
                  </a:cubicBezTo>
                  <a:cubicBezTo>
                    <a:pt x="473" y="40"/>
                    <a:pt x="507" y="47"/>
                    <a:pt x="540" y="60"/>
                  </a:cubicBezTo>
                  <a:cubicBezTo>
                    <a:pt x="552" y="65"/>
                    <a:pt x="576" y="72"/>
                    <a:pt x="576" y="72"/>
                  </a:cubicBezTo>
                  <a:cubicBezTo>
                    <a:pt x="577" y="72"/>
                    <a:pt x="690" y="84"/>
                    <a:pt x="720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794120" y="5099040"/>
              <a:ext cx="838080" cy="0"/>
              <a:chOff x="4794120" y="5099040"/>
              <a:chExt cx="838080" cy="0"/>
            </a:xfrm>
          </p:grpSpPr>
          <p:sp>
            <p:nvSpPr>
              <p:cNvPr id="291" name=""/>
              <p:cNvSpPr/>
              <p:nvPr/>
            </p:nvSpPr>
            <p:spPr>
              <a:xfrm>
                <a:off x="4794120" y="5099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75000" y="50990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27640" y="5099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194440" y="4708440"/>
              <a:ext cx="0" cy="838080"/>
              <a:chOff x="5194440" y="4708440"/>
              <a:chExt cx="0" cy="838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194440" y="4708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94440" y="50893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94440" y="5241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4851360" y="4762440"/>
            <a:ext cx="685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700000">
            <a:off x="5193720" y="4800960"/>
            <a:ext cx="4572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31960" y="3017880"/>
            <a:ext cx="0" cy="750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25840" y="3281400"/>
            <a:ext cx="0" cy="436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16120" y="3657600"/>
            <a:ext cx="90972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51680" y="3038400"/>
            <a:ext cx="0" cy="750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66080" y="3352680"/>
            <a:ext cx="0" cy="436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35840" y="3678120"/>
            <a:ext cx="93024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54920" y="23623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445080" y="2057040"/>
            <a:ext cx="1524240" cy="1314360"/>
            <a:chOff x="6445080" y="2057040"/>
            <a:chExt cx="1524240" cy="1314360"/>
          </a:xfrm>
        </p:grpSpPr>
        <p:sp>
          <p:nvSpPr>
            <p:cNvPr id="308" name=""/>
            <p:cNvSpPr/>
            <p:nvPr/>
          </p:nvSpPr>
          <p:spPr>
            <a:xfrm flipV="1">
              <a:off x="6445080" y="2088720"/>
              <a:ext cx="12096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45080" y="20570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21400" y="20574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73680" y="20574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826320" y="20574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130880" y="2114280"/>
              <a:ext cx="3240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283520" y="2076120"/>
              <a:ext cx="3618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435800" y="20574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8080" y="20574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740720" y="2209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893000" y="23619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445080" y="29714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445080" y="29714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502320" y="2971440"/>
              <a:ext cx="3999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654960" y="2971440"/>
              <a:ext cx="3999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6320" y="29718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054920" y="29714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7226280" y="2971800"/>
              <a:ext cx="2858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359480" y="29714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467480" y="2971800"/>
              <a:ext cx="34920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588080" y="29718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740720" y="3123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893000" y="32763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056360" y="2091960"/>
              <a:ext cx="2682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652840" y="5407200"/>
            <a:ext cx="0" cy="81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46360" y="5730840"/>
            <a:ext cx="0" cy="436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37000" y="6107040"/>
            <a:ext cx="9093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72200" y="5477040"/>
            <a:ext cx="0" cy="750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75440" y="5761080"/>
            <a:ext cx="0" cy="436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66080" y="6137280"/>
            <a:ext cx="9093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7520" y="47689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458040" y="4463640"/>
            <a:ext cx="1523880" cy="1314360"/>
            <a:chOff x="6458040" y="4463640"/>
            <a:chExt cx="1523880" cy="1314360"/>
          </a:xfrm>
        </p:grpSpPr>
        <p:sp>
          <p:nvSpPr>
            <p:cNvPr id="340" name=""/>
            <p:cNvSpPr/>
            <p:nvPr/>
          </p:nvSpPr>
          <p:spPr>
            <a:xfrm flipV="1">
              <a:off x="6458040" y="4495320"/>
              <a:ext cx="12060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458040" y="4463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477120" y="4464000"/>
              <a:ext cx="438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458040" y="4464000"/>
              <a:ext cx="60948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838920" y="4464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143840" y="4520880"/>
              <a:ext cx="323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296120" y="4482720"/>
              <a:ext cx="3621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448400" y="44640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601040" y="4464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753320" y="4615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905600" y="47685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458040" y="5301720"/>
              <a:ext cx="247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458040" y="53780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515280" y="5378040"/>
              <a:ext cx="3999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667560" y="5378040"/>
              <a:ext cx="3999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838920" y="53784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067520" y="53780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238880" y="5378400"/>
              <a:ext cx="2858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372440" y="53780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480440" y="5378400"/>
              <a:ext cx="34920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601040" y="53784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753320" y="5530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905600" y="56829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477120" y="50734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477120" y="5196960"/>
              <a:ext cx="180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061040" y="4495320"/>
              <a:ext cx="25884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217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et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181400" y="2647800"/>
            <a:ext cx="2438640" cy="1352880"/>
            <a:chOff x="4181400" y="2647800"/>
            <a:chExt cx="2438640" cy="1352880"/>
          </a:xfrm>
        </p:grpSpPr>
        <p:sp>
          <p:nvSpPr>
            <p:cNvPr id="368" name=""/>
            <p:cNvSpPr/>
            <p:nvPr/>
          </p:nvSpPr>
          <p:spPr>
            <a:xfrm>
              <a:off x="4626000" y="2666880"/>
              <a:ext cx="1440" cy="1295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49880" y="2666880"/>
              <a:ext cx="1800" cy="1295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48320" y="3048120"/>
              <a:ext cx="1523880" cy="14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26000" y="3581280"/>
              <a:ext cx="1523880" cy="18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5480" y="2971800"/>
              <a:ext cx="1800" cy="6858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5360" y="2647800"/>
              <a:ext cx="152424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12"/>
                  </a:moveTo>
                  <a:cubicBezTo>
                    <a:pt x="108" y="48"/>
                    <a:pt x="23" y="24"/>
                    <a:pt x="264" y="18"/>
                  </a:cubicBezTo>
                  <a:cubicBezTo>
                    <a:pt x="335" y="0"/>
                    <a:pt x="382" y="8"/>
                    <a:pt x="462" y="12"/>
                  </a:cubicBezTo>
                  <a:cubicBezTo>
                    <a:pt x="514" y="21"/>
                    <a:pt x="486" y="15"/>
                    <a:pt x="546" y="30"/>
                  </a:cubicBezTo>
                  <a:cubicBezTo>
                    <a:pt x="558" y="33"/>
                    <a:pt x="570" y="38"/>
                    <a:pt x="582" y="42"/>
                  </a:cubicBezTo>
                  <a:cubicBezTo>
                    <a:pt x="588" y="44"/>
                    <a:pt x="600" y="48"/>
                    <a:pt x="600" y="48"/>
                  </a:cubicBezTo>
                  <a:cubicBezTo>
                    <a:pt x="669" y="41"/>
                    <a:pt x="735" y="26"/>
                    <a:pt x="804" y="18"/>
                  </a:cubicBezTo>
                  <a:cubicBezTo>
                    <a:pt x="859" y="4"/>
                    <a:pt x="903" y="12"/>
                    <a:pt x="960" y="12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626000" y="2698560"/>
              <a:ext cx="120600" cy="120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626000" y="2666520"/>
              <a:ext cx="30492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702320" y="2666520"/>
              <a:ext cx="38088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854600" y="2666520"/>
              <a:ext cx="38088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006880" y="2666520"/>
              <a:ext cx="38124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159520" y="2704680"/>
              <a:ext cx="34272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311800" y="2724120"/>
              <a:ext cx="324000" cy="324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464080" y="2685960"/>
              <a:ext cx="362160" cy="362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616720" y="2666520"/>
              <a:ext cx="38088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769000" y="2666520"/>
              <a:ext cx="38088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921280" y="2819160"/>
              <a:ext cx="22860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073920" y="2971800"/>
              <a:ext cx="7596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26000" y="3581280"/>
              <a:ext cx="15228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626000" y="3580920"/>
              <a:ext cx="30492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683240" y="3581280"/>
              <a:ext cx="399960" cy="400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835520" y="3581280"/>
              <a:ext cx="399960" cy="400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006880" y="3580920"/>
              <a:ext cx="38124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235480" y="3580920"/>
              <a:ext cx="30492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407200" y="3581280"/>
              <a:ext cx="285480" cy="285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540400" y="3580920"/>
              <a:ext cx="30492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648400" y="3581280"/>
              <a:ext cx="349200" cy="349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769000" y="3580920"/>
              <a:ext cx="38088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921280" y="3733560"/>
              <a:ext cx="22860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073920" y="3886200"/>
              <a:ext cx="7596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2480" y="3867120"/>
              <a:ext cx="1523880" cy="133560"/>
            </a:xfrm>
            <a:custGeom>
              <a:avLst/>
              <a:gdLst/>
              <a:ahLst/>
              <a:rect l="l" t="t" r="r" b="b"/>
              <a:pathLst>
                <a:path w="960" h="84">
                  <a:moveTo>
                    <a:pt x="0" y="56"/>
                  </a:moveTo>
                  <a:cubicBezTo>
                    <a:pt x="27" y="74"/>
                    <a:pt x="43" y="79"/>
                    <a:pt x="76" y="84"/>
                  </a:cubicBezTo>
                  <a:cubicBezTo>
                    <a:pt x="103" y="83"/>
                    <a:pt x="129" y="83"/>
                    <a:pt x="156" y="80"/>
                  </a:cubicBezTo>
                  <a:cubicBezTo>
                    <a:pt x="224" y="72"/>
                    <a:pt x="285" y="22"/>
                    <a:pt x="352" y="12"/>
                  </a:cubicBezTo>
                  <a:cubicBezTo>
                    <a:pt x="390" y="7"/>
                    <a:pt x="425" y="3"/>
                    <a:pt x="464" y="0"/>
                  </a:cubicBezTo>
                  <a:cubicBezTo>
                    <a:pt x="531" y="8"/>
                    <a:pt x="600" y="31"/>
                    <a:pt x="664" y="52"/>
                  </a:cubicBezTo>
                  <a:cubicBezTo>
                    <a:pt x="674" y="55"/>
                    <a:pt x="685" y="55"/>
                    <a:pt x="696" y="56"/>
                  </a:cubicBezTo>
                  <a:cubicBezTo>
                    <a:pt x="724" y="59"/>
                    <a:pt x="780" y="64"/>
                    <a:pt x="780" y="64"/>
                  </a:cubicBezTo>
                  <a:cubicBezTo>
                    <a:pt x="939" y="60"/>
                    <a:pt x="879" y="60"/>
                    <a:pt x="960" y="6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35480" y="2971800"/>
              <a:ext cx="91440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35480" y="3657600"/>
              <a:ext cx="91440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5159160" y="3581280"/>
              <a:ext cx="7596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81400" y="3308400"/>
              <a:ext cx="3049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62640" y="3308400"/>
              <a:ext cx="7596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14920" y="3308400"/>
              <a:ext cx="3049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5800" y="3308400"/>
              <a:ext cx="763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48440" y="3308400"/>
              <a:ext cx="30456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29320" y="3308400"/>
              <a:ext cx="763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81600" y="3308400"/>
              <a:ext cx="3049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62840" y="3308400"/>
              <a:ext cx="7596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15120" y="3308400"/>
              <a:ext cx="3049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463760" y="3054240"/>
            <a:ext cx="933480" cy="97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63760" y="3587760"/>
            <a:ext cx="94284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2978280"/>
            <a:ext cx="1800" cy="6858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996920" y="2963520"/>
            <a:ext cx="76320" cy="9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73240" y="2978280"/>
            <a:ext cx="91440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73240" y="3664080"/>
            <a:ext cx="91440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996920" y="3587760"/>
            <a:ext cx="7632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077240" y="2962080"/>
            <a:ext cx="1523520" cy="714240"/>
            <a:chOff x="7077240" y="2962080"/>
            <a:chExt cx="1523520" cy="714240"/>
          </a:xfrm>
        </p:grpSpPr>
        <p:sp>
          <p:nvSpPr>
            <p:cNvPr id="419" name=""/>
            <p:cNvSpPr/>
            <p:nvPr/>
          </p:nvSpPr>
          <p:spPr>
            <a:xfrm>
              <a:off x="7356240" y="2971800"/>
              <a:ext cx="0" cy="68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286400" y="2962080"/>
              <a:ext cx="7596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56240" y="2971800"/>
              <a:ext cx="1056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56240" y="3657600"/>
              <a:ext cx="1095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7282800" y="3591000"/>
              <a:ext cx="75960" cy="7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10400" y="330840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91280" y="3308400"/>
              <a:ext cx="7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43920" y="3308400"/>
              <a:ext cx="30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24800" y="3308400"/>
              <a:ext cx="7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86400" y="3035160"/>
              <a:ext cx="0" cy="57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77240" y="330840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58120" y="3308400"/>
              <a:ext cx="75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96040" y="2971800"/>
              <a:ext cx="0" cy="68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34360" y="2971800"/>
              <a:ext cx="153360" cy="704520"/>
            </a:xfrm>
            <a:custGeom>
              <a:avLst/>
              <a:gdLst/>
              <a:ahLst/>
              <a:rect l="l" t="t" r="r" b="b"/>
              <a:pathLst>
                <a:path w="97" h="444">
                  <a:moveTo>
                    <a:pt x="48" y="0"/>
                  </a:moveTo>
                  <a:cubicBezTo>
                    <a:pt x="97" y="73"/>
                    <a:pt x="21" y="105"/>
                    <a:pt x="0" y="168"/>
                  </a:cubicBezTo>
                  <a:cubicBezTo>
                    <a:pt x="7" y="248"/>
                    <a:pt x="15" y="309"/>
                    <a:pt x="72" y="366"/>
                  </a:cubicBezTo>
                  <a:cubicBezTo>
                    <a:pt x="80" y="390"/>
                    <a:pt x="80" y="380"/>
                    <a:pt x="72" y="408"/>
                  </a:cubicBezTo>
                  <a:cubicBezTo>
                    <a:pt x="68" y="420"/>
                    <a:pt x="60" y="444"/>
                    <a:pt x="60" y="44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86400" y="3038400"/>
              <a:ext cx="82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67320" y="3591000"/>
              <a:ext cx="83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8105760" y="2981160"/>
              <a:ext cx="6624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96040" y="3581280"/>
              <a:ext cx="9504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019160" y="2654280"/>
            <a:ext cx="1978200" cy="1352520"/>
            <a:chOff x="1019160" y="2654280"/>
            <a:chExt cx="1978200" cy="1352520"/>
          </a:xfrm>
        </p:grpSpPr>
        <p:sp>
          <p:nvSpPr>
            <p:cNvPr id="438" name=""/>
            <p:cNvSpPr/>
            <p:nvPr/>
          </p:nvSpPr>
          <p:spPr>
            <a:xfrm>
              <a:off x="1463760" y="2673360"/>
              <a:ext cx="1440" cy="12952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87640" y="2673360"/>
              <a:ext cx="1800" cy="3049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73120" y="2654280"/>
              <a:ext cx="152424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12"/>
                  </a:moveTo>
                  <a:cubicBezTo>
                    <a:pt x="108" y="48"/>
                    <a:pt x="23" y="24"/>
                    <a:pt x="264" y="18"/>
                  </a:cubicBezTo>
                  <a:cubicBezTo>
                    <a:pt x="335" y="0"/>
                    <a:pt x="382" y="8"/>
                    <a:pt x="462" y="12"/>
                  </a:cubicBezTo>
                  <a:cubicBezTo>
                    <a:pt x="514" y="21"/>
                    <a:pt x="486" y="15"/>
                    <a:pt x="546" y="30"/>
                  </a:cubicBezTo>
                  <a:cubicBezTo>
                    <a:pt x="558" y="33"/>
                    <a:pt x="570" y="38"/>
                    <a:pt x="582" y="42"/>
                  </a:cubicBezTo>
                  <a:cubicBezTo>
                    <a:pt x="588" y="44"/>
                    <a:pt x="600" y="48"/>
                    <a:pt x="600" y="48"/>
                  </a:cubicBezTo>
                  <a:cubicBezTo>
                    <a:pt x="669" y="41"/>
                    <a:pt x="735" y="26"/>
                    <a:pt x="804" y="18"/>
                  </a:cubicBezTo>
                  <a:cubicBezTo>
                    <a:pt x="859" y="4"/>
                    <a:pt x="903" y="12"/>
                    <a:pt x="960" y="12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69880" y="3873600"/>
              <a:ext cx="1524240" cy="133200"/>
            </a:xfrm>
            <a:custGeom>
              <a:avLst/>
              <a:gdLst/>
              <a:ahLst/>
              <a:rect l="l" t="t" r="r" b="b"/>
              <a:pathLst>
                <a:path w="960" h="84">
                  <a:moveTo>
                    <a:pt x="0" y="56"/>
                  </a:moveTo>
                  <a:cubicBezTo>
                    <a:pt x="27" y="74"/>
                    <a:pt x="43" y="79"/>
                    <a:pt x="76" y="84"/>
                  </a:cubicBezTo>
                  <a:cubicBezTo>
                    <a:pt x="103" y="83"/>
                    <a:pt x="129" y="83"/>
                    <a:pt x="156" y="80"/>
                  </a:cubicBezTo>
                  <a:cubicBezTo>
                    <a:pt x="224" y="72"/>
                    <a:pt x="285" y="22"/>
                    <a:pt x="352" y="12"/>
                  </a:cubicBezTo>
                  <a:cubicBezTo>
                    <a:pt x="390" y="7"/>
                    <a:pt x="425" y="3"/>
                    <a:pt x="464" y="0"/>
                  </a:cubicBezTo>
                  <a:cubicBezTo>
                    <a:pt x="531" y="8"/>
                    <a:pt x="600" y="31"/>
                    <a:pt x="664" y="52"/>
                  </a:cubicBezTo>
                  <a:cubicBezTo>
                    <a:pt x="674" y="55"/>
                    <a:pt x="685" y="55"/>
                    <a:pt x="696" y="56"/>
                  </a:cubicBezTo>
                  <a:cubicBezTo>
                    <a:pt x="724" y="59"/>
                    <a:pt x="780" y="64"/>
                    <a:pt x="780" y="64"/>
                  </a:cubicBezTo>
                  <a:cubicBezTo>
                    <a:pt x="939" y="60"/>
                    <a:pt x="879" y="60"/>
                    <a:pt x="960" y="6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19160" y="3314880"/>
              <a:ext cx="3049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00040" y="3314880"/>
              <a:ext cx="763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52680" y="3314880"/>
              <a:ext cx="30456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3560" y="3314880"/>
              <a:ext cx="7632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85840" y="3314880"/>
              <a:ext cx="10656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90880" y="3666960"/>
              <a:ext cx="1440" cy="3049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363400" y="14479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756480" y="3200400"/>
            <a:ext cx="228600" cy="241200"/>
            <a:chOff x="6756480" y="3200400"/>
            <a:chExt cx="228600" cy="241200"/>
          </a:xfrm>
        </p:grpSpPr>
        <p:sp>
          <p:nvSpPr>
            <p:cNvPr id="450" name=""/>
            <p:cNvSpPr/>
            <p:nvPr/>
          </p:nvSpPr>
          <p:spPr>
            <a:xfrm>
              <a:off x="6858360" y="3200400"/>
              <a:ext cx="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56480" y="3301920"/>
              <a:ext cx="2286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860640" y="3238560"/>
            <a:ext cx="222480" cy="127080"/>
            <a:chOff x="3860640" y="3238560"/>
            <a:chExt cx="222480" cy="127080"/>
          </a:xfrm>
        </p:grpSpPr>
        <p:sp>
          <p:nvSpPr>
            <p:cNvPr id="453" name=""/>
            <p:cNvSpPr/>
            <p:nvPr/>
          </p:nvSpPr>
          <p:spPr>
            <a:xfrm>
              <a:off x="3860640" y="3238560"/>
              <a:ext cx="22248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860640" y="3359160"/>
              <a:ext cx="2192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463760" y="2673000"/>
            <a:ext cx="1523880" cy="1314360"/>
            <a:chOff x="1463760" y="2673000"/>
            <a:chExt cx="1523880" cy="1314360"/>
          </a:xfrm>
        </p:grpSpPr>
        <p:sp>
          <p:nvSpPr>
            <p:cNvPr id="456" name=""/>
            <p:cNvSpPr/>
            <p:nvPr/>
          </p:nvSpPr>
          <p:spPr>
            <a:xfrm flipV="1">
              <a:off x="1463760" y="2704680"/>
              <a:ext cx="120600" cy="120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463760" y="2673000"/>
              <a:ext cx="30456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1539720" y="2673360"/>
              <a:ext cx="38124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692360" y="2673360"/>
              <a:ext cx="38088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844640" y="2673360"/>
              <a:ext cx="38088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149560" y="2730240"/>
              <a:ext cx="323640" cy="323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301840" y="2692080"/>
              <a:ext cx="362160" cy="36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540160" y="2673000"/>
              <a:ext cx="29520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692440" y="2673360"/>
              <a:ext cx="295200" cy="295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835360" y="2825640"/>
              <a:ext cx="15228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463760" y="3587400"/>
              <a:ext cx="15228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463760" y="3587400"/>
              <a:ext cx="30456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521000" y="3587400"/>
              <a:ext cx="399960" cy="399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673280" y="3587400"/>
              <a:ext cx="399960" cy="399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1844640" y="3587760"/>
              <a:ext cx="38088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073240" y="3587400"/>
              <a:ext cx="30492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244600" y="3664080"/>
              <a:ext cx="209520" cy="209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378160" y="3654360"/>
              <a:ext cx="237960" cy="238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486160" y="3664080"/>
              <a:ext cx="263520" cy="272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06760" y="3664080"/>
              <a:ext cx="30456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759040" y="3739680"/>
              <a:ext cx="22860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911320" y="3892320"/>
              <a:ext cx="76320" cy="75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065320" y="2704680"/>
              <a:ext cx="274680" cy="274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209680" y="2971440"/>
            <a:ext cx="1524240" cy="714240"/>
            <a:chOff x="2209680" y="2971440"/>
            <a:chExt cx="1524240" cy="714240"/>
          </a:xfrm>
        </p:grpSpPr>
        <p:sp>
          <p:nvSpPr>
            <p:cNvPr id="480" name=""/>
            <p:cNvSpPr/>
            <p:nvPr/>
          </p:nvSpPr>
          <p:spPr>
            <a:xfrm>
              <a:off x="2489040" y="2981160"/>
              <a:ext cx="0" cy="68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419200" y="2971440"/>
              <a:ext cx="7632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89040" y="2981160"/>
              <a:ext cx="1057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89040" y="3666960"/>
              <a:ext cx="109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2415960" y="3600360"/>
              <a:ext cx="76320" cy="7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43200" y="33177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3317760"/>
              <a:ext cx="76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76720" y="331776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57600" y="3317760"/>
              <a:ext cx="76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19200" y="3044520"/>
              <a:ext cx="0" cy="57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33177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0920" y="3317760"/>
              <a:ext cx="7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8840" y="2981160"/>
              <a:ext cx="0" cy="68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67160" y="2981160"/>
              <a:ext cx="153720" cy="704520"/>
            </a:xfrm>
            <a:custGeom>
              <a:avLst/>
              <a:gdLst/>
              <a:ahLst/>
              <a:rect l="l" t="t" r="r" b="b"/>
              <a:pathLst>
                <a:path w="97" h="444">
                  <a:moveTo>
                    <a:pt x="48" y="0"/>
                  </a:moveTo>
                  <a:cubicBezTo>
                    <a:pt x="97" y="73"/>
                    <a:pt x="21" y="105"/>
                    <a:pt x="0" y="168"/>
                  </a:cubicBezTo>
                  <a:cubicBezTo>
                    <a:pt x="7" y="248"/>
                    <a:pt x="15" y="309"/>
                    <a:pt x="72" y="366"/>
                  </a:cubicBezTo>
                  <a:cubicBezTo>
                    <a:pt x="80" y="390"/>
                    <a:pt x="80" y="380"/>
                    <a:pt x="72" y="408"/>
                  </a:cubicBezTo>
                  <a:cubicBezTo>
                    <a:pt x="68" y="420"/>
                    <a:pt x="60" y="444"/>
                    <a:pt x="60" y="44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19200" y="3047760"/>
              <a:ext cx="8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0120" y="3600360"/>
              <a:ext cx="838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238560" y="2990520"/>
              <a:ext cx="6660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28840" y="3590640"/>
              <a:ext cx="9540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189320" y="1447920"/>
            <a:ext cx="16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e file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21360" y="1447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u tarau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836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67680" y="3611520"/>
            <a:ext cx="841320" cy="609480"/>
            <a:chOff x="7267680" y="3611520"/>
            <a:chExt cx="841320" cy="609480"/>
          </a:xfrm>
        </p:grpSpPr>
        <p:sp>
          <p:nvSpPr>
            <p:cNvPr id="502" name=""/>
            <p:cNvSpPr/>
            <p:nvPr/>
          </p:nvSpPr>
          <p:spPr>
            <a:xfrm>
              <a:off x="7269120" y="3611520"/>
              <a:ext cx="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93160" y="3649680"/>
              <a:ext cx="0" cy="57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67680" y="4114800"/>
              <a:ext cx="841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235480" y="3649680"/>
            <a:ext cx="914400" cy="792000"/>
            <a:chOff x="5235480" y="3649680"/>
            <a:chExt cx="914400" cy="792000"/>
          </a:xfrm>
        </p:grpSpPr>
        <p:sp>
          <p:nvSpPr>
            <p:cNvPr id="506" name=""/>
            <p:cNvSpPr/>
            <p:nvPr/>
          </p:nvSpPr>
          <p:spPr>
            <a:xfrm>
              <a:off x="5235480" y="3649680"/>
              <a:ext cx="0" cy="792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49880" y="3954600"/>
              <a:ext cx="0" cy="48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35480" y="4365720"/>
              <a:ext cx="914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416320" y="3611520"/>
            <a:ext cx="841320" cy="883800"/>
            <a:chOff x="2416320" y="3611520"/>
            <a:chExt cx="841320" cy="883800"/>
          </a:xfrm>
        </p:grpSpPr>
        <p:sp>
          <p:nvSpPr>
            <p:cNvPr id="510" name=""/>
            <p:cNvSpPr/>
            <p:nvPr/>
          </p:nvSpPr>
          <p:spPr>
            <a:xfrm>
              <a:off x="2417760" y="3611520"/>
              <a:ext cx="0" cy="883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1800" y="3666600"/>
              <a:ext cx="0" cy="82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6320" y="4341240"/>
              <a:ext cx="841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075040" y="3641760"/>
            <a:ext cx="914400" cy="1289160"/>
            <a:chOff x="2075040" y="3641760"/>
            <a:chExt cx="914400" cy="1289160"/>
          </a:xfrm>
        </p:grpSpPr>
        <p:sp>
          <p:nvSpPr>
            <p:cNvPr id="514" name=""/>
            <p:cNvSpPr/>
            <p:nvPr/>
          </p:nvSpPr>
          <p:spPr>
            <a:xfrm>
              <a:off x="2075040" y="3641760"/>
              <a:ext cx="0" cy="1289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89440" y="3954600"/>
              <a:ext cx="0" cy="9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75040" y="4807080"/>
              <a:ext cx="914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08:18:37Z</dcterms:created>
  <dc:creator>Professeur</dc:creator>
  <dc:description/>
  <dc:language>en-US</dc:language>
  <cp:lastModifiedBy>Antonin ARTAUD</cp:lastModifiedBy>
  <dcterms:modified xsi:type="dcterms:W3CDTF">2010-01-25T11:04:42Z</dcterms:modified>
  <cp:revision>32</cp:revision>
  <dc:subject/>
  <dc:title>Filetage</dc:title>
</cp:coreProperties>
</file>