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310-3A4C-450B-B48E-F934638D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574D-52CC-4E84-AD67-510002A9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F7C-88DF-4E35-9077-010E4279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0B8-8B7D-4A6D-B846-7074A478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3B27-F575-41A0-8FE0-91575B8A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DCED-2B91-4B4A-AB2D-00BCE20E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72E2-03DE-4B93-86E3-505FC716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0EBD-F2DE-42BB-A9D0-FE60E9A6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69B9-1464-401C-A275-822DB136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E0D7-C5DB-4FCF-9565-0AE0B160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8A37-5C0E-4E21-AD11-8F3420FD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516-4028-4BB3-9E90-A02223E7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BA0D-E1E3-4B99-8AE0-5F4AE9C9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6C7C-EE22-4E2C-9991-B9B6C295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2CA2-3183-4E2F-B0E8-4A0BCE62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1CE6-C07A-44A2-9BAF-CEB11C54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E124-3754-42E5-B470-8216A1E3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265-C11A-4A91-A01E-A343A853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3A3-E4CC-44E5-AAB7-41E39BB3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55E-9AEE-4244-966B-65429D39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84F-4DCF-481A-B008-FBC79DB2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BD8-46AF-4BE3-8026-759BEAAB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D71-BD0B-468C-9033-6903145A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B54-064D-413A-9690-651824FA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E255-1057-4CE3-AD72-9FC89B01B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04AE-A319-4943-B86E-B8E5C1CD4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279520" y="1279440"/>
            <a:ext cx="5754960" cy="5049720"/>
            <a:chOff x="2279520" y="1279440"/>
            <a:chExt cx="5754960" cy="5049720"/>
          </a:xfrm>
        </p:grpSpPr>
        <p:pic>
          <p:nvPicPr>
            <p:cNvPr id="128" name="equerre_elève" descr=""/>
            <p:cNvPicPr/>
            <p:nvPr/>
          </p:nvPicPr>
          <p:blipFill>
            <a:blip r:embed="rId1"/>
            <a:stretch/>
          </p:blipFill>
          <p:spPr>
            <a:xfrm>
              <a:off x="2279520" y="1279440"/>
              <a:ext cx="5754960" cy="50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889360" y="1584360"/>
              <a:ext cx="91440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65320" y="3190680"/>
              <a:ext cx="73044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1160" y="5013360"/>
              <a:ext cx="76176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94600" y="4784760"/>
              <a:ext cx="596880" cy="11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00280" y="3108240"/>
              <a:ext cx="152388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579760" y="3174840"/>
              <a:ext cx="1549080" cy="0"/>
              <a:chOff x="2579760" y="3174840"/>
              <a:chExt cx="1549080" cy="0"/>
            </a:xfrm>
          </p:grpSpPr>
          <p:sp>
            <p:nvSpPr>
              <p:cNvPr id="135" name=""/>
              <p:cNvSpPr/>
              <p:nvPr/>
            </p:nvSpPr>
            <p:spPr>
              <a:xfrm>
                <a:off x="2579760" y="3174840"/>
                <a:ext cx="7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27000" y="3174840"/>
                <a:ext cx="7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74960" y="3174840"/>
                <a:ext cx="7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22200" y="3174840"/>
                <a:ext cx="7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69800" y="3174840"/>
                <a:ext cx="7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317400" y="3174840"/>
                <a:ext cx="7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465000" y="3174840"/>
                <a:ext cx="7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12600" y="3174840"/>
                <a:ext cx="7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760200" y="3174840"/>
                <a:ext cx="7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907800" y="3174840"/>
                <a:ext cx="7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055040" y="3174840"/>
                <a:ext cx="7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1447920" y="4129200"/>
            <a:ext cx="2971800" cy="2728800"/>
            <a:chOff x="1447920" y="4129200"/>
            <a:chExt cx="2971800" cy="2728800"/>
          </a:xfrm>
        </p:grpSpPr>
        <p:pic>
          <p:nvPicPr>
            <p:cNvPr id="147" name="Equerre" descr=""/>
            <p:cNvPicPr/>
            <p:nvPr/>
          </p:nvPicPr>
          <p:blipFill>
            <a:blip r:embed="rId2"/>
            <a:stretch/>
          </p:blipFill>
          <p:spPr>
            <a:xfrm>
              <a:off x="1447920" y="4129200"/>
              <a:ext cx="2971800" cy="27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flipV="1">
              <a:off x="2811600" y="5882760"/>
              <a:ext cx="982440" cy="166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17720" y="5700600"/>
              <a:ext cx="984240" cy="181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01960" y="4381560"/>
              <a:ext cx="0" cy="1508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622520" y="6103440"/>
              <a:ext cx="946080" cy="166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90920" y="5638680"/>
              <a:ext cx="0" cy="441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75080" y="6087960"/>
              <a:ext cx="1631880" cy="290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700720" y="-4752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Plan de cou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94800" y="5388120"/>
            <a:ext cx="2701080" cy="0"/>
            <a:chOff x="5194800" y="5388120"/>
            <a:chExt cx="2701080" cy="0"/>
          </a:xfrm>
        </p:grpSpPr>
        <p:sp>
          <p:nvSpPr>
            <p:cNvPr id="156" name=""/>
            <p:cNvSpPr/>
            <p:nvPr/>
          </p:nvSpPr>
          <p:spPr>
            <a:xfrm flipH="1">
              <a:off x="7305480" y="5388120"/>
              <a:ext cx="421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136640" y="5388120"/>
              <a:ext cx="84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7812000" y="5388120"/>
              <a:ext cx="83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629760" y="5388120"/>
              <a:ext cx="42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461280" y="5388120"/>
              <a:ext cx="84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954400" y="5388120"/>
              <a:ext cx="421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785920" y="5388120"/>
              <a:ext cx="83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5363280" y="5388120"/>
              <a:ext cx="337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194800" y="5388120"/>
              <a:ext cx="84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531320" y="-4752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forc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346560" y="97488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347640" y="3862440"/>
            <a:ext cx="4680" cy="311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70760" y="53863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8520" y="538488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8000" y="26496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Enlever le morc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3040" y="11271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3040" y="402264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46760" y="5470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47160" y="5470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35400" y="7016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-Rep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60480" y="703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38160" y="3614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66960" y="554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67360" y="554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71880" y="958680"/>
            <a:ext cx="28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Arêtes visibles dans 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140600" y="5347800"/>
            <a:ext cx="76320" cy="76320"/>
            <a:chOff x="7140600" y="5347800"/>
            <a:chExt cx="76320" cy="76320"/>
          </a:xfrm>
        </p:grpSpPr>
        <p:sp>
          <p:nvSpPr>
            <p:cNvPr id="182" name=""/>
            <p:cNvSpPr/>
            <p:nvPr/>
          </p:nvSpPr>
          <p:spPr>
            <a:xfrm>
              <a:off x="7140600" y="534816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140600" y="534780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763040" y="5347800"/>
            <a:ext cx="75960" cy="76320"/>
            <a:chOff x="7763040" y="5347800"/>
            <a:chExt cx="75960" cy="76320"/>
          </a:xfrm>
        </p:grpSpPr>
        <p:sp>
          <p:nvSpPr>
            <p:cNvPr id="185" name=""/>
            <p:cNvSpPr/>
            <p:nvPr/>
          </p:nvSpPr>
          <p:spPr>
            <a:xfrm>
              <a:off x="7763040" y="5348160"/>
              <a:ext cx="7596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763040" y="5347800"/>
              <a:ext cx="7596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268960" y="5341680"/>
            <a:ext cx="76320" cy="76320"/>
            <a:chOff x="5268960" y="5341680"/>
            <a:chExt cx="76320" cy="76320"/>
          </a:xfrm>
        </p:grpSpPr>
        <p:sp>
          <p:nvSpPr>
            <p:cNvPr id="188" name=""/>
            <p:cNvSpPr/>
            <p:nvPr/>
          </p:nvSpPr>
          <p:spPr>
            <a:xfrm>
              <a:off x="5268960" y="534204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268960" y="534168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146480" y="1492200"/>
            <a:ext cx="300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3679920"/>
            <a:ext cx="117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313240" y="3693600"/>
            <a:ext cx="0" cy="9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178760" y="36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796160" y="3652560"/>
            <a:ext cx="324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6480" y="31701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03880" y="3681360"/>
            <a:ext cx="2511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308560" y="3182760"/>
            <a:ext cx="0" cy="50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48520" y="1492200"/>
            <a:ext cx="655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148520" y="1492200"/>
            <a:ext cx="144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7803720" y="1494000"/>
            <a:ext cx="1800" cy="21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2080" y="3173400"/>
            <a:ext cx="185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308400" y="1453680"/>
            <a:ext cx="76320" cy="76320"/>
            <a:chOff x="3308400" y="1453680"/>
            <a:chExt cx="76320" cy="76320"/>
          </a:xfrm>
        </p:grpSpPr>
        <p:sp>
          <p:nvSpPr>
            <p:cNvPr id="203" name=""/>
            <p:cNvSpPr/>
            <p:nvPr/>
          </p:nvSpPr>
          <p:spPr>
            <a:xfrm>
              <a:off x="3308400" y="145404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308400" y="145368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346560" y="1371600"/>
            <a:ext cx="0" cy="2438280"/>
            <a:chOff x="3346560" y="1371600"/>
            <a:chExt cx="0" cy="2438280"/>
          </a:xfrm>
        </p:grpSpPr>
        <p:sp>
          <p:nvSpPr>
            <p:cNvPr id="206" name=""/>
            <p:cNvSpPr/>
            <p:nvPr/>
          </p:nvSpPr>
          <p:spPr>
            <a:xfrm>
              <a:off x="3346560" y="1523880"/>
              <a:ext cx="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46560" y="1981080"/>
              <a:ext cx="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46560" y="1371600"/>
              <a:ext cx="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6560" y="213336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46560" y="2590560"/>
              <a:ext cx="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46560" y="2743200"/>
              <a:ext cx="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6560" y="3200400"/>
              <a:ext cx="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46560" y="33526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46560" y="3733560"/>
              <a:ext cx="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316320" y="3649320"/>
            <a:ext cx="76320" cy="76320"/>
            <a:chOff x="3316320" y="3649320"/>
            <a:chExt cx="76320" cy="76320"/>
          </a:xfrm>
        </p:grpSpPr>
        <p:sp>
          <p:nvSpPr>
            <p:cNvPr id="216" name=""/>
            <p:cNvSpPr/>
            <p:nvPr/>
          </p:nvSpPr>
          <p:spPr>
            <a:xfrm>
              <a:off x="3316320" y="364968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316320" y="364932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308400" y="3130200"/>
            <a:ext cx="76320" cy="76320"/>
            <a:chOff x="3308400" y="3130200"/>
            <a:chExt cx="76320" cy="76320"/>
          </a:xfrm>
        </p:grpSpPr>
        <p:sp>
          <p:nvSpPr>
            <p:cNvPr id="219" name=""/>
            <p:cNvSpPr/>
            <p:nvPr/>
          </p:nvSpPr>
          <p:spPr>
            <a:xfrm>
              <a:off x="3308400" y="313056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308400" y="313020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282920" y="3832200"/>
            <a:ext cx="83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40080" y="4456080"/>
            <a:ext cx="388800" cy="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735360" y="4548240"/>
            <a:ext cx="1440" cy="192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57480" y="5719680"/>
            <a:ext cx="652320" cy="122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Equerre1" descr=""/>
          <p:cNvPicPr/>
          <p:nvPr/>
        </p:nvPicPr>
        <p:blipFill>
          <a:blip r:embed="rId3"/>
          <a:stretch/>
        </p:blipFill>
        <p:spPr>
          <a:xfrm>
            <a:off x="1447920" y="4129200"/>
            <a:ext cx="2971800" cy="2728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340080" y="4456080"/>
            <a:ext cx="395280" cy="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46320" y="5718240"/>
            <a:ext cx="11890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28680" y="6170760"/>
            <a:ext cx="1597320" cy="29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120760" y="5713560"/>
            <a:ext cx="0" cy="46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719520" y="4540320"/>
            <a:ext cx="0" cy="193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321000" y="4484520"/>
            <a:ext cx="0" cy="147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20960" y="5248080"/>
            <a:ext cx="716040" cy="214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8720" y="4943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88920" y="7761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ue de dro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70200" y="405612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ue de des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03800" y="2649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 d’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8280" y="160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Bossage extrudé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79920" y="4514400"/>
            <a:ext cx="75960" cy="76320"/>
            <a:chOff x="3679920" y="4514400"/>
            <a:chExt cx="75960" cy="76320"/>
          </a:xfrm>
        </p:grpSpPr>
        <p:sp>
          <p:nvSpPr>
            <p:cNvPr id="239" name=""/>
            <p:cNvSpPr/>
            <p:nvPr/>
          </p:nvSpPr>
          <p:spPr>
            <a:xfrm>
              <a:off x="3679920" y="4514760"/>
              <a:ext cx="7596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679920" y="4514400"/>
              <a:ext cx="7596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286080" y="5911560"/>
            <a:ext cx="76320" cy="76320"/>
            <a:chOff x="3286080" y="5911560"/>
            <a:chExt cx="76320" cy="76320"/>
          </a:xfrm>
        </p:grpSpPr>
        <p:sp>
          <p:nvSpPr>
            <p:cNvPr id="242" name=""/>
            <p:cNvSpPr/>
            <p:nvPr/>
          </p:nvSpPr>
          <p:spPr>
            <a:xfrm>
              <a:off x="3286080" y="591192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286080" y="591156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678120" y="6426000"/>
            <a:ext cx="76320" cy="76320"/>
            <a:chOff x="3678120" y="6426000"/>
            <a:chExt cx="76320" cy="76320"/>
          </a:xfrm>
        </p:grpSpPr>
        <p:sp>
          <p:nvSpPr>
            <p:cNvPr id="245" name=""/>
            <p:cNvSpPr/>
            <p:nvPr/>
          </p:nvSpPr>
          <p:spPr>
            <a:xfrm>
              <a:off x="3678120" y="642636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678120" y="642600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093760" y="5682960"/>
            <a:ext cx="76320" cy="76320"/>
            <a:chOff x="2093760" y="5682960"/>
            <a:chExt cx="76320" cy="76320"/>
          </a:xfrm>
        </p:grpSpPr>
        <p:sp>
          <p:nvSpPr>
            <p:cNvPr id="248" name=""/>
            <p:cNvSpPr/>
            <p:nvPr/>
          </p:nvSpPr>
          <p:spPr>
            <a:xfrm>
              <a:off x="2093760" y="568332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093760" y="568296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290760" y="4436640"/>
            <a:ext cx="76320" cy="76320"/>
            <a:chOff x="3290760" y="4436640"/>
            <a:chExt cx="76320" cy="76320"/>
          </a:xfrm>
        </p:grpSpPr>
        <p:sp>
          <p:nvSpPr>
            <p:cNvPr id="251" name=""/>
            <p:cNvSpPr/>
            <p:nvPr/>
          </p:nvSpPr>
          <p:spPr>
            <a:xfrm>
              <a:off x="3290760" y="443700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290760" y="443664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681360" y="4514400"/>
            <a:ext cx="76320" cy="76320"/>
            <a:chOff x="3681360" y="4514400"/>
            <a:chExt cx="76320" cy="76320"/>
          </a:xfrm>
        </p:grpSpPr>
        <p:sp>
          <p:nvSpPr>
            <p:cNvPr id="254" name=""/>
            <p:cNvSpPr/>
            <p:nvPr/>
          </p:nvSpPr>
          <p:spPr>
            <a:xfrm>
              <a:off x="3681360" y="451476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81360" y="451440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758960" y="1209600"/>
            <a:ext cx="5754600" cy="5049720"/>
            <a:chOff x="1758960" y="1209600"/>
            <a:chExt cx="5754600" cy="5049720"/>
          </a:xfrm>
        </p:grpSpPr>
        <p:pic>
          <p:nvPicPr>
            <p:cNvPr id="257" name="equerre_elève" descr=""/>
            <p:cNvPicPr/>
            <p:nvPr/>
          </p:nvPicPr>
          <p:blipFill>
            <a:blip r:embed="rId1"/>
            <a:stretch/>
          </p:blipFill>
          <p:spPr>
            <a:xfrm>
              <a:off x="1758960" y="1209600"/>
              <a:ext cx="5754600" cy="50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368440" y="1514520"/>
              <a:ext cx="91404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44400" y="3120840"/>
              <a:ext cx="73008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40240" y="4943520"/>
              <a:ext cx="761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73680" y="4714920"/>
              <a:ext cx="596520" cy="11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79360" y="3038400"/>
              <a:ext cx="152352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058840" y="3105000"/>
              <a:ext cx="1548720" cy="0"/>
              <a:chOff x="2058840" y="3105000"/>
              <a:chExt cx="1548720" cy="0"/>
            </a:xfrm>
          </p:grpSpPr>
          <p:sp>
            <p:nvSpPr>
              <p:cNvPr id="264" name=""/>
              <p:cNvSpPr/>
              <p:nvPr/>
            </p:nvSpPr>
            <p:spPr>
              <a:xfrm>
                <a:off x="2058840" y="3105000"/>
                <a:ext cx="7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06080" y="3105000"/>
                <a:ext cx="7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353680" y="3105000"/>
                <a:ext cx="7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01280" y="3105000"/>
                <a:ext cx="7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648520" y="3105000"/>
                <a:ext cx="7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96480" y="3105000"/>
                <a:ext cx="7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43720" y="3105000"/>
                <a:ext cx="7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091320" y="3105000"/>
                <a:ext cx="7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238920" y="3105000"/>
                <a:ext cx="7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86520" y="3105000"/>
                <a:ext cx="7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533760" y="3105000"/>
                <a:ext cx="7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5" name=""/>
          <p:cNvSpPr/>
          <p:nvPr/>
        </p:nvSpPr>
        <p:spPr>
          <a:xfrm>
            <a:off x="7434720" y="172080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ylindr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674240" y="5319360"/>
            <a:ext cx="2701440" cy="0"/>
            <a:chOff x="4674240" y="5319360"/>
            <a:chExt cx="2701440" cy="0"/>
          </a:xfrm>
        </p:grpSpPr>
        <p:sp>
          <p:nvSpPr>
            <p:cNvPr id="277" name=""/>
            <p:cNvSpPr/>
            <p:nvPr/>
          </p:nvSpPr>
          <p:spPr>
            <a:xfrm flipH="1">
              <a:off x="6785280" y="5319360"/>
              <a:ext cx="421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616080" y="5319360"/>
              <a:ext cx="84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291800" y="5319360"/>
              <a:ext cx="83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109560" y="5319360"/>
              <a:ext cx="422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940720" y="5319360"/>
              <a:ext cx="84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433840" y="5319360"/>
              <a:ext cx="421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265360" y="5319360"/>
              <a:ext cx="83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842720" y="5319360"/>
              <a:ext cx="337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674240" y="5319360"/>
              <a:ext cx="84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V="1">
            <a:off x="2825640" y="90612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2827080" y="3801960"/>
            <a:ext cx="4680" cy="349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50200" y="5318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87960" y="53164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434720" y="225432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imes New Roman"/>
              </a:rPr>
              <a:t>Cylindr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06520" y="1135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232000" y="3955680"/>
            <a:ext cx="51768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25840" y="54021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6240" y="54021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34720" y="278748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imes New Roman"/>
              </a:rPr>
              <a:t>Cylindr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679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17600" y="3546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46400" y="5478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246800" y="5478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620040" y="5279760"/>
            <a:ext cx="75960" cy="76320"/>
            <a:chOff x="6620040" y="5279760"/>
            <a:chExt cx="75960" cy="76320"/>
          </a:xfrm>
        </p:grpSpPr>
        <p:sp>
          <p:nvSpPr>
            <p:cNvPr id="301" name=""/>
            <p:cNvSpPr/>
            <p:nvPr/>
          </p:nvSpPr>
          <p:spPr>
            <a:xfrm>
              <a:off x="6620040" y="5280120"/>
              <a:ext cx="7596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620040" y="5279760"/>
              <a:ext cx="7596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242120" y="5279760"/>
            <a:ext cx="76320" cy="76320"/>
            <a:chOff x="7242120" y="5279760"/>
            <a:chExt cx="76320" cy="76320"/>
          </a:xfrm>
        </p:grpSpPr>
        <p:sp>
          <p:nvSpPr>
            <p:cNvPr id="304" name=""/>
            <p:cNvSpPr/>
            <p:nvPr/>
          </p:nvSpPr>
          <p:spPr>
            <a:xfrm>
              <a:off x="7242120" y="528012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242120" y="527976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748040" y="5273280"/>
            <a:ext cx="76320" cy="76320"/>
            <a:chOff x="4748040" y="5273280"/>
            <a:chExt cx="76320" cy="76320"/>
          </a:xfrm>
        </p:grpSpPr>
        <p:sp>
          <p:nvSpPr>
            <p:cNvPr id="307" name=""/>
            <p:cNvSpPr/>
            <p:nvPr/>
          </p:nvSpPr>
          <p:spPr>
            <a:xfrm>
              <a:off x="4748040" y="527364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4748040" y="527328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625920" y="1424160"/>
            <a:ext cx="300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19440" y="3611520"/>
            <a:ext cx="11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792680" y="3625920"/>
            <a:ext cx="0" cy="9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657840" y="3603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7287840" y="3575160"/>
            <a:ext cx="324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088040" y="5284440"/>
            <a:ext cx="76320" cy="76320"/>
            <a:chOff x="7088040" y="5284440"/>
            <a:chExt cx="76320" cy="76320"/>
          </a:xfrm>
        </p:grpSpPr>
        <p:sp>
          <p:nvSpPr>
            <p:cNvPr id="315" name=""/>
            <p:cNvSpPr/>
            <p:nvPr/>
          </p:nvSpPr>
          <p:spPr>
            <a:xfrm>
              <a:off x="7088040" y="5284800"/>
              <a:ext cx="76320" cy="75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088040" y="5284440"/>
              <a:ext cx="76320" cy="75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7115040" y="3619440"/>
            <a:ext cx="0" cy="1279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415200" y="2049480"/>
            <a:ext cx="990360" cy="0"/>
            <a:chOff x="6415200" y="2049480"/>
            <a:chExt cx="990360" cy="0"/>
          </a:xfrm>
        </p:grpSpPr>
        <p:sp>
          <p:nvSpPr>
            <p:cNvPr id="319" name=""/>
            <p:cNvSpPr/>
            <p:nvPr/>
          </p:nvSpPr>
          <p:spPr>
            <a:xfrm>
              <a:off x="6415200" y="204948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86440" y="2049480"/>
              <a:ext cx="921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54920" y="2049480"/>
              <a:ext cx="350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684760" y="5273280"/>
            <a:ext cx="74520" cy="74880"/>
            <a:chOff x="5684760" y="5273280"/>
            <a:chExt cx="74520" cy="74880"/>
          </a:xfrm>
        </p:grpSpPr>
        <p:sp>
          <p:nvSpPr>
            <p:cNvPr id="323" name=""/>
            <p:cNvSpPr/>
            <p:nvPr/>
          </p:nvSpPr>
          <p:spPr>
            <a:xfrm flipV="1">
              <a:off x="5684760" y="5273280"/>
              <a:ext cx="74520" cy="7452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84760" y="5273640"/>
              <a:ext cx="74520" cy="7452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 flipV="1">
            <a:off x="5713560" y="3809880"/>
            <a:ext cx="0" cy="14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713560" y="2941560"/>
            <a:ext cx="0" cy="860040"/>
            <a:chOff x="5713560" y="2941560"/>
            <a:chExt cx="0" cy="860040"/>
          </a:xfrm>
        </p:grpSpPr>
        <p:sp>
          <p:nvSpPr>
            <p:cNvPr id="327" name=""/>
            <p:cNvSpPr/>
            <p:nvPr/>
          </p:nvSpPr>
          <p:spPr>
            <a:xfrm flipV="1">
              <a:off x="5713560" y="3442680"/>
              <a:ext cx="0" cy="358920"/>
            </a:xfrm>
            <a:prstGeom prst="line">
              <a:avLst/>
            </a:prstGeom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13560" y="3306240"/>
              <a:ext cx="0" cy="60120"/>
            </a:xfrm>
            <a:prstGeom prst="line">
              <a:avLst/>
            </a:prstGeom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13560" y="2941560"/>
              <a:ext cx="0" cy="280800"/>
            </a:xfrm>
            <a:prstGeom prst="line">
              <a:avLst/>
            </a:prstGeom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V="1">
            <a:off x="5408640" y="3611160"/>
            <a:ext cx="0" cy="170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026040" y="3611160"/>
            <a:ext cx="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17880" y="68580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25920" y="3102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033960" y="2330280"/>
            <a:ext cx="1241640" cy="12924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635880" y="2316240"/>
            <a:ext cx="449280" cy="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026040" y="3116160"/>
            <a:ext cx="0" cy="50184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94520" y="2490840"/>
            <a:ext cx="182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807080" y="3116160"/>
            <a:ext cx="630000" cy="5065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flipV="1">
            <a:off x="5408640" y="3116160"/>
            <a:ext cx="0" cy="49536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82960" y="3621240"/>
            <a:ext cx="251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788000" y="3114360"/>
            <a:ext cx="0" cy="50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6621480" y="1415880"/>
            <a:ext cx="663480" cy="360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6635880" y="1419120"/>
            <a:ext cx="6508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12160" y="1593720"/>
            <a:ext cx="171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27960" y="1774800"/>
            <a:ext cx="473040" cy="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6627960" y="1424160"/>
            <a:ext cx="144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284960" y="1433520"/>
            <a:ext cx="6480" cy="217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7104240" y="1584000"/>
            <a:ext cx="0" cy="90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81520" y="3105000"/>
            <a:ext cx="1857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75480" y="60958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-Hach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0520" y="6324480"/>
            <a:ext cx="21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-Nom de la cou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92480" y="1515960"/>
            <a:ext cx="1066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41480" y="1608120"/>
            <a:ext cx="377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17720" y="1774800"/>
            <a:ext cx="37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825640" y="2314080"/>
            <a:ext cx="381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16360" y="2049480"/>
            <a:ext cx="347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25640" y="2484360"/>
            <a:ext cx="379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787480" y="1385640"/>
            <a:ext cx="76320" cy="76320"/>
            <a:chOff x="2787480" y="1385640"/>
            <a:chExt cx="76320" cy="76320"/>
          </a:xfrm>
        </p:grpSpPr>
        <p:sp>
          <p:nvSpPr>
            <p:cNvPr id="359" name=""/>
            <p:cNvSpPr/>
            <p:nvPr/>
          </p:nvSpPr>
          <p:spPr>
            <a:xfrm>
              <a:off x="2787480" y="138600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787480" y="138564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790720" y="2012760"/>
            <a:ext cx="76320" cy="76320"/>
            <a:chOff x="2790720" y="2012760"/>
            <a:chExt cx="76320" cy="76320"/>
          </a:xfrm>
        </p:grpSpPr>
        <p:sp>
          <p:nvSpPr>
            <p:cNvPr id="362" name=""/>
            <p:cNvSpPr/>
            <p:nvPr/>
          </p:nvSpPr>
          <p:spPr>
            <a:xfrm>
              <a:off x="2790720" y="2013120"/>
              <a:ext cx="76320" cy="75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790720" y="2012760"/>
              <a:ext cx="76320" cy="75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825640" y="1303200"/>
            <a:ext cx="0" cy="2438280"/>
            <a:chOff x="2825640" y="1303200"/>
            <a:chExt cx="0" cy="2438280"/>
          </a:xfrm>
        </p:grpSpPr>
        <p:sp>
          <p:nvSpPr>
            <p:cNvPr id="365" name=""/>
            <p:cNvSpPr/>
            <p:nvPr/>
          </p:nvSpPr>
          <p:spPr>
            <a:xfrm>
              <a:off x="2825640" y="1455480"/>
              <a:ext cx="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25640" y="1912680"/>
              <a:ext cx="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25640" y="1303200"/>
              <a:ext cx="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25640" y="206496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25640" y="2522160"/>
              <a:ext cx="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25640" y="2674800"/>
              <a:ext cx="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25640" y="3132000"/>
              <a:ext cx="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825640" y="3284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25640" y="3665160"/>
              <a:ext cx="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795760" y="3580920"/>
            <a:ext cx="75960" cy="76320"/>
            <a:chOff x="2795760" y="3580920"/>
            <a:chExt cx="75960" cy="76320"/>
          </a:xfrm>
        </p:grpSpPr>
        <p:sp>
          <p:nvSpPr>
            <p:cNvPr id="375" name=""/>
            <p:cNvSpPr/>
            <p:nvPr/>
          </p:nvSpPr>
          <p:spPr>
            <a:xfrm>
              <a:off x="2795760" y="3581280"/>
              <a:ext cx="7596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795760" y="3580920"/>
              <a:ext cx="7596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787480" y="3061800"/>
            <a:ext cx="76320" cy="76320"/>
            <a:chOff x="2787480" y="3061800"/>
            <a:chExt cx="76320" cy="76320"/>
          </a:xfrm>
        </p:grpSpPr>
        <p:sp>
          <p:nvSpPr>
            <p:cNvPr id="378" name=""/>
            <p:cNvSpPr/>
            <p:nvPr/>
          </p:nvSpPr>
          <p:spPr>
            <a:xfrm>
              <a:off x="2787480" y="306216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787480" y="306180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084480" y="3475080"/>
            <a:ext cx="83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670800" y="5122440"/>
            <a:ext cx="448920" cy="541440"/>
            <a:chOff x="6670800" y="5122440"/>
            <a:chExt cx="448920" cy="541440"/>
          </a:xfrm>
        </p:grpSpPr>
        <p:grpSp>
          <p:nvGrpSpPr>
            <p:cNvPr id="382" name=""/>
            <p:cNvGrpSpPr/>
            <p:nvPr/>
          </p:nvGrpSpPr>
          <p:grpSpPr>
            <a:xfrm>
              <a:off x="6677280" y="5122440"/>
              <a:ext cx="442440" cy="0"/>
              <a:chOff x="6677280" y="5122440"/>
              <a:chExt cx="442440" cy="0"/>
            </a:xfrm>
          </p:grpSpPr>
          <p:sp>
            <p:nvSpPr>
              <p:cNvPr id="383" name=""/>
              <p:cNvSpPr/>
              <p:nvPr/>
            </p:nvSpPr>
            <p:spPr>
              <a:xfrm>
                <a:off x="6677280" y="5122440"/>
                <a:ext cx="63000" cy="0"/>
              </a:xfrm>
              <a:prstGeom prst="line">
                <a:avLst/>
              </a:prstGeom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03640" y="5122440"/>
                <a:ext cx="63000" cy="0"/>
              </a:xfrm>
              <a:prstGeom prst="line">
                <a:avLst/>
              </a:prstGeom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30360" y="5122440"/>
                <a:ext cx="63000" cy="0"/>
              </a:xfrm>
              <a:prstGeom prst="line">
                <a:avLst/>
              </a:prstGeom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056720" y="5122440"/>
                <a:ext cx="63000" cy="0"/>
              </a:xfrm>
              <a:prstGeom prst="line">
                <a:avLst/>
              </a:prstGeom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670800" y="5663880"/>
              <a:ext cx="443160" cy="0"/>
              <a:chOff x="6670800" y="5663880"/>
              <a:chExt cx="443160" cy="0"/>
            </a:xfrm>
          </p:grpSpPr>
          <p:sp>
            <p:nvSpPr>
              <p:cNvPr id="388" name=""/>
              <p:cNvSpPr/>
              <p:nvPr/>
            </p:nvSpPr>
            <p:spPr>
              <a:xfrm>
                <a:off x="6670800" y="5663880"/>
                <a:ext cx="63360" cy="0"/>
              </a:xfrm>
              <a:prstGeom prst="line">
                <a:avLst/>
              </a:prstGeom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797160" y="5663880"/>
                <a:ext cx="63360" cy="0"/>
              </a:xfrm>
              <a:prstGeom prst="line">
                <a:avLst/>
              </a:prstGeom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23880" y="5663880"/>
                <a:ext cx="63000" cy="0"/>
              </a:xfrm>
              <a:prstGeom prst="line">
                <a:avLst/>
              </a:prstGeom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050600" y="5663880"/>
                <a:ext cx="63360" cy="0"/>
              </a:xfrm>
              <a:prstGeom prst="line">
                <a:avLst/>
              </a:prstGeom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7108920" y="4865760"/>
            <a:ext cx="171360" cy="950400"/>
            <a:chOff x="7108920" y="4865760"/>
            <a:chExt cx="171360" cy="950400"/>
          </a:xfrm>
        </p:grpSpPr>
        <p:grpSp>
          <p:nvGrpSpPr>
            <p:cNvPr id="393" name=""/>
            <p:cNvGrpSpPr/>
            <p:nvPr/>
          </p:nvGrpSpPr>
          <p:grpSpPr>
            <a:xfrm>
              <a:off x="7189200" y="4865760"/>
              <a:ext cx="0" cy="879120"/>
              <a:chOff x="7189200" y="4865760"/>
              <a:chExt cx="0" cy="879120"/>
            </a:xfrm>
          </p:grpSpPr>
          <p:sp>
            <p:nvSpPr>
              <p:cNvPr id="394" name=""/>
              <p:cNvSpPr/>
              <p:nvPr/>
            </p:nvSpPr>
            <p:spPr>
              <a:xfrm>
                <a:off x="7189200" y="4865760"/>
                <a:ext cx="0" cy="67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189200" y="5000760"/>
                <a:ext cx="0" cy="67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189200" y="5136120"/>
                <a:ext cx="0" cy="67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189200" y="5271480"/>
                <a:ext cx="0" cy="67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189200" y="5406840"/>
                <a:ext cx="0" cy="67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189200" y="5542200"/>
                <a:ext cx="0" cy="67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189200" y="5677560"/>
                <a:ext cx="0" cy="67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7108920" y="4932000"/>
              <a:ext cx="171360" cy="0"/>
              <a:chOff x="7108920" y="4932000"/>
              <a:chExt cx="171360" cy="0"/>
            </a:xfrm>
          </p:grpSpPr>
          <p:sp>
            <p:nvSpPr>
              <p:cNvPr id="402" name=""/>
              <p:cNvSpPr/>
              <p:nvPr/>
            </p:nvSpPr>
            <p:spPr>
              <a:xfrm>
                <a:off x="7108920" y="4932000"/>
                <a:ext cx="57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23400" y="4932000"/>
                <a:ext cx="56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108920" y="5816160"/>
              <a:ext cx="171360" cy="0"/>
              <a:chOff x="7108920" y="5816160"/>
              <a:chExt cx="171360" cy="0"/>
            </a:xfrm>
          </p:grpSpPr>
          <p:sp>
            <p:nvSpPr>
              <p:cNvPr id="405" name=""/>
              <p:cNvSpPr/>
              <p:nvPr/>
            </p:nvSpPr>
            <p:spPr>
              <a:xfrm>
                <a:off x="7108920" y="5816160"/>
                <a:ext cx="57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223400" y="5816160"/>
                <a:ext cx="56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2558880" y="1782720"/>
            <a:ext cx="533520" cy="533520"/>
          </a:xfrm>
          <a:prstGeom prst="ellipse">
            <a:avLst/>
          </a:prstGeom>
          <a:noFill/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786040" y="1576080"/>
            <a:ext cx="76320" cy="87120"/>
            <a:chOff x="2786040" y="1576080"/>
            <a:chExt cx="76320" cy="87120"/>
          </a:xfrm>
        </p:grpSpPr>
        <p:sp>
          <p:nvSpPr>
            <p:cNvPr id="409" name=""/>
            <p:cNvSpPr/>
            <p:nvPr/>
          </p:nvSpPr>
          <p:spPr>
            <a:xfrm>
              <a:off x="2786040" y="1576440"/>
              <a:ext cx="76320" cy="86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786040" y="1576080"/>
              <a:ext cx="76320" cy="86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790720" y="1733400"/>
            <a:ext cx="76320" cy="87120"/>
            <a:chOff x="2790720" y="1733400"/>
            <a:chExt cx="76320" cy="87120"/>
          </a:xfrm>
        </p:grpSpPr>
        <p:sp>
          <p:nvSpPr>
            <p:cNvPr id="412" name=""/>
            <p:cNvSpPr/>
            <p:nvPr/>
          </p:nvSpPr>
          <p:spPr>
            <a:xfrm>
              <a:off x="2790720" y="1733400"/>
              <a:ext cx="76320" cy="8712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2790720" y="1733400"/>
              <a:ext cx="76320" cy="8712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795760" y="2261880"/>
            <a:ext cx="75960" cy="87120"/>
            <a:chOff x="2795760" y="2261880"/>
            <a:chExt cx="75960" cy="87120"/>
          </a:xfrm>
        </p:grpSpPr>
        <p:sp>
          <p:nvSpPr>
            <p:cNvPr id="415" name=""/>
            <p:cNvSpPr/>
            <p:nvPr/>
          </p:nvSpPr>
          <p:spPr>
            <a:xfrm>
              <a:off x="2795760" y="2262240"/>
              <a:ext cx="75960" cy="867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2795760" y="2261880"/>
              <a:ext cx="75960" cy="867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786040" y="2430360"/>
            <a:ext cx="76320" cy="87120"/>
            <a:chOff x="2786040" y="2430360"/>
            <a:chExt cx="76320" cy="87120"/>
          </a:xfrm>
        </p:grpSpPr>
        <p:sp>
          <p:nvSpPr>
            <p:cNvPr id="418" name=""/>
            <p:cNvSpPr/>
            <p:nvPr/>
          </p:nvSpPr>
          <p:spPr>
            <a:xfrm>
              <a:off x="2786040" y="2430360"/>
              <a:ext cx="76320" cy="8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2786040" y="2430360"/>
              <a:ext cx="76320" cy="8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391000" y="5286240"/>
            <a:ext cx="74880" cy="74880"/>
            <a:chOff x="5391000" y="5286240"/>
            <a:chExt cx="74880" cy="74880"/>
          </a:xfrm>
        </p:grpSpPr>
        <p:sp>
          <p:nvSpPr>
            <p:cNvPr id="421" name=""/>
            <p:cNvSpPr/>
            <p:nvPr/>
          </p:nvSpPr>
          <p:spPr>
            <a:xfrm flipV="1">
              <a:off x="5391000" y="5286240"/>
              <a:ext cx="74880" cy="7488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91000" y="5286240"/>
              <a:ext cx="74880" cy="7488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994360" y="5278320"/>
            <a:ext cx="74520" cy="74880"/>
            <a:chOff x="5994360" y="5278320"/>
            <a:chExt cx="74520" cy="74880"/>
          </a:xfrm>
        </p:grpSpPr>
        <p:sp>
          <p:nvSpPr>
            <p:cNvPr id="424" name=""/>
            <p:cNvSpPr/>
            <p:nvPr/>
          </p:nvSpPr>
          <p:spPr>
            <a:xfrm flipV="1">
              <a:off x="5994360" y="5278320"/>
              <a:ext cx="74520" cy="7488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994360" y="5278320"/>
              <a:ext cx="74520" cy="7488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Equerre2" descr=""/>
          <p:cNvPicPr/>
          <p:nvPr/>
        </p:nvPicPr>
        <p:blipFill>
          <a:blip r:embed="rId5"/>
          <a:stretch/>
        </p:blipFill>
        <p:spPr>
          <a:xfrm>
            <a:off x="930240" y="4178160"/>
            <a:ext cx="3162240" cy="29052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3191040" y="4776840"/>
            <a:ext cx="161640" cy="2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98960" y="5592600"/>
            <a:ext cx="144360" cy="3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6880" y="4800600"/>
            <a:ext cx="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20800" y="5089680"/>
            <a:ext cx="700200" cy="13788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390760" y="1616040"/>
            <a:ext cx="861840" cy="868320"/>
            <a:chOff x="2390760" y="1616040"/>
            <a:chExt cx="861840" cy="868320"/>
          </a:xfrm>
        </p:grpSpPr>
        <p:sp>
          <p:nvSpPr>
            <p:cNvPr id="432" name=""/>
            <p:cNvSpPr/>
            <p:nvPr/>
          </p:nvSpPr>
          <p:spPr>
            <a:xfrm>
              <a:off x="2390760" y="1616040"/>
              <a:ext cx="861840" cy="868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49320" y="204948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5416560" y="5021280"/>
            <a:ext cx="609480" cy="609480"/>
            <a:chOff x="5416560" y="5021280"/>
            <a:chExt cx="609480" cy="609480"/>
          </a:xfrm>
        </p:grpSpPr>
        <p:sp>
          <p:nvSpPr>
            <p:cNvPr id="435" name=""/>
            <p:cNvSpPr/>
            <p:nvPr/>
          </p:nvSpPr>
          <p:spPr>
            <a:xfrm>
              <a:off x="5416560" y="5021280"/>
              <a:ext cx="609480" cy="609480"/>
            </a:xfrm>
            <a:prstGeom prst="ellipse">
              <a:avLst/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711760" y="5249520"/>
              <a:ext cx="0" cy="144360"/>
            </a:xfrm>
            <a:prstGeom prst="line">
              <a:avLst/>
            </a:prstGeom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412800" y="229680"/>
            <a:ext cx="2560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Enlèvement de matièr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529000" y="3092040"/>
            <a:ext cx="609480" cy="533160"/>
            <a:chOff x="2529000" y="3092040"/>
            <a:chExt cx="609480" cy="533160"/>
          </a:xfrm>
        </p:grpSpPr>
        <p:grpSp>
          <p:nvGrpSpPr>
            <p:cNvPr id="439" name=""/>
            <p:cNvGrpSpPr/>
            <p:nvPr/>
          </p:nvGrpSpPr>
          <p:grpSpPr>
            <a:xfrm>
              <a:off x="2529000" y="3092040"/>
              <a:ext cx="0" cy="533160"/>
              <a:chOff x="2529000" y="3092040"/>
              <a:chExt cx="0" cy="533160"/>
            </a:xfrm>
          </p:grpSpPr>
          <p:sp>
            <p:nvSpPr>
              <p:cNvPr id="440" name=""/>
              <p:cNvSpPr/>
              <p:nvPr/>
            </p:nvSpPr>
            <p:spPr>
              <a:xfrm flipV="1">
                <a:off x="2529000" y="3549240"/>
                <a:ext cx="0" cy="75960"/>
              </a:xfrm>
              <a:prstGeom prst="line">
                <a:avLst/>
              </a:prstGeom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2529000" y="3396960"/>
                <a:ext cx="0" cy="76320"/>
              </a:xfrm>
              <a:prstGeom prst="line">
                <a:avLst/>
              </a:prstGeom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2529000" y="3244680"/>
                <a:ext cx="0" cy="76320"/>
              </a:xfrm>
              <a:prstGeom prst="line">
                <a:avLst/>
              </a:prstGeom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2529000" y="3092040"/>
                <a:ext cx="0" cy="75960"/>
              </a:xfrm>
              <a:prstGeom prst="line">
                <a:avLst/>
              </a:prstGeom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3138480" y="3092040"/>
              <a:ext cx="0" cy="533160"/>
              <a:chOff x="3138480" y="3092040"/>
              <a:chExt cx="0" cy="533160"/>
            </a:xfrm>
          </p:grpSpPr>
          <p:sp>
            <p:nvSpPr>
              <p:cNvPr id="445" name=""/>
              <p:cNvSpPr/>
              <p:nvPr/>
            </p:nvSpPr>
            <p:spPr>
              <a:xfrm flipV="1">
                <a:off x="3138480" y="3549240"/>
                <a:ext cx="0" cy="75960"/>
              </a:xfrm>
              <a:prstGeom prst="line">
                <a:avLst/>
              </a:prstGeom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3138480" y="3396960"/>
                <a:ext cx="0" cy="76320"/>
              </a:xfrm>
              <a:prstGeom prst="line">
                <a:avLst/>
              </a:prstGeom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138480" y="3244680"/>
                <a:ext cx="0" cy="76320"/>
              </a:xfrm>
              <a:prstGeom prst="line">
                <a:avLst/>
              </a:prstGeom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3138480" y="3092040"/>
                <a:ext cx="0" cy="75960"/>
              </a:xfrm>
              <a:prstGeom prst="line">
                <a:avLst/>
              </a:prstGeom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303720" y="4754520"/>
            <a:ext cx="75960" cy="87120"/>
            <a:chOff x="3303720" y="4754520"/>
            <a:chExt cx="75960" cy="87120"/>
          </a:xfrm>
        </p:grpSpPr>
        <p:sp>
          <p:nvSpPr>
            <p:cNvPr id="450" name=""/>
            <p:cNvSpPr/>
            <p:nvPr/>
          </p:nvSpPr>
          <p:spPr>
            <a:xfrm>
              <a:off x="3303720" y="4754520"/>
              <a:ext cx="75960" cy="8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3303720" y="4754520"/>
              <a:ext cx="75960" cy="8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164040" y="5152680"/>
            <a:ext cx="75960" cy="76320"/>
            <a:chOff x="3164040" y="5152680"/>
            <a:chExt cx="75960" cy="76320"/>
          </a:xfrm>
        </p:grpSpPr>
        <p:sp>
          <p:nvSpPr>
            <p:cNvPr id="453" name=""/>
            <p:cNvSpPr/>
            <p:nvPr/>
          </p:nvSpPr>
          <p:spPr>
            <a:xfrm>
              <a:off x="3164040" y="5153040"/>
              <a:ext cx="75960" cy="75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164040" y="5152680"/>
              <a:ext cx="75960" cy="75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3294000" y="5570280"/>
            <a:ext cx="76320" cy="87120"/>
            <a:chOff x="3294000" y="5570280"/>
            <a:chExt cx="76320" cy="87120"/>
          </a:xfrm>
        </p:grpSpPr>
        <p:sp>
          <p:nvSpPr>
            <p:cNvPr id="456" name=""/>
            <p:cNvSpPr/>
            <p:nvPr/>
          </p:nvSpPr>
          <p:spPr>
            <a:xfrm>
              <a:off x="3294000" y="5570640"/>
              <a:ext cx="76320" cy="86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3294000" y="5570280"/>
              <a:ext cx="76320" cy="86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166920" y="4724280"/>
            <a:ext cx="76320" cy="87120"/>
            <a:chOff x="3166920" y="4724280"/>
            <a:chExt cx="76320" cy="87120"/>
          </a:xfrm>
        </p:grpSpPr>
        <p:sp>
          <p:nvSpPr>
            <p:cNvPr id="459" name=""/>
            <p:cNvSpPr/>
            <p:nvPr/>
          </p:nvSpPr>
          <p:spPr>
            <a:xfrm>
              <a:off x="3166920" y="4724280"/>
              <a:ext cx="76320" cy="8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3166920" y="4724280"/>
              <a:ext cx="76320" cy="87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950760" y="4189320"/>
            <a:ext cx="3124080" cy="2870280"/>
            <a:chOff x="950760" y="4189320"/>
            <a:chExt cx="3124080" cy="2870280"/>
          </a:xfrm>
        </p:grpSpPr>
        <p:pic>
          <p:nvPicPr>
            <p:cNvPr id="462" name="Equerre3" descr=""/>
            <p:cNvPicPr/>
            <p:nvPr/>
          </p:nvPicPr>
          <p:blipFill>
            <a:blip r:embed="rId6"/>
            <a:stretch/>
          </p:blipFill>
          <p:spPr>
            <a:xfrm>
              <a:off x="950760" y="4189320"/>
              <a:ext cx="312408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2779560" y="5103720"/>
              <a:ext cx="709560" cy="14472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913120" y="4854600"/>
            <a:ext cx="290520" cy="6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33640" y="5364000"/>
            <a:ext cx="274680" cy="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168720" y="4860720"/>
            <a:ext cx="75960" cy="87120"/>
            <a:chOff x="3168720" y="4860720"/>
            <a:chExt cx="75960" cy="87120"/>
          </a:xfrm>
        </p:grpSpPr>
        <p:sp>
          <p:nvSpPr>
            <p:cNvPr id="467" name=""/>
            <p:cNvSpPr/>
            <p:nvPr/>
          </p:nvSpPr>
          <p:spPr>
            <a:xfrm>
              <a:off x="3168720" y="4861080"/>
              <a:ext cx="75960" cy="867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168720" y="4860720"/>
              <a:ext cx="75960" cy="867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176640" y="5356080"/>
            <a:ext cx="76320" cy="87120"/>
            <a:chOff x="3176640" y="5356080"/>
            <a:chExt cx="76320" cy="87120"/>
          </a:xfrm>
        </p:grpSpPr>
        <p:sp>
          <p:nvSpPr>
            <p:cNvPr id="470" name=""/>
            <p:cNvSpPr/>
            <p:nvPr/>
          </p:nvSpPr>
          <p:spPr>
            <a:xfrm>
              <a:off x="3176640" y="5356080"/>
              <a:ext cx="76320" cy="8712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176640" y="5356080"/>
              <a:ext cx="76320" cy="8712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961920" y="4145040"/>
            <a:ext cx="3124080" cy="2870280"/>
            <a:chOff x="961920" y="4145040"/>
            <a:chExt cx="3124080" cy="2870280"/>
          </a:xfrm>
        </p:grpSpPr>
        <p:pic>
          <p:nvPicPr>
            <p:cNvPr id="473" name="Equerre4" descr=""/>
            <p:cNvPicPr/>
            <p:nvPr/>
          </p:nvPicPr>
          <p:blipFill>
            <a:blip r:embed="rId7"/>
            <a:stretch/>
          </p:blipFill>
          <p:spPr>
            <a:xfrm>
              <a:off x="961920" y="4145040"/>
              <a:ext cx="312408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2786040" y="5053320"/>
              <a:ext cx="709560" cy="144360"/>
            </a:xfrm>
            <a:prstGeom prst="line">
              <a:avLst/>
            </a:prstGeom>
            <a:ln w="12600">
              <a:solidFill>
                <a:srgbClr val="cc3399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2087640" y="5913360"/>
            <a:ext cx="0" cy="4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22520" y="5996160"/>
            <a:ext cx="0" cy="46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24160" y="5638680"/>
            <a:ext cx="0" cy="10051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293920" y="5943240"/>
            <a:ext cx="74520" cy="74880"/>
            <a:chOff x="2293920" y="5943240"/>
            <a:chExt cx="74520" cy="74880"/>
          </a:xfrm>
        </p:grpSpPr>
        <p:sp>
          <p:nvSpPr>
            <p:cNvPr id="479" name=""/>
            <p:cNvSpPr/>
            <p:nvPr/>
          </p:nvSpPr>
          <p:spPr>
            <a:xfrm flipV="1">
              <a:off x="2293920" y="5943240"/>
              <a:ext cx="74520" cy="7452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93920" y="5943600"/>
              <a:ext cx="74520" cy="7452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041560" y="5883120"/>
            <a:ext cx="74520" cy="74880"/>
            <a:chOff x="2041560" y="5883120"/>
            <a:chExt cx="74520" cy="74880"/>
          </a:xfrm>
        </p:grpSpPr>
        <p:sp>
          <p:nvSpPr>
            <p:cNvPr id="482" name=""/>
            <p:cNvSpPr/>
            <p:nvPr/>
          </p:nvSpPr>
          <p:spPr>
            <a:xfrm flipV="1">
              <a:off x="2041560" y="5883120"/>
              <a:ext cx="74520" cy="7488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41560" y="5883120"/>
              <a:ext cx="74520" cy="7488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492280" y="5974920"/>
            <a:ext cx="74880" cy="74880"/>
            <a:chOff x="2492280" y="5974920"/>
            <a:chExt cx="74880" cy="74880"/>
          </a:xfrm>
        </p:grpSpPr>
        <p:sp>
          <p:nvSpPr>
            <p:cNvPr id="485" name=""/>
            <p:cNvSpPr/>
            <p:nvPr/>
          </p:nvSpPr>
          <p:spPr>
            <a:xfrm flipV="1">
              <a:off x="2492280" y="5974920"/>
              <a:ext cx="74880" cy="7452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92280" y="5975280"/>
              <a:ext cx="74880" cy="7452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09:54:15Z</dcterms:created>
  <dc:creator>Antonin ARTAUD</dc:creator>
  <dc:description/>
  <dc:language>en-US</dc:language>
  <cp:lastModifiedBy>Antonin ARTAUD</cp:lastModifiedBy>
  <dcterms:modified xsi:type="dcterms:W3CDTF">2010-01-26T15:17:43Z</dcterms:modified>
  <cp:revision>53</cp:revision>
  <dc:subject/>
  <dc:title>Equerre</dc:title>
</cp:coreProperties>
</file>