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CC6-C19E-4F76-A852-C2E0E31B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3DE-9A67-436E-AFC7-3E0BA7AB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7F8-6868-4CDF-A3F9-4641649B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9B4-E7DE-476C-9A52-7276FDF9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FBF4-1413-480A-A6A3-FD69D997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8BB1-F2E2-4B62-8426-73BC67D4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D95-7CA7-4D97-A6FA-FC6E4AEA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2A8-9204-4DED-BB06-1698B20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36A7-C08C-4EA3-90BB-FD8AB321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03FB-19D8-452B-B0CD-8D9286CA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2AD2-FD86-484A-8324-82105CFE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B88-6E8D-48B5-B423-EB4F7D2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1CE4-B7B2-4CB6-826F-64A9E387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462-FCE8-4988-B824-76111EE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21CA-030A-4C30-850A-B996E6FA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A9C3-9BAD-41F0-A747-859ED25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297-B57A-49D5-BC41-B4A42225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5D2-47E3-4910-95D4-079858F7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6FB-0CF3-4B48-BD26-8B4B5D5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8C5-C8A1-470E-BD67-5AF3868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CD4-B7CD-414B-A608-2E15860D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842-2157-429D-ABC6-9AF1C1B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723-CC07-4F11-BCCB-611B1F8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497-55DA-4FF7-944D-CDB478D7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7B3-6BA7-4F52-BF17-E0F02E7AF2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814-048E-4480-B45C-00F9E53952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4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4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4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4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4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4.png"/><Relationship Id="rId72" Type="http://schemas.openxmlformats.org/officeDocument/2006/relationships/image" Target="../media/image4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5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4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4.png"/><Relationship Id="rId26" Type="http://schemas.openxmlformats.org/officeDocument/2006/relationships/image" Target="../media/image2.png"/><Relationship Id="rId27" Type="http://schemas.openxmlformats.org/officeDocument/2006/relationships/image" Target="../media/image4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8.png"/><Relationship Id="rId32" Type="http://schemas.openxmlformats.org/officeDocument/2006/relationships/image" Target="../media/image9.wmf"/><Relationship Id="rId33" Type="http://schemas.openxmlformats.org/officeDocument/2006/relationships/image" Target="../media/image4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4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4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4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4.png"/><Relationship Id="rId65" Type="http://schemas.openxmlformats.org/officeDocument/2006/relationships/image" Target="../media/image2.png"/><Relationship Id="rId6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4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4.png"/><Relationship Id="rId32" Type="http://schemas.openxmlformats.org/officeDocument/2006/relationships/image" Target="../media/image15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4.png"/><Relationship Id="rId38" Type="http://schemas.openxmlformats.org/officeDocument/2006/relationships/image" Target="../media/image16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4.png"/><Relationship Id="rId44" Type="http://schemas.openxmlformats.org/officeDocument/2006/relationships/image" Target="../media/image17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4.png"/><Relationship Id="rId50" Type="http://schemas.openxmlformats.org/officeDocument/2006/relationships/image" Target="../media/image17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4.png"/><Relationship Id="rId56" Type="http://schemas.openxmlformats.org/officeDocument/2006/relationships/image" Target="../media/image18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1.png"/><Relationship Id="rId62" Type="http://schemas.openxmlformats.org/officeDocument/2006/relationships/image" Target="../media/image2.png"/><Relationship Id="rId63" Type="http://schemas.openxmlformats.org/officeDocument/2006/relationships/image" Target="../media/image19.png"/><Relationship Id="rId64" Type="http://schemas.openxmlformats.org/officeDocument/2006/relationships/image" Target="../media/image19.png"/><Relationship Id="rId65" Type="http://schemas.openxmlformats.org/officeDocument/2006/relationships/image" Target="../media/image19.png"/><Relationship Id="rId66" Type="http://schemas.openxmlformats.org/officeDocument/2006/relationships/image" Target="../media/image19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0.png"/><Relationship Id="rId73" Type="http://schemas.openxmlformats.org/officeDocument/2006/relationships/image" Target="../media/image21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3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0.png"/><Relationship Id="rId59" Type="http://schemas.openxmlformats.org/officeDocument/2006/relationships/image" Target="../media/image24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0.png"/><Relationship Id="rId65" Type="http://schemas.openxmlformats.org/officeDocument/2006/relationships/image" Target="../media/image24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0.png"/><Relationship Id="rId71" Type="http://schemas.openxmlformats.org/officeDocument/2006/relationships/image" Target="../media/image15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0.png"/><Relationship Id="rId77" Type="http://schemas.openxmlformats.org/officeDocument/2006/relationships/image" Target="../media/image16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0.png"/><Relationship Id="rId83" Type="http://schemas.openxmlformats.org/officeDocument/2006/relationships/image" Target="../media/image25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0.png"/><Relationship Id="rId89" Type="http://schemas.openxmlformats.org/officeDocument/2006/relationships/image" Target="../media/image25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0.png"/><Relationship Id="rId95" Type="http://schemas.openxmlformats.org/officeDocument/2006/relationships/image" Target="../media/image26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11.png"/><Relationship Id="rId101" Type="http://schemas.openxmlformats.org/officeDocument/2006/relationships/image" Target="../media/image2.png"/><Relationship Id="rId102" Type="http://schemas.openxmlformats.org/officeDocument/2006/relationships/image" Target="../media/image19.png"/><Relationship Id="rId103" Type="http://schemas.openxmlformats.org/officeDocument/2006/relationships/image" Target="../media/image19.png"/><Relationship Id="rId104" Type="http://schemas.openxmlformats.org/officeDocument/2006/relationships/image" Target="../media/image19.png"/><Relationship Id="rId105" Type="http://schemas.openxmlformats.org/officeDocument/2006/relationships/image" Target="../media/image19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0.png"/><Relationship Id="rId118" Type="http://schemas.openxmlformats.org/officeDocument/2006/relationships/image" Target="../media/image21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7.png"/><Relationship Id="rId125" Type="http://schemas.openxmlformats.org/officeDocument/2006/relationships/image" Target="../media/image27.png"/><Relationship Id="rId126" Type="http://schemas.openxmlformats.org/officeDocument/2006/relationships/image" Target="../media/image4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4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8.png"/><Relationship Id="rId141" Type="http://schemas.openxmlformats.org/officeDocument/2006/relationships/image" Target="../media/image28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0.png"/><Relationship Id="rId159" Type="http://schemas.openxmlformats.org/officeDocument/2006/relationships/image" Target="../media/image11.png"/><Relationship Id="rId160" Type="http://schemas.openxmlformats.org/officeDocument/2006/relationships/image" Target="../media/image11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4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image" Target="../media/image14.png"/><Relationship Id="rId176" Type="http://schemas.openxmlformats.org/officeDocument/2006/relationships/image" Target="../media/image14.png"/><Relationship Id="rId177" Type="http://schemas.openxmlformats.org/officeDocument/2006/relationships/image" Target="../media/image4.png"/><Relationship Id="rId178" Type="http://schemas.openxmlformats.org/officeDocument/2006/relationships/image" Target="../media/image14.png"/><Relationship Id="rId179" Type="http://schemas.openxmlformats.org/officeDocument/2006/relationships/image" Target="../media/image14.png"/><Relationship Id="rId180" Type="http://schemas.openxmlformats.org/officeDocument/2006/relationships/image" Target="../media/image14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image" Target="../media/image14.png"/><Relationship Id="rId184" Type="http://schemas.openxmlformats.org/officeDocument/2006/relationships/image" Target="../media/image14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4.png"/><Relationship Id="rId189" Type="http://schemas.openxmlformats.org/officeDocument/2006/relationships/image" Target="../media/image14.png"/><Relationship Id="rId190" Type="http://schemas.openxmlformats.org/officeDocument/2006/relationships/image" Target="../media/image4.png"/><Relationship Id="rId191" Type="http://schemas.openxmlformats.org/officeDocument/2006/relationships/image" Target="../media/image14.png"/><Relationship Id="rId192" Type="http://schemas.openxmlformats.org/officeDocument/2006/relationships/image" Target="../media/image14.png"/><Relationship Id="rId193" Type="http://schemas.openxmlformats.org/officeDocument/2006/relationships/image" Target="../media/image14.png"/><Relationship Id="rId194" Type="http://schemas.openxmlformats.org/officeDocument/2006/relationships/image" Target="../media/image4.png"/><Relationship Id="rId195" Type="http://schemas.openxmlformats.org/officeDocument/2006/relationships/image" Target="../media/image14.png"/><Relationship Id="rId196" Type="http://schemas.openxmlformats.org/officeDocument/2006/relationships/image" Target="../media/image14.png"/><Relationship Id="rId197" Type="http://schemas.openxmlformats.org/officeDocument/2006/relationships/image" Target="../media/image14.png"/><Relationship Id="rId198" Type="http://schemas.openxmlformats.org/officeDocument/2006/relationships/image" Target="../media/image14.png"/><Relationship Id="rId199" Type="http://schemas.openxmlformats.org/officeDocument/2006/relationships/image" Target="../media/image14.png"/><Relationship Id="rId200" Type="http://schemas.openxmlformats.org/officeDocument/2006/relationships/image" Target="../media/image14.png"/><Relationship Id="rId201" Type="http://schemas.openxmlformats.org/officeDocument/2006/relationships/image" Target="../media/image14.png"/><Relationship Id="rId202" Type="http://schemas.openxmlformats.org/officeDocument/2006/relationships/image" Target="../media/image14.png"/><Relationship Id="rId203" Type="http://schemas.openxmlformats.org/officeDocument/2006/relationships/image" Target="../media/image12.png"/><Relationship Id="rId204" Type="http://schemas.openxmlformats.org/officeDocument/2006/relationships/image" Target="../media/image12.png"/><Relationship Id="rId205" Type="http://schemas.openxmlformats.org/officeDocument/2006/relationships/image" Target="../media/image12.png"/><Relationship Id="rId206" Type="http://schemas.openxmlformats.org/officeDocument/2006/relationships/image" Target="../media/image12.png"/><Relationship Id="rId207" Type="http://schemas.openxmlformats.org/officeDocument/2006/relationships/image" Target="../media/image12.png"/><Relationship Id="rId208" Type="http://schemas.openxmlformats.org/officeDocument/2006/relationships/image" Target="../media/image12.png"/><Relationship Id="rId209" Type="http://schemas.openxmlformats.org/officeDocument/2006/relationships/image" Target="../media/image19.png"/><Relationship Id="rId210" Type="http://schemas.openxmlformats.org/officeDocument/2006/relationships/image" Target="../media/image19.png"/><Relationship Id="rId211" Type="http://schemas.openxmlformats.org/officeDocument/2006/relationships/image" Target="../media/image19.png"/><Relationship Id="rId212" Type="http://schemas.openxmlformats.org/officeDocument/2006/relationships/image" Target="../media/image19.png"/><Relationship Id="rId213" Type="http://schemas.openxmlformats.org/officeDocument/2006/relationships/image" Target="../media/image20.png"/><Relationship Id="rId214" Type="http://schemas.openxmlformats.org/officeDocument/2006/relationships/image" Target="../media/image24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0.png"/><Relationship Id="rId220" Type="http://schemas.openxmlformats.org/officeDocument/2006/relationships/image" Target="../media/image24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0.png"/><Relationship Id="rId226" Type="http://schemas.openxmlformats.org/officeDocument/2006/relationships/image" Target="../media/image15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0.png"/><Relationship Id="rId232" Type="http://schemas.openxmlformats.org/officeDocument/2006/relationships/image" Target="../media/image16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0.png"/><Relationship Id="rId238" Type="http://schemas.openxmlformats.org/officeDocument/2006/relationships/image" Target="../media/image25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0.png"/><Relationship Id="rId244" Type="http://schemas.openxmlformats.org/officeDocument/2006/relationships/image" Target="../media/image25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0.png"/><Relationship Id="rId250" Type="http://schemas.openxmlformats.org/officeDocument/2006/relationships/image" Target="../media/image26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19.png"/><Relationship Id="rId256" Type="http://schemas.openxmlformats.org/officeDocument/2006/relationships/image" Target="../media/image19.png"/><Relationship Id="rId257" Type="http://schemas.openxmlformats.org/officeDocument/2006/relationships/image" Target="../media/image19.png"/><Relationship Id="rId258" Type="http://schemas.openxmlformats.org/officeDocument/2006/relationships/image" Target="../media/image19.png"/><Relationship Id="rId259" Type="http://schemas.openxmlformats.org/officeDocument/2006/relationships/image" Target="../media/image2.png"/><Relationship Id="rId260" Type="http://schemas.openxmlformats.org/officeDocument/2006/relationships/image" Target="../media/image20.png"/><Relationship Id="rId261" Type="http://schemas.openxmlformats.org/officeDocument/2006/relationships/image" Target="../media/image21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7596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-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Vé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Distrib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09720" y="4467240"/>
            <a:ext cx="5572080" cy="781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76320" y="2743200"/>
            <a:ext cx="4600800" cy="781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295280"/>
            <a:ext cx="16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1-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4120" y="585612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74120" y="584676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2560" y="2725560"/>
            <a:ext cx="4653000" cy="25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2560" y="2751120"/>
            <a:ext cx="25560" cy="777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2560" y="3529080"/>
            <a:ext cx="46530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0000" y="2751120"/>
            <a:ext cx="25560" cy="777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03240" y="4457880"/>
            <a:ext cx="58737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03240" y="4483080"/>
            <a:ext cx="25560" cy="777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03240" y="5261040"/>
            <a:ext cx="5873760" cy="25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51800" y="4483080"/>
            <a:ext cx="25200" cy="777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3754440"/>
            <a:ext cx="696960" cy="2108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3754440"/>
            <a:ext cx="696960" cy="25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1520" y="3780000"/>
            <a:ext cx="23760" cy="2057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837400"/>
            <a:ext cx="696960" cy="25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64360" y="3780000"/>
            <a:ext cx="24120" cy="2057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9840" y="2976480"/>
            <a:ext cx="1122480" cy="2764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2976480"/>
            <a:ext cx="1122480" cy="2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9840" y="3002040"/>
            <a:ext cx="25560" cy="225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9840" y="3227400"/>
            <a:ext cx="1122480" cy="25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36760" y="3002040"/>
            <a:ext cx="25560" cy="225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6320" y="2976480"/>
            <a:ext cx="947520" cy="2764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6320" y="2976480"/>
            <a:ext cx="947520" cy="25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6320" y="3002040"/>
            <a:ext cx="25200" cy="225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6320" y="3227400"/>
            <a:ext cx="947520" cy="25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0080" y="3002040"/>
            <a:ext cx="23760" cy="225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70520" y="2976480"/>
            <a:ext cx="1235160" cy="26352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70520" y="2976480"/>
            <a:ext cx="1235160" cy="255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0520" y="3002040"/>
            <a:ext cx="25200" cy="212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0520" y="3214800"/>
            <a:ext cx="1235160" cy="25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0120" y="3002040"/>
            <a:ext cx="25560" cy="2127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7920" y="4772160"/>
            <a:ext cx="909720" cy="2505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7920" y="4772160"/>
            <a:ext cx="909720" cy="237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77920" y="4795920"/>
            <a:ext cx="25560" cy="2016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77920" y="4997520"/>
            <a:ext cx="909720" cy="252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63880" y="4795920"/>
            <a:ext cx="23760" cy="2016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13080" y="4759200"/>
            <a:ext cx="1035000" cy="263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13080" y="4759200"/>
            <a:ext cx="1035000" cy="237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13080" y="4782960"/>
            <a:ext cx="23760" cy="2145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13080" y="4997520"/>
            <a:ext cx="1035000" cy="252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2880" y="4782960"/>
            <a:ext cx="25200" cy="21456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0160" y="4746600"/>
            <a:ext cx="1058760" cy="2635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0160" y="4746600"/>
            <a:ext cx="1058760" cy="255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10160" y="4772160"/>
            <a:ext cx="23760" cy="2127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4984920"/>
            <a:ext cx="1058760" cy="252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5160" y="4772160"/>
            <a:ext cx="23760" cy="2127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8040" y="4746600"/>
            <a:ext cx="1173240" cy="2761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18040" y="4746600"/>
            <a:ext cx="1173240" cy="2556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18040" y="4772160"/>
            <a:ext cx="25560" cy="22536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18040" y="4997520"/>
            <a:ext cx="1173240" cy="252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66080" y="4772160"/>
            <a:ext cx="25200" cy="2253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4470480"/>
            <a:ext cx="198360" cy="12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5273640"/>
            <a:ext cx="223560" cy="12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2240" y="4772160"/>
            <a:ext cx="419400" cy="2617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8040" y="482616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G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90840" y="3152880"/>
            <a:ext cx="25200" cy="6649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3102120"/>
            <a:ext cx="149040" cy="12528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28640" y="3152880"/>
            <a:ext cx="474840" cy="252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05680" y="3152880"/>
            <a:ext cx="536400" cy="252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16880" y="3152880"/>
            <a:ext cx="25200" cy="777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8480" y="3905280"/>
            <a:ext cx="3603600" cy="252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8480" y="3905280"/>
            <a:ext cx="23760" cy="87768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87800" y="4708440"/>
            <a:ext cx="149040" cy="12564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8480" y="4759200"/>
            <a:ext cx="162000" cy="237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78680" y="4834080"/>
            <a:ext cx="162000" cy="252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16920" y="2324160"/>
            <a:ext cx="23760" cy="25351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78040" y="2324160"/>
            <a:ext cx="5462640" cy="252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8040" y="2324160"/>
            <a:ext cx="25200" cy="752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90800" y="3002040"/>
            <a:ext cx="149040" cy="12528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78040" y="3052800"/>
            <a:ext cx="325440" cy="237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6040" y="4859280"/>
            <a:ext cx="25560" cy="61452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40040" y="4808520"/>
            <a:ext cx="150840" cy="125280"/>
          </a:xfrm>
          <a:custGeom>
            <a:avLst/>
            <a:gdLst/>
            <a:ahLst/>
            <a:rect l="l" t="t" r="r" b="b"/>
            <a:pathLst>
              <a:path w="95" h="79">
                <a:moveTo>
                  <a:pt x="95" y="40"/>
                </a:moveTo>
                <a:lnTo>
                  <a:pt x="0" y="79"/>
                </a:lnTo>
                <a:lnTo>
                  <a:pt x="0" y="0"/>
                </a:lnTo>
                <a:lnTo>
                  <a:pt x="95" y="40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8640" y="4859280"/>
            <a:ext cx="424080" cy="255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2209680"/>
            <a:ext cx="2181240" cy="263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3809880"/>
            <a:ext cx="722520" cy="23832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84440" y="1835280"/>
            <a:ext cx="5748120" cy="12600"/>
            <a:chOff x="1684440" y="1835280"/>
            <a:chExt cx="5748120" cy="12600"/>
          </a:xfrm>
        </p:grpSpPr>
        <p:sp>
          <p:nvSpPr>
            <p:cNvPr id="208" name=""/>
            <p:cNvSpPr/>
            <p:nvPr/>
          </p:nvSpPr>
          <p:spPr>
            <a:xfrm>
              <a:off x="1684440" y="1835280"/>
              <a:ext cx="100080" cy="126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0880" y="1835280"/>
              <a:ext cx="87480" cy="1260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46160" y="1835280"/>
              <a:ext cx="100080" cy="1260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82960" y="1835280"/>
              <a:ext cx="99720" cy="1260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20840" y="1835280"/>
              <a:ext cx="85680" cy="1260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4680" y="1835280"/>
              <a:ext cx="100080" cy="1260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81120" y="1835280"/>
              <a:ext cx="87480" cy="1260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06760" y="1835280"/>
              <a:ext cx="87120" cy="126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2040" y="1835280"/>
              <a:ext cx="98640" cy="1260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68480" y="1835280"/>
              <a:ext cx="87480" cy="1260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4120" y="1835280"/>
              <a:ext cx="98280" cy="1260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30560" y="1835280"/>
              <a:ext cx="100080" cy="1260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67000" y="1835280"/>
              <a:ext cx="87480" cy="1260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92640" y="1835280"/>
              <a:ext cx="99720" cy="1260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9080" y="1835280"/>
              <a:ext cx="87120" cy="1260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54360" y="1835280"/>
              <a:ext cx="87480" cy="1260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1835280"/>
              <a:ext cx="98280" cy="1260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6440" y="1835280"/>
              <a:ext cx="100080" cy="1260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52880" y="1835280"/>
              <a:ext cx="87480" cy="1260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78160" y="1835280"/>
              <a:ext cx="100080" cy="126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4960" y="1835280"/>
              <a:ext cx="87120" cy="1260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52840" y="1835280"/>
              <a:ext cx="87480" cy="1260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6680" y="1835280"/>
              <a:ext cx="100080" cy="1260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2320" y="1835280"/>
              <a:ext cx="87120" cy="1260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26160" y="1835280"/>
              <a:ext cx="99720" cy="1260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4040" y="1835280"/>
              <a:ext cx="100080" cy="1260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0480" y="1835280"/>
              <a:ext cx="87480" cy="1260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26120" y="1835280"/>
              <a:ext cx="100080" cy="1260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2560" y="1835280"/>
              <a:ext cx="100080" cy="1260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0800" y="1835280"/>
              <a:ext cx="87120" cy="1260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4640" y="1835280"/>
              <a:ext cx="100080" cy="1260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2520" y="1835280"/>
              <a:ext cx="98640" cy="1260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9320" y="1835280"/>
              <a:ext cx="87120" cy="1260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4600" y="1835280"/>
              <a:ext cx="98280" cy="1260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1040" y="1835280"/>
              <a:ext cx="87480" cy="1260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97480" y="1835280"/>
              <a:ext cx="87480" cy="1260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23120" y="1835280"/>
              <a:ext cx="100080" cy="1260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9560" y="1835280"/>
              <a:ext cx="87480" cy="1260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84840" y="1835280"/>
              <a:ext cx="100080" cy="1260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10480" y="1835280"/>
              <a:ext cx="98280" cy="126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46920" y="1835280"/>
              <a:ext cx="87480" cy="1260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72200" y="1835280"/>
              <a:ext cx="98640" cy="126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09000" y="1835280"/>
              <a:ext cx="87120" cy="1260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5440" y="1835280"/>
              <a:ext cx="87120" cy="1260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602480" y="5925960"/>
            <a:ext cx="12600" cy="10008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02480" y="5800680"/>
            <a:ext cx="12600" cy="8748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02480" y="5662440"/>
            <a:ext cx="12600" cy="10008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02480" y="5537160"/>
            <a:ext cx="12600" cy="10008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02480" y="5411880"/>
            <a:ext cx="12600" cy="8712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02480" y="5273640"/>
            <a:ext cx="12600" cy="10008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02480" y="5135400"/>
            <a:ext cx="12600" cy="10008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02480" y="4608360"/>
            <a:ext cx="12600" cy="874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02480" y="4483080"/>
            <a:ext cx="12600" cy="100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02480" y="4357800"/>
            <a:ext cx="12600" cy="871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02480" y="4219560"/>
            <a:ext cx="12600" cy="10008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02480" y="4081320"/>
            <a:ext cx="12600" cy="10008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02480" y="3956040"/>
            <a:ext cx="12600" cy="8748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02480" y="3817800"/>
            <a:ext cx="12600" cy="10008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02480" y="3679920"/>
            <a:ext cx="12600" cy="1000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02480" y="3554280"/>
            <a:ext cx="12600" cy="874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02480" y="3416400"/>
            <a:ext cx="12600" cy="100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02480" y="3278160"/>
            <a:ext cx="12600" cy="10008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02480" y="3152880"/>
            <a:ext cx="12600" cy="8712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02480" y="3014640"/>
            <a:ext cx="12600" cy="10008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2480" y="2889360"/>
            <a:ext cx="12600" cy="8712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02480" y="2098800"/>
            <a:ext cx="12600" cy="8712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02480" y="1960560"/>
            <a:ext cx="12600" cy="10008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02480" y="1835280"/>
            <a:ext cx="12600" cy="8712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90560" y="5938920"/>
            <a:ext cx="12960" cy="10008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90560" y="5813280"/>
            <a:ext cx="12960" cy="8748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90560" y="5675400"/>
            <a:ext cx="12960" cy="10008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90560" y="5549760"/>
            <a:ext cx="12960" cy="10008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90560" y="5424480"/>
            <a:ext cx="12960" cy="8748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0560" y="5286240"/>
            <a:ext cx="12960" cy="10008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0560" y="5148360"/>
            <a:ext cx="12960" cy="10008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90560" y="5022720"/>
            <a:ext cx="12960" cy="8748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4884840"/>
            <a:ext cx="12960" cy="10008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4746600"/>
            <a:ext cx="12960" cy="10008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90560" y="4621320"/>
            <a:ext cx="12960" cy="8712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90560" y="4495680"/>
            <a:ext cx="12960" cy="10008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90560" y="4370400"/>
            <a:ext cx="12960" cy="8748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0560" y="4232160"/>
            <a:ext cx="12960" cy="10008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0560" y="4094280"/>
            <a:ext cx="12960" cy="9972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90560" y="3830760"/>
            <a:ext cx="12960" cy="9972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90560" y="3692520"/>
            <a:ext cx="12960" cy="10008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90560" y="3567240"/>
            <a:ext cx="12960" cy="8712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0560" y="3429000"/>
            <a:ext cx="12960" cy="10008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0560" y="3290760"/>
            <a:ext cx="12960" cy="10008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90560" y="3165480"/>
            <a:ext cx="12960" cy="8748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90560" y="3027240"/>
            <a:ext cx="12960" cy="10008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90560" y="2901960"/>
            <a:ext cx="12960" cy="8748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90560" y="2763720"/>
            <a:ext cx="12960" cy="8748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0560" y="2625840"/>
            <a:ext cx="12960" cy="9972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90560" y="2500200"/>
            <a:ext cx="12960" cy="8748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90560" y="2374920"/>
            <a:ext cx="12960" cy="10008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90560" y="2236680"/>
            <a:ext cx="12960" cy="10008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90560" y="2111400"/>
            <a:ext cx="12960" cy="8712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90560" y="1973160"/>
            <a:ext cx="12960" cy="10008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0560" y="1847880"/>
            <a:ext cx="12960" cy="8712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7000" y="3252960"/>
            <a:ext cx="349560" cy="51408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  <a:close/>
              </a:path>
            </a:pathLst>
          </a:cu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77000" y="3252960"/>
            <a:ext cx="349560" cy="51408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9960" y="2976480"/>
            <a:ext cx="149040" cy="12564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80120" y="3027240"/>
            <a:ext cx="1622520" cy="2556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74840" y="4821120"/>
            <a:ext cx="17496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5040" y="4884840"/>
            <a:ext cx="312840" cy="363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71920" y="482112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22880" y="4884840"/>
            <a:ext cx="261720" cy="363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4200" y="4821120"/>
            <a:ext cx="17496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57760" y="4884840"/>
            <a:ext cx="249480" cy="363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485928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78680" y="4921200"/>
            <a:ext cx="423720" cy="38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36920" y="304020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36760" y="3102120"/>
            <a:ext cx="312840" cy="3780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8520" y="304020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10080" y="3102120"/>
            <a:ext cx="411120" cy="37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01000" y="3352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26200" y="60008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32760" y="46926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e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91640" y="4915080"/>
            <a:ext cx="552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71000" y="548640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nergie d’ent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85880" y="6029280"/>
            <a:ext cx="5748120" cy="12600"/>
            <a:chOff x="1685880" y="6029280"/>
            <a:chExt cx="5748120" cy="12600"/>
          </a:xfrm>
        </p:grpSpPr>
        <p:sp>
          <p:nvSpPr>
            <p:cNvPr id="329" name=""/>
            <p:cNvSpPr/>
            <p:nvPr/>
          </p:nvSpPr>
          <p:spPr>
            <a:xfrm>
              <a:off x="1685880" y="6029280"/>
              <a:ext cx="100080" cy="12600"/>
            </a:xfrm>
            <a:prstGeom prst="rect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22320" y="6029280"/>
              <a:ext cx="87480" cy="12600"/>
            </a:xfrm>
            <a:prstGeom prst="rect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7600" y="6029280"/>
              <a:ext cx="100080" cy="12600"/>
            </a:xfrm>
            <a:prstGeom prst="rect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4400" y="6029280"/>
              <a:ext cx="99720" cy="12600"/>
            </a:xfrm>
            <a:prstGeom prst="rect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22280" y="6029280"/>
              <a:ext cx="85680" cy="1260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46120" y="6029280"/>
              <a:ext cx="100080" cy="12600"/>
            </a:xfrm>
            <a:prstGeom prst="rect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82560" y="6029280"/>
              <a:ext cx="87480" cy="1260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08200" y="6029280"/>
              <a:ext cx="87120" cy="12600"/>
            </a:xfrm>
            <a:prstGeom prst="rect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3480" y="6029280"/>
              <a:ext cx="98640" cy="12600"/>
            </a:xfrm>
            <a:prstGeom prst="rect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69920" y="6029280"/>
              <a:ext cx="87480" cy="12600"/>
            </a:xfrm>
            <a:prstGeom prst="rect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95560" y="6029280"/>
              <a:ext cx="98280" cy="12600"/>
            </a:xfrm>
            <a:prstGeom prst="rect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32000" y="6029280"/>
              <a:ext cx="100080" cy="12600"/>
            </a:xfrm>
            <a:prstGeom prst="rect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68440" y="6029280"/>
              <a:ext cx="87480" cy="12600"/>
            </a:xfrm>
            <a:prstGeom prst="rect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94080" y="6029280"/>
              <a:ext cx="99720" cy="12600"/>
            </a:xfrm>
            <a:prstGeom prst="rect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30520" y="6029280"/>
              <a:ext cx="87120" cy="12600"/>
            </a:xfrm>
            <a:prstGeom prst="rect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5800" y="6029280"/>
              <a:ext cx="87480" cy="12600"/>
            </a:xfrm>
            <a:prstGeom prst="rect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81440" y="6029280"/>
              <a:ext cx="98280" cy="12600"/>
            </a:xfrm>
            <a:prstGeom prst="rect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7880" y="6029280"/>
              <a:ext cx="100080" cy="12600"/>
            </a:xfrm>
            <a:prstGeom prst="rect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54320" y="6029280"/>
              <a:ext cx="87480" cy="12600"/>
            </a:xfrm>
            <a:prstGeom prst="rect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79600" y="6029280"/>
              <a:ext cx="100080" cy="12600"/>
            </a:xfrm>
            <a:prstGeom prst="rect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6400" y="6029280"/>
              <a:ext cx="87120" cy="12600"/>
            </a:xfrm>
            <a:prstGeom prst="rect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4280" y="6029280"/>
              <a:ext cx="87480" cy="12600"/>
            </a:xfrm>
            <a:prstGeom prst="rect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8120" y="6029280"/>
              <a:ext cx="100080" cy="12600"/>
            </a:xfrm>
            <a:prstGeom prst="rect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03760" y="6029280"/>
              <a:ext cx="87120" cy="12600"/>
            </a:xfrm>
            <a:prstGeom prst="rect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27600" y="6029280"/>
              <a:ext cx="99720" cy="12600"/>
            </a:xfrm>
            <a:prstGeom prst="rect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65480" y="6029280"/>
              <a:ext cx="100080" cy="12600"/>
            </a:xfrm>
            <a:prstGeom prst="rect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1920" y="6029280"/>
              <a:ext cx="87480" cy="1260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7560" y="6029280"/>
              <a:ext cx="100080" cy="12600"/>
            </a:xfrm>
            <a:prstGeom prst="rect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64000" y="6029280"/>
              <a:ext cx="100080" cy="12600"/>
            </a:xfrm>
            <a:prstGeom prst="rect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2240" y="6029280"/>
              <a:ext cx="87120" cy="12600"/>
            </a:xfrm>
            <a:prstGeom prst="rect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26080" y="6029280"/>
              <a:ext cx="100080" cy="12600"/>
            </a:xfrm>
            <a:prstGeom prst="rect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63960" y="6029280"/>
              <a:ext cx="98640" cy="12600"/>
            </a:xfrm>
            <a:prstGeom prst="rect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00760" y="6029280"/>
              <a:ext cx="87120" cy="12600"/>
            </a:xfrm>
            <a:prstGeom prst="rect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6040" y="6029280"/>
              <a:ext cx="98280" cy="12600"/>
            </a:xfrm>
            <a:prstGeom prst="rect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2480" y="6029280"/>
              <a:ext cx="87480" cy="12600"/>
            </a:xfrm>
            <a:prstGeom prst="rect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98920" y="6029280"/>
              <a:ext cx="87480" cy="12600"/>
            </a:xfrm>
            <a:prstGeom prst="rect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24560" y="6029280"/>
              <a:ext cx="100080" cy="12600"/>
            </a:xfrm>
            <a:prstGeom prst="rect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61000" y="6029280"/>
              <a:ext cx="87480" cy="12600"/>
            </a:xfrm>
            <a:prstGeom prst="rect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86280" y="6029280"/>
              <a:ext cx="100080" cy="12600"/>
            </a:xfrm>
            <a:prstGeom prst="rect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11920" y="6029280"/>
              <a:ext cx="98280" cy="12600"/>
            </a:xfrm>
            <a:prstGeom prst="rect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8360" y="6029280"/>
              <a:ext cx="87480" cy="12600"/>
            </a:xfrm>
            <a:prstGeom prst="rect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3640" y="6029280"/>
              <a:ext cx="98640" cy="12600"/>
            </a:xfrm>
            <a:prstGeom prst="rect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0440" y="6029280"/>
              <a:ext cx="87120" cy="12600"/>
            </a:xfrm>
            <a:prstGeom prst="rect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6880" y="6029280"/>
              <a:ext cx="87120" cy="12600"/>
            </a:xfrm>
            <a:prstGeom prst="rect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496280" y="6029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86560" y="18381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5240" y="477504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LIM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6280" y="476712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0000"/>
                </a:solidFill>
                <a:latin typeface="Times New Roman"/>
              </a:rPr>
              <a:t>DISTRIB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61280" y="474804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0000"/>
                </a:solidFill>
                <a:latin typeface="Times New Roman"/>
              </a:rPr>
              <a:t>CONVERT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4520" y="4762440"/>
            <a:ext cx="12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53160" y="2209680"/>
            <a:ext cx="22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randeurs physiques à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41200" y="37908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29040" y="386712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sig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73440" y="2994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TRA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89600" y="297504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COMMUNI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0800" y="298620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0000"/>
                </a:solidFill>
                <a:latin typeface="Times New Roman"/>
              </a:rPr>
              <a:t>ACQUER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41400" y="2095560"/>
            <a:ext cx="13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formations 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’autres systè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t aux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omme/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6960" y="543096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Times New Roman"/>
              </a:rPr>
              <a:t>Chaîne d’éner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95320" y="1847880"/>
            <a:ext cx="20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Chaîne d’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Vé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Distrib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129528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-Compor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5578560"/>
            <a:ext cx="14554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210920" y="1760400"/>
            <a:ext cx="1007280" cy="340920"/>
            <a:chOff x="4210920" y="1760400"/>
            <a:chExt cx="1007280" cy="340920"/>
          </a:xfrm>
        </p:grpSpPr>
        <p:sp>
          <p:nvSpPr>
            <p:cNvPr id="394" name=""/>
            <p:cNvSpPr/>
            <p:nvPr/>
          </p:nvSpPr>
          <p:spPr>
            <a:xfrm>
              <a:off x="4210920" y="176040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dd0000"/>
                  </a:solidFill>
                  <a:latin typeface="Arial"/>
                </a:rPr>
                <a:t>     </a:t>
              </a:r>
              <a:r>
                <a:rPr b="1" lang="fr-FR" sz="1100" spc="-1" strike="noStrike">
                  <a:solidFill>
                    <a:srgbClr val="dd0000"/>
                  </a:solidFill>
                  <a:latin typeface="Arial"/>
                </a:rPr>
                <a:t>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16320" y="1933560"/>
              <a:ext cx="100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dd0000"/>
                  </a:solidFill>
                  <a:latin typeface="Arial"/>
                </a:rPr>
                <a:t>ELEMENTA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055240" y="1905120"/>
            <a:ext cx="1260360" cy="574560"/>
            <a:chOff x="2055240" y="1905120"/>
            <a:chExt cx="1260360" cy="574560"/>
          </a:xfrm>
        </p:grpSpPr>
        <p:sp>
          <p:nvSpPr>
            <p:cNvPr id="397" name=""/>
            <p:cNvSpPr/>
            <p:nvPr/>
          </p:nvSpPr>
          <p:spPr>
            <a:xfrm>
              <a:off x="2125440" y="1905120"/>
              <a:ext cx="1190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autorisation de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2920" y="2103120"/>
              <a:ext cx="105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240" y="231192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ET ordre de déb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973480" y="2143080"/>
            <a:ext cx="907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dd"/>
                </a:solidFill>
                <a:latin typeface="Arial"/>
              </a:rPr>
              <a:t>fin de l’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45560" y="5673600"/>
            <a:ext cx="130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  =   P   x   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000" y="530532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Fo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15920" y="5305320"/>
            <a:ext cx="5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Pr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0240" y="530532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Su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36040" y="6146640"/>
            <a:ext cx="26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99"/>
                </a:solidFill>
                <a:latin typeface="Arial"/>
              </a:rPr>
              <a:t>d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46320" y="614664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99"/>
                </a:solidFill>
                <a:latin typeface="Arial"/>
              </a:rPr>
              <a:t>b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66680" y="614664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99"/>
                </a:solidFill>
                <a:latin typeface="Arial"/>
              </a:rPr>
              <a:t>cm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80760" y="4273560"/>
            <a:ext cx="1125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Vérin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eff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730520" y="3362400"/>
            <a:ext cx="2417760" cy="8650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730520" y="3305160"/>
            <a:ext cx="6107040" cy="1868400"/>
            <a:chOff x="1730520" y="3305160"/>
            <a:chExt cx="6107040" cy="1868400"/>
          </a:xfrm>
        </p:grpSpPr>
        <p:grpSp>
          <p:nvGrpSpPr>
            <p:cNvPr id="411" name=""/>
            <p:cNvGrpSpPr/>
            <p:nvPr/>
          </p:nvGrpSpPr>
          <p:grpSpPr>
            <a:xfrm>
              <a:off x="5889600" y="4514760"/>
              <a:ext cx="1478160" cy="658800"/>
              <a:chOff x="5889600" y="4514760"/>
              <a:chExt cx="1478160" cy="658800"/>
            </a:xfrm>
          </p:grpSpPr>
          <p:sp>
            <p:nvSpPr>
              <p:cNvPr id="412" name=""/>
              <p:cNvSpPr/>
              <p:nvPr/>
            </p:nvSpPr>
            <p:spPr>
              <a:xfrm>
                <a:off x="6164280" y="4722840"/>
                <a:ext cx="1192320" cy="81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64280" y="4722840"/>
                <a:ext cx="1192320" cy="23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64280" y="4746600"/>
                <a:ext cx="22320" cy="33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64280" y="4780080"/>
                <a:ext cx="1192320" cy="23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32840" y="4746600"/>
                <a:ext cx="23760" cy="33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1836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21836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  <a:moveTo>
                      <a:pt x="79" y="44"/>
                    </a:move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51"/>
                    </a:lnTo>
                    <a:lnTo>
                      <a:pt x="79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29" y="66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65" y="15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44"/>
                    </a:lnTo>
                    <a:lnTo>
                      <a:pt x="79" y="4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89600" y="4514760"/>
                <a:ext cx="1317600" cy="237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89600" y="4514760"/>
                <a:ext cx="22320" cy="519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89600" y="5011560"/>
                <a:ext cx="1317600" cy="22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83440" y="4514760"/>
                <a:ext cx="23760" cy="2318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83440" y="4780080"/>
                <a:ext cx="23760" cy="2538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29520" y="4722840"/>
                <a:ext cx="138240" cy="810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29520" y="4722840"/>
                <a:ext cx="138240" cy="237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29520" y="4746600"/>
                <a:ext cx="23760" cy="334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29520" y="4780080"/>
                <a:ext cx="138240" cy="237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43640" y="4746600"/>
                <a:ext cx="24120" cy="334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72120" y="4527720"/>
                <a:ext cx="114480" cy="4950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72120" y="4527720"/>
                <a:ext cx="114480" cy="2196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72120" y="4549680"/>
                <a:ext cx="23760" cy="45108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072120" y="5000760"/>
                <a:ext cx="114480" cy="2196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64280" y="4549680"/>
                <a:ext cx="22320" cy="4510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46840" y="4930920"/>
                <a:ext cx="102960" cy="6984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29" y="0"/>
                    </a:moveTo>
                    <a:lnTo>
                      <a:pt x="0" y="44"/>
                    </a:lnTo>
                    <a:lnTo>
                      <a:pt x="65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46840" y="4930920"/>
                <a:ext cx="125280" cy="91800"/>
              </a:xfrm>
              <a:custGeom>
                <a:avLst/>
                <a:gdLst/>
                <a:ahLst/>
                <a:rect l="l" t="t" r="r" b="b"/>
                <a:pathLst>
                  <a:path w="79" h="58">
                    <a:moveTo>
                      <a:pt x="29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14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65" y="58"/>
                    </a:lnTo>
                    <a:lnTo>
                      <a:pt x="29" y="14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89760" y="4930920"/>
                <a:ext cx="103320" cy="6984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29" y="0"/>
                    </a:moveTo>
                    <a:lnTo>
                      <a:pt x="0" y="44"/>
                    </a:lnTo>
                    <a:lnTo>
                      <a:pt x="65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89760" y="4930920"/>
                <a:ext cx="125280" cy="91800"/>
              </a:xfrm>
              <a:custGeom>
                <a:avLst/>
                <a:gdLst/>
                <a:ahLst/>
                <a:rect l="l" t="t" r="r" b="b"/>
                <a:pathLst>
                  <a:path w="79" h="58">
                    <a:moveTo>
                      <a:pt x="29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14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65" y="58"/>
                    </a:lnTo>
                    <a:lnTo>
                      <a:pt x="29" y="14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04080" y="5011560"/>
                <a:ext cx="21960" cy="13824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35840" y="5011560"/>
                <a:ext cx="22320" cy="1620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0" name="" descr=""/>
            <p:cNvPicPr/>
            <p:nvPr/>
          </p:nvPicPr>
          <p:blipFill>
            <a:blip r:embed="rId31"/>
            <a:stretch/>
          </p:blipFill>
          <p:spPr>
            <a:xfrm>
              <a:off x="4686480" y="3305160"/>
              <a:ext cx="31510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2"/>
            <a:stretch/>
          </p:blipFill>
          <p:spPr>
            <a:xfrm>
              <a:off x="1730520" y="3362400"/>
              <a:ext cx="2417760" cy="8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2303640" y="4514760"/>
              <a:ext cx="1477800" cy="623880"/>
              <a:chOff x="2303640" y="4514760"/>
              <a:chExt cx="1477800" cy="62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577960" y="4722840"/>
                <a:ext cx="1192320" cy="8100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77960" y="4722840"/>
                <a:ext cx="1192320" cy="2376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77960" y="4746600"/>
                <a:ext cx="22320" cy="334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77960" y="4780080"/>
                <a:ext cx="1192320" cy="2376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46520" y="4746600"/>
                <a:ext cx="23760" cy="334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63204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3204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  <a:moveTo>
                      <a:pt x="79" y="44"/>
                    </a:move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51"/>
                    </a:lnTo>
                    <a:lnTo>
                      <a:pt x="79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29" y="66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65" y="15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44"/>
                    </a:lnTo>
                    <a:lnTo>
                      <a:pt x="79" y="44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3640" y="4514760"/>
                <a:ext cx="1317600" cy="2376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03640" y="4514760"/>
                <a:ext cx="21960" cy="5191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03640" y="5011560"/>
                <a:ext cx="131760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597120" y="4514760"/>
                <a:ext cx="24120" cy="23184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97120" y="4780080"/>
                <a:ext cx="24120" cy="25380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43200" y="4722840"/>
                <a:ext cx="138240" cy="8100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43200" y="4722840"/>
                <a:ext cx="138240" cy="2376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43200" y="4746600"/>
                <a:ext cx="23760" cy="3348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43200" y="4780080"/>
                <a:ext cx="138240" cy="2376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57680" y="4746600"/>
                <a:ext cx="23760" cy="3348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77960" y="4549680"/>
                <a:ext cx="160560" cy="461880"/>
              </a:xfrm>
              <a:custGeom>
                <a:avLst/>
                <a:gdLst/>
                <a:ahLst/>
                <a:rect l="l" t="t" r="r" b="b"/>
                <a:pathLst>
                  <a:path w="101" h="291">
                    <a:moveTo>
                      <a:pt x="0" y="1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01" y="276"/>
                    </a:lnTo>
                    <a:lnTo>
                      <a:pt x="101" y="291"/>
                    </a:lnTo>
                    <a:lnTo>
                      <a:pt x="87" y="291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27360" y="454968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108" h="298">
                    <a:moveTo>
                      <a:pt x="94" y="0"/>
                    </a:moveTo>
                    <a:lnTo>
                      <a:pt x="108" y="0"/>
                    </a:lnTo>
                    <a:lnTo>
                      <a:pt x="108" y="15"/>
                    </a:lnTo>
                    <a:lnTo>
                      <a:pt x="14" y="298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94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76400" y="4549680"/>
                <a:ext cx="147960" cy="473040"/>
              </a:xfrm>
              <a:custGeom>
                <a:avLst/>
                <a:gdLst/>
                <a:ahLst/>
                <a:rect l="l" t="t" r="r" b="b"/>
                <a:pathLst>
                  <a:path w="93" h="298">
                    <a:moveTo>
                      <a:pt x="0" y="1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3" y="284"/>
                    </a:lnTo>
                    <a:lnTo>
                      <a:pt x="93" y="298"/>
                    </a:lnTo>
                    <a:lnTo>
                      <a:pt x="79" y="298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02040" y="4549680"/>
                <a:ext cx="195120" cy="473040"/>
              </a:xfrm>
              <a:custGeom>
                <a:avLst/>
                <a:gdLst/>
                <a:ahLst/>
                <a:rect l="l" t="t" r="r" b="b"/>
                <a:pathLst>
                  <a:path w="123" h="298">
                    <a:moveTo>
                      <a:pt x="108" y="0"/>
                    </a:moveTo>
                    <a:lnTo>
                      <a:pt x="123" y="0"/>
                    </a:lnTo>
                    <a:lnTo>
                      <a:pt x="123" y="15"/>
                    </a:lnTo>
                    <a:lnTo>
                      <a:pt x="14" y="298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108" y="0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73400" y="4549680"/>
                <a:ext cx="138240" cy="461880"/>
              </a:xfrm>
              <a:custGeom>
                <a:avLst/>
                <a:gdLst/>
                <a:ahLst/>
                <a:rect l="l" t="t" r="r" b="b"/>
                <a:pathLst>
                  <a:path w="87" h="291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87" y="276"/>
                    </a:lnTo>
                    <a:lnTo>
                      <a:pt x="87" y="291"/>
                    </a:lnTo>
                    <a:lnTo>
                      <a:pt x="72" y="291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00480" y="4549680"/>
                <a:ext cx="160200" cy="473040"/>
              </a:xfrm>
              <a:custGeom>
                <a:avLst/>
                <a:gdLst/>
                <a:ahLst/>
                <a:rect l="l" t="t" r="r" b="b"/>
                <a:pathLst>
                  <a:path w="101" h="298">
                    <a:moveTo>
                      <a:pt x="86" y="0"/>
                    </a:moveTo>
                    <a:lnTo>
                      <a:pt x="101" y="0"/>
                    </a:lnTo>
                    <a:lnTo>
                      <a:pt x="101" y="15"/>
                    </a:lnTo>
                    <a:lnTo>
                      <a:pt x="14" y="298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86" y="0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36920" y="4549680"/>
                <a:ext cx="149400" cy="473040"/>
              </a:xfrm>
              <a:custGeom>
                <a:avLst/>
                <a:gdLst/>
                <a:ahLst/>
                <a:rect l="l" t="t" r="r" b="b"/>
                <a:pathLst>
                  <a:path w="94" h="298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94" y="284"/>
                    </a:lnTo>
                    <a:lnTo>
                      <a:pt x="94" y="298"/>
                    </a:lnTo>
                    <a:lnTo>
                      <a:pt x="80" y="298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86160" y="4527720"/>
                <a:ext cx="114120" cy="49500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86160" y="4527720"/>
                <a:ext cx="114120" cy="219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86160" y="4549680"/>
                <a:ext cx="23760" cy="45108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486160" y="5000760"/>
                <a:ext cx="114120" cy="2196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7960" y="4549680"/>
                <a:ext cx="22320" cy="45108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64000" y="4780080"/>
                <a:ext cx="57240" cy="220680"/>
              </a:xfrm>
              <a:custGeom>
                <a:avLst/>
                <a:gdLst/>
                <a:ahLst/>
                <a:rect l="l" t="t" r="r" b="b"/>
                <a:pathLst>
                  <a:path w="36" h="139">
                    <a:moveTo>
                      <a:pt x="21" y="0"/>
                    </a:moveTo>
                    <a:lnTo>
                      <a:pt x="36" y="0"/>
                    </a:lnTo>
                    <a:lnTo>
                      <a:pt x="36" y="15"/>
                    </a:lnTo>
                    <a:lnTo>
                      <a:pt x="14" y="139"/>
                    </a:lnTo>
                    <a:lnTo>
                      <a:pt x="0" y="139"/>
                    </a:lnTo>
                    <a:lnTo>
                      <a:pt x="0" y="124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95440" y="5011560"/>
                <a:ext cx="22320" cy="12708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36760" y="4941720"/>
                <a:ext cx="103320" cy="6984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29" y="0"/>
                    </a:moveTo>
                    <a:lnTo>
                      <a:pt x="0" y="44"/>
                    </a:lnTo>
                    <a:lnTo>
                      <a:pt x="65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36760" y="4941720"/>
                <a:ext cx="127080" cy="9216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29" y="0"/>
                    </a:moveTo>
                    <a:lnTo>
                      <a:pt x="44" y="0"/>
                    </a:lnTo>
                    <a:lnTo>
                      <a:pt x="44" y="15"/>
                    </a:lnTo>
                    <a:lnTo>
                      <a:pt x="15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80" y="44"/>
                    </a:lnTo>
                    <a:lnTo>
                      <a:pt x="80" y="58"/>
                    </a:lnTo>
                    <a:lnTo>
                      <a:pt x="65" y="58"/>
                    </a:lnTo>
                    <a:lnTo>
                      <a:pt x="29" y="15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80" y="44"/>
                    </a:lnTo>
                    <a:lnTo>
                      <a:pt x="80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6011640" y="4251240"/>
            <a:ext cx="1139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Vérin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eff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81160" y="281952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I-Vér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54440" y="22399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22600" y="546264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06480" y="5464080"/>
            <a:ext cx="1526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65600" y="5584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38640" y="581328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22800" y="5767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245120" y="5384880"/>
            <a:ext cx="311040" cy="337320"/>
            <a:chOff x="4245120" y="5384880"/>
            <a:chExt cx="311040" cy="337320"/>
          </a:xfrm>
        </p:grpSpPr>
        <p:sp>
          <p:nvSpPr>
            <p:cNvPr id="485" name=""/>
            <p:cNvSpPr/>
            <p:nvPr/>
          </p:nvSpPr>
          <p:spPr>
            <a:xfrm>
              <a:off x="4245120" y="5384880"/>
              <a:ext cx="3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27560" y="54198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260440" y="5386320"/>
            <a:ext cx="1251000" cy="764280"/>
            <a:chOff x="2260440" y="5386320"/>
            <a:chExt cx="1251000" cy="764280"/>
          </a:xfrm>
        </p:grpSpPr>
        <p:sp>
          <p:nvSpPr>
            <p:cNvPr id="488" name=""/>
            <p:cNvSpPr/>
            <p:nvPr/>
          </p:nvSpPr>
          <p:spPr>
            <a:xfrm>
              <a:off x="3436920" y="5700600"/>
              <a:ext cx="74520" cy="1224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52760" y="5699160"/>
              <a:ext cx="930240" cy="1220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2320" y="5386320"/>
              <a:ext cx="228600" cy="75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2320" y="5386320"/>
              <a:ext cx="122040" cy="762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6228800">
              <a:off x="1996920" y="5654520"/>
              <a:ext cx="76176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78160" y="538632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78160" y="614844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0920" y="5707080"/>
              <a:ext cx="89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83000" y="5821200"/>
              <a:ext cx="89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232000" y="540216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01920" y="5769000"/>
            <a:ext cx="8380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Vé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V-Distrib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1600200"/>
            <a:ext cx="35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V-Distributeurs (Cf Docu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008080" cy="1890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308200" y="283212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rifice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39640" y="489420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rifice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93840" y="492120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rific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133720"/>
            <a:ext cx="91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Comman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manuelle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95280" y="2708280"/>
            <a:ext cx="777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ess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appel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77440" y="518148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Cor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91160" y="28177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540320" y="3486240"/>
            <a:ext cx="2998800" cy="1152000"/>
            <a:chOff x="4540320" y="3486240"/>
            <a:chExt cx="2998800" cy="1152000"/>
          </a:xfrm>
        </p:grpSpPr>
        <p:sp>
          <p:nvSpPr>
            <p:cNvPr id="512" name=""/>
            <p:cNvSpPr/>
            <p:nvPr/>
          </p:nvSpPr>
          <p:spPr>
            <a:xfrm>
              <a:off x="6208560" y="3486240"/>
              <a:ext cx="1303560" cy="1147320"/>
            </a:xfrm>
            <a:custGeom>
              <a:avLst/>
              <a:gdLst/>
              <a:ahLst/>
              <a:rect l="l" t="t" r="r" b="b"/>
              <a:pathLst>
                <a:path w="821" h="723">
                  <a:moveTo>
                    <a:pt x="0" y="0"/>
                  </a:moveTo>
                  <a:lnTo>
                    <a:pt x="821" y="0"/>
                  </a:lnTo>
                  <a:lnTo>
                    <a:pt x="821" y="723"/>
                  </a:lnTo>
                  <a:lnTo>
                    <a:pt x="305" y="723"/>
                  </a:lnTo>
                  <a:lnTo>
                    <a:pt x="305" y="585"/>
                  </a:lnTo>
                  <a:lnTo>
                    <a:pt x="694" y="585"/>
                  </a:lnTo>
                  <a:lnTo>
                    <a:pt x="694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13520" y="4141440"/>
              <a:ext cx="564840" cy="477720"/>
            </a:xfrm>
            <a:custGeom>
              <a:avLst/>
              <a:gdLst/>
              <a:ahLst/>
              <a:rect l="l" t="t" r="r" b="b"/>
              <a:pathLst>
                <a:path w="356" h="301">
                  <a:moveTo>
                    <a:pt x="0" y="0"/>
                  </a:moveTo>
                  <a:lnTo>
                    <a:pt x="118" y="0"/>
                  </a:lnTo>
                  <a:lnTo>
                    <a:pt x="118" y="181"/>
                  </a:lnTo>
                  <a:lnTo>
                    <a:pt x="356" y="181"/>
                  </a:lnTo>
                  <a:lnTo>
                    <a:pt x="356" y="301"/>
                  </a:lnTo>
                  <a:lnTo>
                    <a:pt x="0" y="30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99120" y="3486240"/>
              <a:ext cx="955440" cy="437760"/>
            </a:xfrm>
            <a:custGeom>
              <a:avLst/>
              <a:gdLst/>
              <a:ahLst/>
              <a:rect l="l" t="t" r="r" b="b"/>
              <a:pathLst>
                <a:path w="602" h="276">
                  <a:moveTo>
                    <a:pt x="0" y="0"/>
                  </a:moveTo>
                  <a:lnTo>
                    <a:pt x="602" y="0"/>
                  </a:lnTo>
                  <a:lnTo>
                    <a:pt x="602" y="121"/>
                  </a:lnTo>
                  <a:lnTo>
                    <a:pt x="119" y="121"/>
                  </a:lnTo>
                  <a:lnTo>
                    <a:pt x="119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38760" y="385416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38760" y="385416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24720" y="3868560"/>
              <a:ext cx="1404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24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4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6576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43920" y="3854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43920" y="3854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9520" y="3868560"/>
              <a:ext cx="1440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295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295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70920" y="3868560"/>
              <a:ext cx="2664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723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23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59720" y="3868560"/>
              <a:ext cx="1260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59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59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993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803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803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67360" y="3868560"/>
              <a:ext cx="1296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73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673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073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09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09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8320" y="3868560"/>
              <a:ext cx="1260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883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883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279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089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089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95960" y="3868560"/>
              <a:ext cx="1296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959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359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78720" y="3882960"/>
              <a:ext cx="631800" cy="122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51720" y="4224240"/>
              <a:ext cx="645840" cy="122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8720" y="3746160"/>
              <a:ext cx="108000" cy="5871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0"/>
            <a:stretch/>
          </p:blipFill>
          <p:spPr>
            <a:xfrm>
              <a:off x="5508720" y="3746160"/>
              <a:ext cx="108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508720" y="3746160"/>
              <a:ext cx="108000" cy="12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8720" y="3759120"/>
              <a:ext cx="14040" cy="5598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8720" y="4319280"/>
              <a:ext cx="108000" cy="140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02320" y="3759120"/>
              <a:ext cx="14400" cy="5598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96120" y="3746160"/>
              <a:ext cx="108000" cy="58716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26"/>
            <a:stretch/>
          </p:blipFill>
          <p:spPr>
            <a:xfrm>
              <a:off x="6396120" y="3746160"/>
              <a:ext cx="108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396120" y="3746160"/>
              <a:ext cx="10800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96120" y="3759120"/>
              <a:ext cx="14040" cy="5598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96120" y="4319280"/>
              <a:ext cx="108000" cy="140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89720" y="3759120"/>
              <a:ext cx="14400" cy="5598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24360" y="3841560"/>
              <a:ext cx="551160" cy="39492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32"/>
            <a:stretch/>
          </p:blipFill>
          <p:spPr>
            <a:xfrm>
              <a:off x="5724360" y="3841560"/>
              <a:ext cx="55116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724360" y="3841560"/>
              <a:ext cx="551160" cy="12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24360" y="3854160"/>
              <a:ext cx="12960" cy="36972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24360" y="4224240"/>
              <a:ext cx="551160" cy="122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61120" y="3854160"/>
              <a:ext cx="14400" cy="36972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3690720"/>
              <a:ext cx="135000" cy="723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38"/>
            <a:stretch/>
          </p:blipFill>
          <p:spPr>
            <a:xfrm>
              <a:off x="6489720" y="3690720"/>
              <a:ext cx="1350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6489720" y="3690720"/>
              <a:ext cx="135000" cy="1404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89720" y="3705120"/>
              <a:ext cx="14400" cy="69624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9720" y="4401720"/>
              <a:ext cx="135000" cy="126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11760" y="3705120"/>
              <a:ext cx="12960" cy="69624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75520" y="3690720"/>
              <a:ext cx="134640" cy="71064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44"/>
            <a:stretch/>
          </p:blipFill>
          <p:spPr>
            <a:xfrm>
              <a:off x="6275520" y="3690720"/>
              <a:ext cx="13464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275520" y="3690720"/>
              <a:ext cx="134640" cy="1404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5520" y="3705120"/>
              <a:ext cx="12600" cy="6822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5520" y="4387680"/>
              <a:ext cx="134640" cy="1368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96120" y="3705120"/>
              <a:ext cx="14040" cy="6822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02320" y="3690720"/>
              <a:ext cx="135000" cy="71064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50"/>
            <a:stretch/>
          </p:blipFill>
          <p:spPr>
            <a:xfrm>
              <a:off x="5602320" y="3690720"/>
              <a:ext cx="13500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602320" y="3690720"/>
              <a:ext cx="135000" cy="1404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02320" y="3705120"/>
              <a:ext cx="14400" cy="6822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02320" y="4387680"/>
              <a:ext cx="135000" cy="1368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24360" y="3705120"/>
              <a:ext cx="12960" cy="6822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88120" y="3678120"/>
              <a:ext cx="134640" cy="7362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56"/>
            <a:stretch/>
          </p:blipFill>
          <p:spPr>
            <a:xfrm>
              <a:off x="5388120" y="3678120"/>
              <a:ext cx="134640" cy="7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388120" y="3678120"/>
              <a:ext cx="134640" cy="1224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88120" y="3690720"/>
              <a:ext cx="12600" cy="71064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88120" y="4401720"/>
              <a:ext cx="134640" cy="126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08720" y="3690720"/>
              <a:ext cx="14040" cy="71064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30920" y="4414680"/>
              <a:ext cx="820800" cy="20448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13520" y="3486240"/>
              <a:ext cx="2312640" cy="1404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35720" y="367812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5720" y="367812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10160" y="4346280"/>
              <a:ext cx="66960" cy="41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34" y="1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17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0160" y="4346280"/>
              <a:ext cx="66960" cy="41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34" y="1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23120" y="3690720"/>
              <a:ext cx="54000" cy="410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23120" y="3690720"/>
              <a:ext cx="54000" cy="410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22760" y="4346280"/>
              <a:ext cx="52560" cy="550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22760" y="4346280"/>
              <a:ext cx="52560" cy="550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12120" y="3486240"/>
              <a:ext cx="14040" cy="113328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24720" y="3690720"/>
              <a:ext cx="14040" cy="71064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10520" y="3690720"/>
              <a:ext cx="14040" cy="72360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26120" y="4619520"/>
              <a:ext cx="2313000" cy="1368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00720" y="4414680"/>
              <a:ext cx="1909800" cy="1368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40320" y="3951000"/>
              <a:ext cx="860400" cy="19008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73"/>
            <a:stretch/>
          </p:blipFill>
          <p:spPr>
            <a:xfrm>
              <a:off x="4540320" y="3951000"/>
              <a:ext cx="860400" cy="1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540320" y="3951000"/>
              <a:ext cx="860400" cy="1224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40320" y="3963600"/>
              <a:ext cx="14040" cy="16488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40320" y="4128840"/>
              <a:ext cx="860400" cy="1224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88120" y="3963600"/>
              <a:ext cx="12600" cy="16488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15120" y="3678120"/>
              <a:ext cx="1895400" cy="1224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00560" y="3486240"/>
              <a:ext cx="0" cy="4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10280" y="4105080"/>
              <a:ext cx="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46640" y="349848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0640" y="34984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72240" y="4425840"/>
              <a:ext cx="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26240" y="4425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42000" y="44258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96000" y="4425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3048120" y="2514600"/>
            <a:ext cx="1752480" cy="15238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553080" y="3048120"/>
            <a:ext cx="152640" cy="76176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15000" y="3054240"/>
            <a:ext cx="457200" cy="5335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010280" y="3124080"/>
            <a:ext cx="533520" cy="8384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410080" y="4524120"/>
            <a:ext cx="390600" cy="3524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660720" y="4533480"/>
            <a:ext cx="273240" cy="3430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809880" y="4495320"/>
            <a:ext cx="1524240" cy="7621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1752480" y="2590920"/>
            <a:ext cx="152640" cy="167616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437920" y="4343400"/>
            <a:ext cx="685800" cy="9144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214880" y="4299120"/>
            <a:ext cx="1643040" cy="269640"/>
          </a:xfrm>
          <a:custGeom>
            <a:avLst/>
            <a:gdLst/>
            <a:ahLst/>
            <a:rect l="l" t="t" r="r" b="b"/>
            <a:pathLst>
              <a:path w="1035" h="170">
                <a:moveTo>
                  <a:pt x="1035" y="88"/>
                </a:moveTo>
                <a:lnTo>
                  <a:pt x="1035" y="88"/>
                </a:lnTo>
                <a:lnTo>
                  <a:pt x="1035" y="96"/>
                </a:lnTo>
                <a:lnTo>
                  <a:pt x="1035" y="103"/>
                </a:lnTo>
                <a:lnTo>
                  <a:pt x="1027" y="111"/>
                </a:lnTo>
                <a:lnTo>
                  <a:pt x="1027" y="111"/>
                </a:lnTo>
                <a:lnTo>
                  <a:pt x="1020" y="118"/>
                </a:lnTo>
                <a:lnTo>
                  <a:pt x="1020" y="125"/>
                </a:lnTo>
                <a:lnTo>
                  <a:pt x="1012" y="133"/>
                </a:lnTo>
                <a:lnTo>
                  <a:pt x="1012" y="133"/>
                </a:lnTo>
                <a:lnTo>
                  <a:pt x="1005" y="140"/>
                </a:lnTo>
                <a:lnTo>
                  <a:pt x="998" y="140"/>
                </a:lnTo>
                <a:lnTo>
                  <a:pt x="990" y="148"/>
                </a:lnTo>
                <a:lnTo>
                  <a:pt x="983" y="155"/>
                </a:lnTo>
                <a:lnTo>
                  <a:pt x="975" y="155"/>
                </a:lnTo>
                <a:lnTo>
                  <a:pt x="968" y="155"/>
                </a:lnTo>
                <a:lnTo>
                  <a:pt x="961" y="162"/>
                </a:lnTo>
                <a:lnTo>
                  <a:pt x="953" y="162"/>
                </a:lnTo>
                <a:lnTo>
                  <a:pt x="946" y="162"/>
                </a:lnTo>
                <a:lnTo>
                  <a:pt x="931" y="170"/>
                </a:lnTo>
                <a:lnTo>
                  <a:pt x="924" y="170"/>
                </a:lnTo>
                <a:lnTo>
                  <a:pt x="916" y="170"/>
                </a:lnTo>
                <a:lnTo>
                  <a:pt x="909" y="170"/>
                </a:lnTo>
                <a:lnTo>
                  <a:pt x="902" y="170"/>
                </a:lnTo>
                <a:lnTo>
                  <a:pt x="133" y="170"/>
                </a:lnTo>
                <a:lnTo>
                  <a:pt x="125" y="170"/>
                </a:lnTo>
                <a:lnTo>
                  <a:pt x="111" y="170"/>
                </a:lnTo>
                <a:lnTo>
                  <a:pt x="103" y="170"/>
                </a:lnTo>
                <a:lnTo>
                  <a:pt x="96" y="170"/>
                </a:lnTo>
                <a:lnTo>
                  <a:pt x="89" y="162"/>
                </a:lnTo>
                <a:lnTo>
                  <a:pt x="81" y="162"/>
                </a:lnTo>
                <a:lnTo>
                  <a:pt x="74" y="162"/>
                </a:lnTo>
                <a:lnTo>
                  <a:pt x="59" y="155"/>
                </a:lnTo>
                <a:lnTo>
                  <a:pt x="52" y="155"/>
                </a:lnTo>
                <a:lnTo>
                  <a:pt x="44" y="148"/>
                </a:lnTo>
                <a:lnTo>
                  <a:pt x="37" y="148"/>
                </a:lnTo>
                <a:lnTo>
                  <a:pt x="37" y="140"/>
                </a:lnTo>
                <a:lnTo>
                  <a:pt x="29" y="140"/>
                </a:lnTo>
                <a:lnTo>
                  <a:pt x="22" y="133"/>
                </a:lnTo>
                <a:lnTo>
                  <a:pt x="15" y="125"/>
                </a:lnTo>
                <a:lnTo>
                  <a:pt x="15" y="125"/>
                </a:lnTo>
                <a:lnTo>
                  <a:pt x="7" y="118"/>
                </a:lnTo>
                <a:lnTo>
                  <a:pt x="7" y="111"/>
                </a:lnTo>
                <a:lnTo>
                  <a:pt x="7" y="103"/>
                </a:lnTo>
                <a:lnTo>
                  <a:pt x="0" y="96"/>
                </a:lnTo>
                <a:lnTo>
                  <a:pt x="0" y="96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1"/>
                </a:lnTo>
                <a:lnTo>
                  <a:pt x="0" y="74"/>
                </a:lnTo>
                <a:lnTo>
                  <a:pt x="0" y="66"/>
                </a:lnTo>
                <a:lnTo>
                  <a:pt x="7" y="59"/>
                </a:lnTo>
                <a:lnTo>
                  <a:pt x="7" y="59"/>
                </a:lnTo>
                <a:lnTo>
                  <a:pt x="15" y="52"/>
                </a:lnTo>
                <a:lnTo>
                  <a:pt x="15" y="44"/>
                </a:lnTo>
                <a:lnTo>
                  <a:pt x="22" y="37"/>
                </a:lnTo>
                <a:lnTo>
                  <a:pt x="22" y="37"/>
                </a:lnTo>
                <a:lnTo>
                  <a:pt x="29" y="29"/>
                </a:lnTo>
                <a:lnTo>
                  <a:pt x="37" y="29"/>
                </a:lnTo>
                <a:lnTo>
                  <a:pt x="44" y="22"/>
                </a:lnTo>
                <a:lnTo>
                  <a:pt x="52" y="15"/>
                </a:lnTo>
                <a:lnTo>
                  <a:pt x="59" y="15"/>
                </a:lnTo>
                <a:lnTo>
                  <a:pt x="66" y="15"/>
                </a:lnTo>
                <a:lnTo>
                  <a:pt x="74" y="7"/>
                </a:lnTo>
                <a:lnTo>
                  <a:pt x="81" y="7"/>
                </a:lnTo>
                <a:lnTo>
                  <a:pt x="89" y="7"/>
                </a:lnTo>
                <a:lnTo>
                  <a:pt x="103" y="0"/>
                </a:lnTo>
                <a:lnTo>
                  <a:pt x="111" y="0"/>
                </a:lnTo>
                <a:lnTo>
                  <a:pt x="118" y="0"/>
                </a:lnTo>
                <a:lnTo>
                  <a:pt x="125" y="0"/>
                </a:lnTo>
                <a:lnTo>
                  <a:pt x="133" y="0"/>
                </a:lnTo>
                <a:lnTo>
                  <a:pt x="902" y="0"/>
                </a:lnTo>
                <a:lnTo>
                  <a:pt x="909" y="0"/>
                </a:lnTo>
                <a:lnTo>
                  <a:pt x="924" y="0"/>
                </a:lnTo>
                <a:lnTo>
                  <a:pt x="931" y="0"/>
                </a:lnTo>
                <a:lnTo>
                  <a:pt x="939" y="0"/>
                </a:lnTo>
                <a:lnTo>
                  <a:pt x="946" y="7"/>
                </a:lnTo>
                <a:lnTo>
                  <a:pt x="953" y="7"/>
                </a:lnTo>
                <a:lnTo>
                  <a:pt x="961" y="7"/>
                </a:lnTo>
                <a:lnTo>
                  <a:pt x="975" y="15"/>
                </a:lnTo>
                <a:lnTo>
                  <a:pt x="983" y="15"/>
                </a:lnTo>
                <a:lnTo>
                  <a:pt x="990" y="22"/>
                </a:lnTo>
                <a:lnTo>
                  <a:pt x="998" y="22"/>
                </a:lnTo>
                <a:lnTo>
                  <a:pt x="998" y="29"/>
                </a:lnTo>
                <a:lnTo>
                  <a:pt x="1005" y="29"/>
                </a:lnTo>
                <a:lnTo>
                  <a:pt x="1012" y="37"/>
                </a:lnTo>
                <a:lnTo>
                  <a:pt x="1020" y="44"/>
                </a:lnTo>
                <a:lnTo>
                  <a:pt x="1020" y="44"/>
                </a:lnTo>
                <a:lnTo>
                  <a:pt x="1027" y="52"/>
                </a:lnTo>
                <a:lnTo>
                  <a:pt x="1027" y="59"/>
                </a:lnTo>
                <a:lnTo>
                  <a:pt x="1027" y="66"/>
                </a:lnTo>
                <a:lnTo>
                  <a:pt x="1035" y="74"/>
                </a:lnTo>
                <a:lnTo>
                  <a:pt x="1035" y="74"/>
                </a:lnTo>
                <a:lnTo>
                  <a:pt x="1035" y="81"/>
                </a:lnTo>
                <a:lnTo>
                  <a:pt x="1035" y="88"/>
                </a:lnTo>
                <a:lnTo>
                  <a:pt x="1035" y="8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38560" y="4299120"/>
            <a:ext cx="1859040" cy="2952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64200" y="228600"/>
            <a:ext cx="1771560" cy="304920"/>
          </a:xfrm>
          <a:custGeom>
            <a:avLst/>
            <a:gdLst/>
            <a:ahLst/>
            <a:rect l="l" t="t" r="r" b="b"/>
            <a:pathLst>
              <a:path w="1116" h="192">
                <a:moveTo>
                  <a:pt x="1116" y="96"/>
                </a:moveTo>
                <a:lnTo>
                  <a:pt x="1116" y="103"/>
                </a:lnTo>
                <a:lnTo>
                  <a:pt x="1116" y="111"/>
                </a:lnTo>
                <a:lnTo>
                  <a:pt x="1116" y="118"/>
                </a:lnTo>
                <a:lnTo>
                  <a:pt x="1109" y="126"/>
                </a:lnTo>
                <a:lnTo>
                  <a:pt x="1109" y="126"/>
                </a:lnTo>
                <a:lnTo>
                  <a:pt x="1101" y="133"/>
                </a:lnTo>
                <a:lnTo>
                  <a:pt x="1101" y="140"/>
                </a:lnTo>
                <a:lnTo>
                  <a:pt x="1094" y="148"/>
                </a:lnTo>
                <a:lnTo>
                  <a:pt x="1094" y="155"/>
                </a:lnTo>
                <a:lnTo>
                  <a:pt x="1086" y="155"/>
                </a:lnTo>
                <a:lnTo>
                  <a:pt x="1079" y="162"/>
                </a:lnTo>
                <a:lnTo>
                  <a:pt x="1072" y="170"/>
                </a:lnTo>
                <a:lnTo>
                  <a:pt x="1064" y="170"/>
                </a:lnTo>
                <a:lnTo>
                  <a:pt x="1057" y="177"/>
                </a:lnTo>
                <a:lnTo>
                  <a:pt x="1049" y="177"/>
                </a:lnTo>
                <a:lnTo>
                  <a:pt x="1042" y="185"/>
                </a:lnTo>
                <a:lnTo>
                  <a:pt x="1035" y="185"/>
                </a:lnTo>
                <a:lnTo>
                  <a:pt x="1027" y="185"/>
                </a:lnTo>
                <a:lnTo>
                  <a:pt x="1012" y="192"/>
                </a:lnTo>
                <a:lnTo>
                  <a:pt x="1005" y="192"/>
                </a:lnTo>
                <a:lnTo>
                  <a:pt x="998" y="192"/>
                </a:lnTo>
                <a:lnTo>
                  <a:pt x="990" y="192"/>
                </a:lnTo>
                <a:lnTo>
                  <a:pt x="983" y="192"/>
                </a:lnTo>
                <a:lnTo>
                  <a:pt x="133" y="192"/>
                </a:lnTo>
                <a:lnTo>
                  <a:pt x="125" y="192"/>
                </a:lnTo>
                <a:lnTo>
                  <a:pt x="111" y="192"/>
                </a:lnTo>
                <a:lnTo>
                  <a:pt x="103" y="192"/>
                </a:lnTo>
                <a:lnTo>
                  <a:pt x="96" y="185"/>
                </a:lnTo>
                <a:lnTo>
                  <a:pt x="89" y="185"/>
                </a:lnTo>
                <a:lnTo>
                  <a:pt x="81" y="185"/>
                </a:lnTo>
                <a:lnTo>
                  <a:pt x="74" y="177"/>
                </a:lnTo>
                <a:lnTo>
                  <a:pt x="59" y="177"/>
                </a:lnTo>
                <a:lnTo>
                  <a:pt x="52" y="177"/>
                </a:lnTo>
                <a:lnTo>
                  <a:pt x="44" y="170"/>
                </a:lnTo>
                <a:lnTo>
                  <a:pt x="37" y="162"/>
                </a:lnTo>
                <a:lnTo>
                  <a:pt x="37" y="162"/>
                </a:lnTo>
                <a:lnTo>
                  <a:pt x="29" y="155"/>
                </a:lnTo>
                <a:lnTo>
                  <a:pt x="22" y="148"/>
                </a:lnTo>
                <a:lnTo>
                  <a:pt x="15" y="148"/>
                </a:lnTo>
                <a:lnTo>
                  <a:pt x="15" y="140"/>
                </a:lnTo>
                <a:lnTo>
                  <a:pt x="7" y="133"/>
                </a:lnTo>
                <a:lnTo>
                  <a:pt x="7" y="126"/>
                </a:lnTo>
                <a:lnTo>
                  <a:pt x="7" y="118"/>
                </a:lnTo>
                <a:lnTo>
                  <a:pt x="0" y="111"/>
                </a:lnTo>
                <a:lnTo>
                  <a:pt x="0" y="103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89"/>
                </a:lnTo>
                <a:lnTo>
                  <a:pt x="0" y="81"/>
                </a:lnTo>
                <a:lnTo>
                  <a:pt x="0" y="74"/>
                </a:lnTo>
                <a:lnTo>
                  <a:pt x="7" y="66"/>
                </a:lnTo>
                <a:lnTo>
                  <a:pt x="7" y="66"/>
                </a:lnTo>
                <a:lnTo>
                  <a:pt x="15" y="59"/>
                </a:lnTo>
                <a:lnTo>
                  <a:pt x="15" y="52"/>
                </a:lnTo>
                <a:lnTo>
                  <a:pt x="22" y="44"/>
                </a:lnTo>
                <a:lnTo>
                  <a:pt x="22" y="37"/>
                </a:lnTo>
                <a:lnTo>
                  <a:pt x="29" y="37"/>
                </a:lnTo>
                <a:lnTo>
                  <a:pt x="37" y="30"/>
                </a:lnTo>
                <a:lnTo>
                  <a:pt x="44" y="22"/>
                </a:lnTo>
                <a:lnTo>
                  <a:pt x="52" y="22"/>
                </a:lnTo>
                <a:lnTo>
                  <a:pt x="59" y="15"/>
                </a:lnTo>
                <a:lnTo>
                  <a:pt x="66" y="15"/>
                </a:lnTo>
                <a:lnTo>
                  <a:pt x="74" y="7"/>
                </a:lnTo>
                <a:lnTo>
                  <a:pt x="81" y="7"/>
                </a:lnTo>
                <a:lnTo>
                  <a:pt x="89" y="7"/>
                </a:lnTo>
                <a:lnTo>
                  <a:pt x="103" y="0"/>
                </a:lnTo>
                <a:lnTo>
                  <a:pt x="111" y="0"/>
                </a:lnTo>
                <a:lnTo>
                  <a:pt x="118" y="0"/>
                </a:lnTo>
                <a:lnTo>
                  <a:pt x="125" y="0"/>
                </a:lnTo>
                <a:lnTo>
                  <a:pt x="133" y="0"/>
                </a:lnTo>
                <a:lnTo>
                  <a:pt x="983" y="0"/>
                </a:lnTo>
                <a:lnTo>
                  <a:pt x="990" y="0"/>
                </a:lnTo>
                <a:lnTo>
                  <a:pt x="1005" y="0"/>
                </a:lnTo>
                <a:lnTo>
                  <a:pt x="1012" y="0"/>
                </a:lnTo>
                <a:lnTo>
                  <a:pt x="1020" y="7"/>
                </a:lnTo>
                <a:lnTo>
                  <a:pt x="1027" y="7"/>
                </a:lnTo>
                <a:lnTo>
                  <a:pt x="1035" y="7"/>
                </a:lnTo>
                <a:lnTo>
                  <a:pt x="1042" y="15"/>
                </a:lnTo>
                <a:lnTo>
                  <a:pt x="1057" y="15"/>
                </a:lnTo>
                <a:lnTo>
                  <a:pt x="1064" y="15"/>
                </a:lnTo>
                <a:lnTo>
                  <a:pt x="1072" y="22"/>
                </a:lnTo>
                <a:lnTo>
                  <a:pt x="1079" y="30"/>
                </a:lnTo>
                <a:lnTo>
                  <a:pt x="1079" y="30"/>
                </a:lnTo>
                <a:lnTo>
                  <a:pt x="1086" y="37"/>
                </a:lnTo>
                <a:lnTo>
                  <a:pt x="1094" y="44"/>
                </a:lnTo>
                <a:lnTo>
                  <a:pt x="1101" y="52"/>
                </a:lnTo>
                <a:lnTo>
                  <a:pt x="1101" y="52"/>
                </a:lnTo>
                <a:lnTo>
                  <a:pt x="1109" y="59"/>
                </a:lnTo>
                <a:lnTo>
                  <a:pt x="1109" y="66"/>
                </a:lnTo>
                <a:lnTo>
                  <a:pt x="1109" y="74"/>
                </a:lnTo>
                <a:lnTo>
                  <a:pt x="1116" y="81"/>
                </a:lnTo>
                <a:lnTo>
                  <a:pt x="1116" y="89"/>
                </a:lnTo>
                <a:lnTo>
                  <a:pt x="1116" y="96"/>
                </a:lnTo>
                <a:lnTo>
                  <a:pt x="1116" y="96"/>
                </a:lnTo>
                <a:lnTo>
                  <a:pt x="1116" y="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92640" y="228600"/>
            <a:ext cx="1771560" cy="30492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57480" y="237960"/>
            <a:ext cx="1771560" cy="293760"/>
          </a:xfrm>
          <a:custGeom>
            <a:avLst/>
            <a:gdLst/>
            <a:ahLst/>
            <a:rect l="l" t="t" r="r" b="b"/>
            <a:pathLst>
              <a:path w="1116" h="185">
                <a:moveTo>
                  <a:pt x="1116" y="96"/>
                </a:moveTo>
                <a:lnTo>
                  <a:pt x="1116" y="96"/>
                </a:lnTo>
                <a:lnTo>
                  <a:pt x="1116" y="103"/>
                </a:lnTo>
                <a:lnTo>
                  <a:pt x="1116" y="111"/>
                </a:lnTo>
                <a:lnTo>
                  <a:pt x="1109" y="118"/>
                </a:lnTo>
                <a:lnTo>
                  <a:pt x="1109" y="126"/>
                </a:lnTo>
                <a:lnTo>
                  <a:pt x="1101" y="133"/>
                </a:lnTo>
                <a:lnTo>
                  <a:pt x="1101" y="133"/>
                </a:lnTo>
                <a:lnTo>
                  <a:pt x="1094" y="140"/>
                </a:lnTo>
                <a:lnTo>
                  <a:pt x="1094" y="148"/>
                </a:lnTo>
                <a:lnTo>
                  <a:pt x="1087" y="155"/>
                </a:lnTo>
                <a:lnTo>
                  <a:pt x="1079" y="155"/>
                </a:lnTo>
                <a:lnTo>
                  <a:pt x="1072" y="162"/>
                </a:lnTo>
                <a:lnTo>
                  <a:pt x="1064" y="162"/>
                </a:lnTo>
                <a:lnTo>
                  <a:pt x="1057" y="170"/>
                </a:lnTo>
                <a:lnTo>
                  <a:pt x="1050" y="170"/>
                </a:lnTo>
                <a:lnTo>
                  <a:pt x="1042" y="177"/>
                </a:lnTo>
                <a:lnTo>
                  <a:pt x="1035" y="177"/>
                </a:lnTo>
                <a:lnTo>
                  <a:pt x="1028" y="177"/>
                </a:lnTo>
                <a:lnTo>
                  <a:pt x="1013" y="185"/>
                </a:lnTo>
                <a:lnTo>
                  <a:pt x="1005" y="185"/>
                </a:lnTo>
                <a:lnTo>
                  <a:pt x="998" y="185"/>
                </a:lnTo>
                <a:lnTo>
                  <a:pt x="991" y="185"/>
                </a:lnTo>
                <a:lnTo>
                  <a:pt x="983" y="185"/>
                </a:lnTo>
                <a:lnTo>
                  <a:pt x="133" y="185"/>
                </a:lnTo>
                <a:lnTo>
                  <a:pt x="126" y="185"/>
                </a:lnTo>
                <a:lnTo>
                  <a:pt x="111" y="185"/>
                </a:lnTo>
                <a:lnTo>
                  <a:pt x="104" y="185"/>
                </a:lnTo>
                <a:lnTo>
                  <a:pt x="96" y="185"/>
                </a:lnTo>
                <a:lnTo>
                  <a:pt x="89" y="177"/>
                </a:lnTo>
                <a:lnTo>
                  <a:pt x="81" y="177"/>
                </a:lnTo>
                <a:lnTo>
                  <a:pt x="74" y="177"/>
                </a:lnTo>
                <a:lnTo>
                  <a:pt x="59" y="170"/>
                </a:lnTo>
                <a:lnTo>
                  <a:pt x="52" y="170"/>
                </a:lnTo>
                <a:lnTo>
                  <a:pt x="44" y="162"/>
                </a:lnTo>
                <a:lnTo>
                  <a:pt x="37" y="155"/>
                </a:lnTo>
                <a:lnTo>
                  <a:pt x="37" y="155"/>
                </a:lnTo>
                <a:lnTo>
                  <a:pt x="30" y="148"/>
                </a:lnTo>
                <a:lnTo>
                  <a:pt x="22" y="140"/>
                </a:lnTo>
                <a:lnTo>
                  <a:pt x="15" y="140"/>
                </a:lnTo>
                <a:lnTo>
                  <a:pt x="15" y="133"/>
                </a:lnTo>
                <a:lnTo>
                  <a:pt x="7" y="126"/>
                </a:lnTo>
                <a:lnTo>
                  <a:pt x="7" y="118"/>
                </a:lnTo>
                <a:lnTo>
                  <a:pt x="7" y="118"/>
                </a:lnTo>
                <a:lnTo>
                  <a:pt x="0" y="111"/>
                </a:lnTo>
                <a:lnTo>
                  <a:pt x="0" y="103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89"/>
                </a:lnTo>
                <a:lnTo>
                  <a:pt x="0" y="81"/>
                </a:lnTo>
                <a:lnTo>
                  <a:pt x="0" y="74"/>
                </a:lnTo>
                <a:lnTo>
                  <a:pt x="7" y="66"/>
                </a:lnTo>
                <a:lnTo>
                  <a:pt x="7" y="59"/>
                </a:lnTo>
                <a:lnTo>
                  <a:pt x="15" y="52"/>
                </a:lnTo>
                <a:lnTo>
                  <a:pt x="15" y="52"/>
                </a:lnTo>
                <a:lnTo>
                  <a:pt x="22" y="44"/>
                </a:lnTo>
                <a:lnTo>
                  <a:pt x="22" y="37"/>
                </a:lnTo>
                <a:lnTo>
                  <a:pt x="30" y="30"/>
                </a:lnTo>
                <a:lnTo>
                  <a:pt x="37" y="30"/>
                </a:lnTo>
                <a:lnTo>
                  <a:pt x="44" y="22"/>
                </a:lnTo>
                <a:lnTo>
                  <a:pt x="52" y="22"/>
                </a:lnTo>
                <a:lnTo>
                  <a:pt x="59" y="15"/>
                </a:lnTo>
                <a:lnTo>
                  <a:pt x="67" y="15"/>
                </a:lnTo>
                <a:lnTo>
                  <a:pt x="74" y="7"/>
                </a:lnTo>
                <a:lnTo>
                  <a:pt x="81" y="7"/>
                </a:lnTo>
                <a:lnTo>
                  <a:pt x="89" y="7"/>
                </a:lnTo>
                <a:lnTo>
                  <a:pt x="104" y="0"/>
                </a:lnTo>
                <a:lnTo>
                  <a:pt x="111" y="0"/>
                </a:lnTo>
                <a:lnTo>
                  <a:pt x="118" y="0"/>
                </a:lnTo>
                <a:lnTo>
                  <a:pt x="126" y="0"/>
                </a:lnTo>
                <a:lnTo>
                  <a:pt x="133" y="0"/>
                </a:lnTo>
                <a:lnTo>
                  <a:pt x="983" y="0"/>
                </a:lnTo>
                <a:lnTo>
                  <a:pt x="991" y="0"/>
                </a:lnTo>
                <a:lnTo>
                  <a:pt x="1005" y="0"/>
                </a:lnTo>
                <a:lnTo>
                  <a:pt x="1013" y="0"/>
                </a:lnTo>
                <a:lnTo>
                  <a:pt x="1020" y="0"/>
                </a:lnTo>
                <a:lnTo>
                  <a:pt x="1028" y="7"/>
                </a:lnTo>
                <a:lnTo>
                  <a:pt x="1035" y="7"/>
                </a:lnTo>
                <a:lnTo>
                  <a:pt x="1042" y="7"/>
                </a:lnTo>
                <a:lnTo>
                  <a:pt x="1057" y="15"/>
                </a:lnTo>
                <a:lnTo>
                  <a:pt x="1064" y="15"/>
                </a:lnTo>
                <a:lnTo>
                  <a:pt x="1072" y="22"/>
                </a:lnTo>
                <a:lnTo>
                  <a:pt x="1079" y="30"/>
                </a:lnTo>
                <a:lnTo>
                  <a:pt x="1079" y="30"/>
                </a:lnTo>
                <a:lnTo>
                  <a:pt x="1087" y="37"/>
                </a:lnTo>
                <a:lnTo>
                  <a:pt x="1094" y="44"/>
                </a:lnTo>
                <a:lnTo>
                  <a:pt x="1101" y="44"/>
                </a:lnTo>
                <a:lnTo>
                  <a:pt x="1101" y="52"/>
                </a:lnTo>
                <a:lnTo>
                  <a:pt x="1109" y="59"/>
                </a:lnTo>
                <a:lnTo>
                  <a:pt x="1109" y="66"/>
                </a:lnTo>
                <a:lnTo>
                  <a:pt x="1109" y="66"/>
                </a:lnTo>
                <a:lnTo>
                  <a:pt x="1116" y="74"/>
                </a:lnTo>
                <a:lnTo>
                  <a:pt x="1116" y="81"/>
                </a:lnTo>
                <a:lnTo>
                  <a:pt x="1116" y="89"/>
                </a:lnTo>
                <a:lnTo>
                  <a:pt x="1116" y="96"/>
                </a:lnTo>
                <a:lnTo>
                  <a:pt x="1116" y="9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57480" y="237960"/>
            <a:ext cx="1771560" cy="293760"/>
          </a:xfrm>
          <a:prstGeom prst="roundRect">
            <a:avLst>
              <a:gd name="adj" fmla="val 50000"/>
            </a:avLst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15160" y="2811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69920" y="28584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Actionné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02880" y="2667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08760" y="272880"/>
            <a:ext cx="75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epos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60880" y="328680"/>
            <a:ext cx="23760" cy="335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6640" y="43434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Symbole normalisé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53160" y="3666960"/>
            <a:ext cx="117360" cy="139680"/>
            <a:chOff x="7553160" y="3666960"/>
            <a:chExt cx="117360" cy="139680"/>
          </a:xfrm>
        </p:grpSpPr>
        <p:sp>
          <p:nvSpPr>
            <p:cNvPr id="647" name=""/>
            <p:cNvSpPr/>
            <p:nvPr/>
          </p:nvSpPr>
          <p:spPr>
            <a:xfrm>
              <a:off x="7599240" y="366696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3160" y="366696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344840" y="5018040"/>
            <a:ext cx="1314720" cy="655560"/>
            <a:chOff x="4344840" y="5018040"/>
            <a:chExt cx="1314720" cy="655560"/>
          </a:xfrm>
        </p:grpSpPr>
        <p:sp>
          <p:nvSpPr>
            <p:cNvPr id="650" name=""/>
            <p:cNvSpPr/>
            <p:nvPr/>
          </p:nvSpPr>
          <p:spPr>
            <a:xfrm>
              <a:off x="5002200" y="5018040"/>
              <a:ext cx="657360" cy="655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5018040"/>
              <a:ext cx="657360" cy="3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02200" y="5052960"/>
              <a:ext cx="34920" cy="585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02200" y="5638680"/>
              <a:ext cx="657360" cy="3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24640" y="5052960"/>
              <a:ext cx="34920" cy="585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44840" y="5018040"/>
              <a:ext cx="681120" cy="655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4840" y="5018040"/>
              <a:ext cx="681120" cy="34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44840" y="5052960"/>
              <a:ext cx="36720" cy="58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4840" y="5638680"/>
              <a:ext cx="681120" cy="34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91040" y="5052960"/>
              <a:ext cx="34920" cy="5857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638680" y="5477040"/>
            <a:ext cx="374400" cy="187200"/>
            <a:chOff x="5638680" y="5477040"/>
            <a:chExt cx="374400" cy="187200"/>
          </a:xfrm>
        </p:grpSpPr>
        <p:sp>
          <p:nvSpPr>
            <p:cNvPr id="661" name=""/>
            <p:cNvSpPr/>
            <p:nvPr/>
          </p:nvSpPr>
          <p:spPr>
            <a:xfrm>
              <a:off x="5638680" y="5489640"/>
              <a:ext cx="8244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7" y="0"/>
                  </a:moveTo>
                  <a:lnTo>
                    <a:pt x="52" y="0"/>
                  </a:lnTo>
                  <a:lnTo>
                    <a:pt x="52" y="14"/>
                  </a:lnTo>
                  <a:lnTo>
                    <a:pt x="15" y="7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32440" y="5489640"/>
              <a:ext cx="80640" cy="163440"/>
            </a:xfrm>
            <a:custGeom>
              <a:avLst/>
              <a:gdLst/>
              <a:ahLst/>
              <a:rect l="l" t="t" r="r" b="b"/>
              <a:pathLst>
                <a:path w="51" h="103">
                  <a:moveTo>
                    <a:pt x="37" y="0"/>
                  </a:moveTo>
                  <a:lnTo>
                    <a:pt x="51" y="0"/>
                  </a:lnTo>
                  <a:lnTo>
                    <a:pt x="51" y="14"/>
                  </a:lnTo>
                  <a:lnTo>
                    <a:pt x="14" y="103"/>
                  </a:lnTo>
                  <a:lnTo>
                    <a:pt x="0" y="103"/>
                  </a:lnTo>
                  <a:lnTo>
                    <a:pt x="0" y="88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49640" y="5477040"/>
              <a:ext cx="93600" cy="187200"/>
            </a:xfrm>
            <a:custGeom>
              <a:avLst/>
              <a:gdLst/>
              <a:ahLst/>
              <a:rect l="l" t="t" r="r" b="b"/>
              <a:pathLst>
                <a:path w="59" h="118">
                  <a:moveTo>
                    <a:pt x="0" y="15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59" y="104"/>
                  </a:lnTo>
                  <a:lnTo>
                    <a:pt x="59" y="118"/>
                  </a:lnTo>
                  <a:lnTo>
                    <a:pt x="44" y="118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78360" y="5477040"/>
              <a:ext cx="95040" cy="187200"/>
            </a:xfrm>
            <a:custGeom>
              <a:avLst/>
              <a:gdLst/>
              <a:ahLst/>
              <a:rect l="l" t="t" r="r" b="b"/>
              <a:pathLst>
                <a:path w="60" h="118">
                  <a:moveTo>
                    <a:pt x="45" y="0"/>
                  </a:moveTo>
                  <a:lnTo>
                    <a:pt x="60" y="0"/>
                  </a:lnTo>
                  <a:lnTo>
                    <a:pt x="60" y="15"/>
                  </a:lnTo>
                  <a:lnTo>
                    <a:pt x="15" y="11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45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08520" y="548964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0" y="1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59" y="96"/>
                  </a:lnTo>
                  <a:lnTo>
                    <a:pt x="59" y="110"/>
                  </a:lnTo>
                  <a:lnTo>
                    <a:pt x="44" y="11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473240" y="2419200"/>
            <a:ext cx="883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réseau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ir comprim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89840" y="2409840"/>
            <a:ext cx="942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échapp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36720" y="838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vér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24720" y="3892680"/>
            <a:ext cx="160200" cy="330120"/>
            <a:chOff x="7524720" y="3892680"/>
            <a:chExt cx="160200" cy="330120"/>
          </a:xfrm>
        </p:grpSpPr>
        <p:sp>
          <p:nvSpPr>
            <p:cNvPr id="670" name=""/>
            <p:cNvSpPr/>
            <p:nvPr/>
          </p:nvSpPr>
          <p:spPr>
            <a:xfrm>
              <a:off x="7524720" y="406872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44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34440" y="4068720"/>
              <a:ext cx="150480" cy="1540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44" y="14"/>
                  </a:move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4560" y="41274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94560" y="41274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cc0000"/>
            </a:solidFill>
            <a:ln w="11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94560" y="3892680"/>
              <a:ext cx="23760" cy="18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671960" y="3875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280280" y="3905280"/>
            <a:ext cx="117360" cy="315360"/>
            <a:chOff x="7280280" y="3905280"/>
            <a:chExt cx="117360" cy="315360"/>
          </a:xfrm>
        </p:grpSpPr>
        <p:sp>
          <p:nvSpPr>
            <p:cNvPr id="677" name=""/>
            <p:cNvSpPr/>
            <p:nvPr/>
          </p:nvSpPr>
          <p:spPr>
            <a:xfrm>
              <a:off x="7280280" y="4081320"/>
              <a:ext cx="117360" cy="1393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7" y="88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37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27800" y="3905280"/>
              <a:ext cx="24120" cy="28080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175160" y="3884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23280" y="524844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2,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49240" y="4724280"/>
            <a:ext cx="157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mande élec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3320" y="5181480"/>
            <a:ext cx="17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mande pneu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2320" y="5634000"/>
            <a:ext cx="230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mande électropneu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26520" y="524196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655720" y="5767560"/>
            <a:ext cx="4694400" cy="292680"/>
            <a:chOff x="2655720" y="5767560"/>
            <a:chExt cx="4694400" cy="292680"/>
          </a:xfrm>
        </p:grpSpPr>
        <p:grpSp>
          <p:nvGrpSpPr>
            <p:cNvPr id="686" name=""/>
            <p:cNvGrpSpPr/>
            <p:nvPr/>
          </p:nvGrpSpPr>
          <p:grpSpPr>
            <a:xfrm>
              <a:off x="2655720" y="5825880"/>
              <a:ext cx="352440" cy="234360"/>
              <a:chOff x="2655720" y="5825880"/>
              <a:chExt cx="352440" cy="234360"/>
            </a:xfrm>
          </p:grpSpPr>
          <p:sp>
            <p:nvSpPr>
              <p:cNvPr id="687" name=""/>
              <p:cNvSpPr/>
              <p:nvPr/>
            </p:nvSpPr>
            <p:spPr>
              <a:xfrm>
                <a:off x="2679840" y="6036840"/>
                <a:ext cx="328320" cy="234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78200" y="5838480"/>
                <a:ext cx="71280" cy="11556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0" y="1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45" y="59"/>
                    </a:lnTo>
                    <a:lnTo>
                      <a:pt x="45" y="73"/>
                    </a:lnTo>
                    <a:lnTo>
                      <a:pt x="30" y="73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67040" y="593208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44" y="0"/>
                    </a:moveTo>
                    <a:lnTo>
                      <a:pt x="59" y="0"/>
                    </a:lnTo>
                    <a:lnTo>
                      <a:pt x="59" y="14"/>
                    </a:lnTo>
                    <a:lnTo>
                      <a:pt x="15" y="73"/>
                    </a:lnTo>
                    <a:lnTo>
                      <a:pt x="0" y="73"/>
                    </a:lnTo>
                    <a:lnTo>
                      <a:pt x="0" y="59"/>
                    </a:lnTo>
                    <a:lnTo>
                      <a:pt x="44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90640" y="5849280"/>
                <a:ext cx="106560" cy="198360"/>
              </a:xfrm>
              <a:custGeom>
                <a:avLst/>
                <a:gdLst/>
                <a:ahLst/>
                <a:rect l="l" t="t" r="r" b="b"/>
                <a:pathLst>
                  <a:path w="67" h="125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67" y="111"/>
                    </a:lnTo>
                    <a:lnTo>
                      <a:pt x="67" y="125"/>
                    </a:lnTo>
                    <a:lnTo>
                      <a:pt x="52" y="125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55720" y="5825880"/>
                <a:ext cx="339840" cy="2340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55720" y="5838480"/>
                <a:ext cx="24120" cy="22176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855880" y="5838480"/>
                <a:ext cx="22320" cy="2091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97680" y="5767560"/>
              <a:ext cx="352440" cy="223560"/>
              <a:chOff x="6997680" y="5767560"/>
              <a:chExt cx="352440" cy="223560"/>
            </a:xfrm>
          </p:grpSpPr>
          <p:sp>
            <p:nvSpPr>
              <p:cNvPr id="695" name=""/>
              <p:cNvSpPr/>
              <p:nvPr/>
            </p:nvSpPr>
            <p:spPr>
              <a:xfrm>
                <a:off x="6997680" y="5967360"/>
                <a:ext cx="328680" cy="2340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43760" y="5767560"/>
                <a:ext cx="82440" cy="117360"/>
              </a:xfrm>
              <a:custGeom>
                <a:avLst/>
                <a:gdLst/>
                <a:ahLst/>
                <a:rect l="l" t="t" r="r" b="b"/>
                <a:pathLst>
                  <a:path w="52" h="74">
                    <a:moveTo>
                      <a:pt x="37" y="0"/>
                    </a:moveTo>
                    <a:lnTo>
                      <a:pt x="52" y="0"/>
                    </a:lnTo>
                    <a:lnTo>
                      <a:pt x="52" y="15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37" y="0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2600" y="586080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59" y="59"/>
                    </a:lnTo>
                    <a:lnTo>
                      <a:pt x="59" y="74"/>
                    </a:lnTo>
                    <a:lnTo>
                      <a:pt x="44" y="74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09000" y="5779800"/>
                <a:ext cx="93600" cy="198360"/>
              </a:xfrm>
              <a:custGeom>
                <a:avLst/>
                <a:gdLst/>
                <a:ahLst/>
                <a:rect l="l" t="t" r="r" b="b"/>
                <a:pathLst>
                  <a:path w="59" h="125">
                    <a:moveTo>
                      <a:pt x="44" y="0"/>
                    </a:moveTo>
                    <a:lnTo>
                      <a:pt x="59" y="0"/>
                    </a:lnTo>
                    <a:lnTo>
                      <a:pt x="59" y="14"/>
                    </a:lnTo>
                    <a:lnTo>
                      <a:pt x="15" y="125"/>
                    </a:lnTo>
                    <a:lnTo>
                      <a:pt x="0" y="125"/>
                    </a:lnTo>
                    <a:lnTo>
                      <a:pt x="0" y="110"/>
                    </a:lnTo>
                    <a:lnTo>
                      <a:pt x="44" y="0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97680" y="5767560"/>
                <a:ext cx="339840" cy="2340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26360" y="5767560"/>
                <a:ext cx="23760" cy="2235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15040" y="5767560"/>
                <a:ext cx="24120" cy="21096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138760" y="4354560"/>
            <a:ext cx="148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mmande (ou pilo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66120" y="4508640"/>
            <a:ext cx="142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osition 1 (actionné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67920" y="4314960"/>
            <a:ext cx="148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mmande (ou pilo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76640" y="4495680"/>
            <a:ext cx="122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osition 0 (rep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515360" y="1333440"/>
            <a:ext cx="596880" cy="795240"/>
            <a:chOff x="7515360" y="1333440"/>
            <a:chExt cx="596880" cy="795240"/>
          </a:xfrm>
        </p:grpSpPr>
        <p:sp>
          <p:nvSpPr>
            <p:cNvPr id="707" name=""/>
            <p:cNvSpPr/>
            <p:nvPr/>
          </p:nvSpPr>
          <p:spPr>
            <a:xfrm>
              <a:off x="7534440" y="1952640"/>
              <a:ext cx="47520" cy="1760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15360" y="1333440"/>
              <a:ext cx="596880" cy="633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724800" y="1181160"/>
            <a:ext cx="496800" cy="966600"/>
            <a:chOff x="6724800" y="1181160"/>
            <a:chExt cx="496800" cy="966600"/>
          </a:xfrm>
        </p:grpSpPr>
        <p:sp>
          <p:nvSpPr>
            <p:cNvPr id="710" name=""/>
            <p:cNvSpPr/>
            <p:nvPr/>
          </p:nvSpPr>
          <p:spPr>
            <a:xfrm>
              <a:off x="6772320" y="1971720"/>
              <a:ext cx="47880" cy="1760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24800" y="1809720"/>
              <a:ext cx="496800" cy="1602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24800" y="1342800"/>
              <a:ext cx="493920" cy="1285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6320" y="1181160"/>
              <a:ext cx="47520" cy="16344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676840" y="927000"/>
            <a:ext cx="2615760" cy="1469520"/>
            <a:chOff x="5676840" y="927000"/>
            <a:chExt cx="2615760" cy="1469520"/>
          </a:xfrm>
        </p:grpSpPr>
        <p:sp>
          <p:nvSpPr>
            <p:cNvPr id="715" name=""/>
            <p:cNvSpPr/>
            <p:nvPr/>
          </p:nvSpPr>
          <p:spPr>
            <a:xfrm>
              <a:off x="7482960" y="2228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60680" y="927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20840" y="2228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43480" y="1162080"/>
              <a:ext cx="1137960" cy="984240"/>
            </a:xfrm>
            <a:custGeom>
              <a:avLst/>
              <a:gdLst/>
              <a:ahLst/>
              <a:rect l="l" t="t" r="r" b="b"/>
              <a:pathLst>
                <a:path w="717" h="620">
                  <a:moveTo>
                    <a:pt x="0" y="0"/>
                  </a:moveTo>
                  <a:lnTo>
                    <a:pt x="717" y="0"/>
                  </a:lnTo>
                  <a:lnTo>
                    <a:pt x="717" y="620"/>
                  </a:lnTo>
                  <a:lnTo>
                    <a:pt x="266" y="620"/>
                  </a:lnTo>
                  <a:lnTo>
                    <a:pt x="266" y="502"/>
                  </a:lnTo>
                  <a:lnTo>
                    <a:pt x="606" y="502"/>
                  </a:lnTo>
                  <a:lnTo>
                    <a:pt x="606" y="103"/>
                  </a:lnTo>
                  <a:lnTo>
                    <a:pt x="0" y="10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75160" y="1724040"/>
              <a:ext cx="491760" cy="411120"/>
            </a:xfrm>
            <a:custGeom>
              <a:avLst/>
              <a:gdLst/>
              <a:ahLst/>
              <a:rect l="l" t="t" r="r" b="b"/>
              <a:pathLst>
                <a:path w="310" h="259">
                  <a:moveTo>
                    <a:pt x="0" y="0"/>
                  </a:moveTo>
                  <a:lnTo>
                    <a:pt x="103" y="0"/>
                  </a:lnTo>
                  <a:lnTo>
                    <a:pt x="103" y="155"/>
                  </a:lnTo>
                  <a:lnTo>
                    <a:pt x="310" y="155"/>
                  </a:lnTo>
                  <a:lnTo>
                    <a:pt x="310" y="259"/>
                  </a:lnTo>
                  <a:lnTo>
                    <a:pt x="0" y="2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64000" y="1162080"/>
              <a:ext cx="831600" cy="409320"/>
            </a:xfrm>
            <a:custGeom>
              <a:avLst/>
              <a:gdLst/>
              <a:ahLst/>
              <a:rect l="l" t="t" r="r" b="b"/>
              <a:pathLst>
                <a:path w="524" h="258">
                  <a:moveTo>
                    <a:pt x="0" y="0"/>
                  </a:moveTo>
                  <a:lnTo>
                    <a:pt x="524" y="0"/>
                  </a:lnTo>
                  <a:lnTo>
                    <a:pt x="524" y="118"/>
                  </a:lnTo>
                  <a:lnTo>
                    <a:pt x="103" y="118"/>
                  </a:lnTo>
                  <a:lnTo>
                    <a:pt x="103" y="258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18240" y="1477800"/>
              <a:ext cx="3600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18240" y="1477800"/>
              <a:ext cx="3600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0708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0708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0708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200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355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355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22960" y="1490400"/>
              <a:ext cx="1224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2296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2296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5788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444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444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1328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13280" y="177156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3280" y="177156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820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9200" y="1477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29200" y="1477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804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1804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1804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5296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82460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82460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11640" y="1490400"/>
              <a:ext cx="126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11640" y="1771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11640" y="1771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46560" y="1490400"/>
              <a:ext cx="237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93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293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1820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1820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1820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5312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42000" y="1501560"/>
              <a:ext cx="551880" cy="111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18240" y="1795320"/>
              <a:ext cx="563040" cy="1116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34000" y="1384200"/>
              <a:ext cx="80280" cy="50472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59"/>
            <a:stretch/>
          </p:blipFill>
          <p:spPr>
            <a:xfrm>
              <a:off x="6534000" y="1384200"/>
              <a:ext cx="802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6534000" y="1384200"/>
              <a:ext cx="80280" cy="1116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34000" y="1395360"/>
              <a:ext cx="10440" cy="48096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34000" y="1876320"/>
              <a:ext cx="80280" cy="126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03840" y="1395360"/>
              <a:ext cx="10440" cy="4809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06920" y="1384200"/>
              <a:ext cx="82080" cy="50472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6" name="" descr=""/>
            <p:cNvPicPr/>
            <p:nvPr/>
          </p:nvPicPr>
          <p:blipFill>
            <a:blip r:embed="rId65"/>
            <a:stretch/>
          </p:blipFill>
          <p:spPr>
            <a:xfrm>
              <a:off x="7306920" y="1384200"/>
              <a:ext cx="82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7306920" y="1384200"/>
              <a:ext cx="82080" cy="1116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06920" y="1395360"/>
              <a:ext cx="12240" cy="48096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06920" y="1876320"/>
              <a:ext cx="82080" cy="1260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78560" y="1395360"/>
              <a:ext cx="10440" cy="48096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21200" y="1466640"/>
              <a:ext cx="480600" cy="33984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2" name="" descr=""/>
            <p:cNvPicPr/>
            <p:nvPr/>
          </p:nvPicPr>
          <p:blipFill>
            <a:blip r:embed="rId71"/>
            <a:stretch/>
          </p:blipFill>
          <p:spPr>
            <a:xfrm>
              <a:off x="6721200" y="1466640"/>
              <a:ext cx="480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6721200" y="1466640"/>
              <a:ext cx="480600" cy="1116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21200" y="1477800"/>
              <a:ext cx="10800" cy="31752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1200" y="1795320"/>
              <a:ext cx="480600" cy="1116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89560" y="1477800"/>
              <a:ext cx="12240" cy="31752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78560" y="1338120"/>
              <a:ext cx="117000" cy="62064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77"/>
            <a:stretch/>
          </p:blipFill>
          <p:spPr>
            <a:xfrm>
              <a:off x="7378560" y="1338120"/>
              <a:ext cx="117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78560" y="1338120"/>
              <a:ext cx="117000" cy="1116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78560" y="1349280"/>
              <a:ext cx="10440" cy="59832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78560" y="1947600"/>
              <a:ext cx="117000" cy="1116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83320" y="1349280"/>
              <a:ext cx="12240" cy="5983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2160" y="1338120"/>
              <a:ext cx="104400" cy="60948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83"/>
            <a:stretch/>
          </p:blipFill>
          <p:spPr>
            <a:xfrm>
              <a:off x="7202160" y="1338120"/>
              <a:ext cx="1062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202160" y="1338120"/>
              <a:ext cx="104400" cy="1116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2160" y="1349280"/>
              <a:ext cx="10800" cy="58572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2160" y="1935000"/>
              <a:ext cx="104400" cy="1260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95760" y="1349280"/>
              <a:ext cx="10800" cy="58572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14640" y="1338120"/>
              <a:ext cx="106200" cy="60948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89"/>
            <a:stretch/>
          </p:blipFill>
          <p:spPr>
            <a:xfrm>
              <a:off x="6614640" y="1338120"/>
              <a:ext cx="109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6614640" y="1338120"/>
              <a:ext cx="106200" cy="1116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14640" y="1349280"/>
              <a:ext cx="12600" cy="58572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14640" y="1935000"/>
              <a:ext cx="106200" cy="126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8600" y="1349280"/>
              <a:ext cx="12240" cy="58572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27440" y="1338120"/>
              <a:ext cx="106200" cy="62064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95"/>
            <a:stretch/>
          </p:blipFill>
          <p:spPr>
            <a:xfrm>
              <a:off x="6427440" y="1338120"/>
              <a:ext cx="1062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6427440" y="1338120"/>
              <a:ext cx="106200" cy="1116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27440" y="1349280"/>
              <a:ext cx="10800" cy="59832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27440" y="1947600"/>
              <a:ext cx="106200" cy="1116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21040" y="1349280"/>
              <a:ext cx="12600" cy="59832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14800" y="1958760"/>
              <a:ext cx="703080" cy="18756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75160" y="1162080"/>
              <a:ext cx="2006280" cy="1116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44800" y="1325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44800" y="1325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19520" y="19000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9520" y="19000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19520" y="133812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19520" y="133812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34000" y="1900080"/>
              <a:ext cx="5652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34000" y="1900080"/>
              <a:ext cx="5652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81800" y="1162080"/>
              <a:ext cx="10800" cy="97308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95920" y="1338120"/>
              <a:ext cx="10800" cy="62064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95960" y="1162080"/>
              <a:ext cx="12240" cy="18720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43480" y="1173240"/>
              <a:ext cx="10800" cy="16488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03640" y="1958760"/>
              <a:ext cx="10800" cy="18756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65760" y="1969920"/>
              <a:ext cx="10800" cy="17640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56120" y="1969920"/>
              <a:ext cx="10800" cy="1764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94240" y="1338120"/>
              <a:ext cx="10800" cy="62064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18240" y="1969920"/>
              <a:ext cx="12240" cy="1764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75160" y="2135160"/>
              <a:ext cx="2017440" cy="1116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27440" y="1958760"/>
              <a:ext cx="1677600" cy="1116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76840" y="1560600"/>
              <a:ext cx="750600" cy="16344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118"/>
            <a:stretch/>
          </p:blipFill>
          <p:spPr>
            <a:xfrm>
              <a:off x="5676840" y="1560600"/>
              <a:ext cx="75060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"/>
            <p:cNvSpPr/>
            <p:nvPr/>
          </p:nvSpPr>
          <p:spPr>
            <a:xfrm>
              <a:off x="5676840" y="1560600"/>
              <a:ext cx="750600" cy="10800"/>
            </a:xfrm>
            <a:prstGeom prst="rect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76840" y="1571400"/>
              <a:ext cx="10800" cy="14148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76840" y="1712880"/>
              <a:ext cx="750600" cy="11160"/>
            </a:xfrm>
            <a:prstGeom prst="rect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16280" y="1571400"/>
              <a:ext cx="10800" cy="14148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38600" y="1338120"/>
              <a:ext cx="1666440" cy="1116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265440" y="1176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5440" y="171900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42720" y="289548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93560" y="2895480"/>
            <a:ext cx="43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(véri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311560" y="1333440"/>
            <a:ext cx="374400" cy="795240"/>
            <a:chOff x="2311560" y="1333440"/>
            <a:chExt cx="374400" cy="795240"/>
          </a:xfrm>
        </p:grpSpPr>
        <p:sp>
          <p:nvSpPr>
            <p:cNvPr id="834" name=""/>
            <p:cNvSpPr/>
            <p:nvPr/>
          </p:nvSpPr>
          <p:spPr>
            <a:xfrm>
              <a:off x="2311560" y="1333440"/>
              <a:ext cx="374400" cy="620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619360" y="1965240"/>
              <a:ext cx="34560" cy="163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946240" y="1143000"/>
            <a:ext cx="541080" cy="982440"/>
            <a:chOff x="2946240" y="1143000"/>
            <a:chExt cx="541080" cy="982440"/>
          </a:xfrm>
        </p:grpSpPr>
        <p:sp>
          <p:nvSpPr>
            <p:cNvPr id="837" name=""/>
            <p:cNvSpPr/>
            <p:nvPr/>
          </p:nvSpPr>
          <p:spPr>
            <a:xfrm>
              <a:off x="3378600" y="1948320"/>
              <a:ext cx="47160" cy="177120"/>
            </a:xfrm>
            <a:prstGeom prst="rect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14280" y="1143000"/>
              <a:ext cx="47160" cy="177480"/>
            </a:xfrm>
            <a:prstGeom prst="rect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46240" y="1786680"/>
              <a:ext cx="541080" cy="156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46240" y="1314000"/>
              <a:ext cx="521640" cy="138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348720" y="2400480"/>
            <a:ext cx="883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réseau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ir comprim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18160" y="2381400"/>
            <a:ext cx="942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échapp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274560" y="838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vér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664080" y="3844800"/>
            <a:ext cx="295560" cy="330120"/>
            <a:chOff x="3664080" y="3844800"/>
            <a:chExt cx="295560" cy="330120"/>
          </a:xfrm>
        </p:grpSpPr>
        <p:sp>
          <p:nvSpPr>
            <p:cNvPr id="845" name=""/>
            <p:cNvSpPr/>
            <p:nvPr/>
          </p:nvSpPr>
          <p:spPr>
            <a:xfrm>
              <a:off x="3664080" y="4020840"/>
              <a:ext cx="141480" cy="1400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44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73800" y="4020840"/>
              <a:ext cx="150840" cy="1540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44" y="14"/>
                  </a:move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33920" y="407988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33920" y="407988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3844800"/>
              <a:ext cx="23760" cy="187200"/>
            </a:xfrm>
            <a:prstGeom prst="rect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81160" y="396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3282480" y="3848040"/>
            <a:ext cx="298440" cy="316080"/>
            <a:chOff x="3282480" y="3848040"/>
            <a:chExt cx="298440" cy="316080"/>
          </a:xfrm>
        </p:grpSpPr>
        <p:grpSp>
          <p:nvGrpSpPr>
            <p:cNvPr id="852" name=""/>
            <p:cNvGrpSpPr/>
            <p:nvPr/>
          </p:nvGrpSpPr>
          <p:grpSpPr>
            <a:xfrm>
              <a:off x="3463560" y="3848040"/>
              <a:ext cx="117360" cy="316080"/>
              <a:chOff x="3463560" y="3848040"/>
              <a:chExt cx="117360" cy="316080"/>
            </a:xfrm>
          </p:grpSpPr>
          <p:sp>
            <p:nvSpPr>
              <p:cNvPr id="853" name=""/>
              <p:cNvSpPr/>
              <p:nvPr/>
            </p:nvSpPr>
            <p:spPr>
              <a:xfrm>
                <a:off x="3463560" y="402444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37" y="88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88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11080" y="3848040"/>
                <a:ext cx="24120" cy="281160"/>
              </a:xfrm>
              <a:prstGeom prst="rect">
                <a:avLst/>
              </a:pr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3282480" y="396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781360" y="3711600"/>
            <a:ext cx="117360" cy="139680"/>
            <a:chOff x="2781360" y="3711600"/>
            <a:chExt cx="117360" cy="139680"/>
          </a:xfrm>
        </p:grpSpPr>
        <p:sp>
          <p:nvSpPr>
            <p:cNvPr id="857" name=""/>
            <p:cNvSpPr/>
            <p:nvPr/>
          </p:nvSpPr>
          <p:spPr>
            <a:xfrm>
              <a:off x="2827440" y="371160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81360" y="371160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645000" y="2933640"/>
            <a:ext cx="696240" cy="230040"/>
            <a:chOff x="3645000" y="2933640"/>
            <a:chExt cx="696240" cy="230040"/>
          </a:xfrm>
        </p:grpSpPr>
        <p:sp>
          <p:nvSpPr>
            <p:cNvPr id="860" name=""/>
            <p:cNvSpPr/>
            <p:nvPr/>
          </p:nvSpPr>
          <p:spPr>
            <a:xfrm>
              <a:off x="3645000" y="2998800"/>
              <a:ext cx="21960" cy="164880"/>
            </a:xfrm>
            <a:prstGeom prst="rect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88280" y="29527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10680" y="29336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(véri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4667400" y="5019840"/>
            <a:ext cx="180360" cy="647280"/>
            <a:chOff x="4667400" y="5019840"/>
            <a:chExt cx="180360" cy="647280"/>
          </a:xfrm>
        </p:grpSpPr>
        <p:sp>
          <p:nvSpPr>
            <p:cNvPr id="864" name=""/>
            <p:cNvSpPr/>
            <p:nvPr/>
          </p:nvSpPr>
          <p:spPr>
            <a:xfrm flipV="1">
              <a:off x="4667400" y="5019480"/>
              <a:ext cx="139320" cy="15588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22" y="96"/>
                  </a:moveTo>
                  <a:lnTo>
                    <a:pt x="0" y="0"/>
                  </a:lnTo>
                  <a:lnTo>
                    <a:pt x="74" y="15"/>
                  </a:lnTo>
                  <a:lnTo>
                    <a:pt x="22" y="9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695480" y="5042160"/>
              <a:ext cx="152280" cy="624600"/>
            </a:xfrm>
            <a:custGeom>
              <a:avLst/>
              <a:gdLst/>
              <a:ahLst/>
              <a:rect l="l" t="t" r="r" b="b"/>
              <a:pathLst>
                <a:path w="81" h="384">
                  <a:moveTo>
                    <a:pt x="66" y="0"/>
                  </a:moveTo>
                  <a:lnTo>
                    <a:pt x="81" y="0"/>
                  </a:lnTo>
                  <a:lnTo>
                    <a:pt x="81" y="14"/>
                  </a:lnTo>
                  <a:lnTo>
                    <a:pt x="15" y="384"/>
                  </a:lnTo>
                  <a:lnTo>
                    <a:pt x="0" y="384"/>
                  </a:lnTo>
                  <a:lnTo>
                    <a:pt x="0" y="36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524480" y="5508720"/>
            <a:ext cx="117360" cy="139680"/>
            <a:chOff x="4524480" y="5508720"/>
            <a:chExt cx="117360" cy="139680"/>
          </a:xfrm>
        </p:grpSpPr>
        <p:sp>
          <p:nvSpPr>
            <p:cNvPr id="867" name=""/>
            <p:cNvSpPr/>
            <p:nvPr/>
          </p:nvSpPr>
          <p:spPr>
            <a:xfrm>
              <a:off x="4570560" y="550872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24480" y="550872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372280" y="5505480"/>
            <a:ext cx="117360" cy="139680"/>
            <a:chOff x="5372280" y="5505480"/>
            <a:chExt cx="117360" cy="139680"/>
          </a:xfrm>
        </p:grpSpPr>
        <p:sp>
          <p:nvSpPr>
            <p:cNvPr id="870" name=""/>
            <p:cNvSpPr/>
            <p:nvPr/>
          </p:nvSpPr>
          <p:spPr>
            <a:xfrm>
              <a:off x="5418360" y="550548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72280" y="550548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353200" y="5667480"/>
            <a:ext cx="295560" cy="330120"/>
            <a:chOff x="5353200" y="5667480"/>
            <a:chExt cx="295560" cy="330120"/>
          </a:xfrm>
        </p:grpSpPr>
        <p:sp>
          <p:nvSpPr>
            <p:cNvPr id="873" name=""/>
            <p:cNvSpPr/>
            <p:nvPr/>
          </p:nvSpPr>
          <p:spPr>
            <a:xfrm>
              <a:off x="5353200" y="5843520"/>
              <a:ext cx="141480" cy="1400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44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62920" y="5843520"/>
              <a:ext cx="150840" cy="1540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44" y="14"/>
                  </a:move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3040" y="5902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23040" y="5902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23040" y="5667480"/>
              <a:ext cx="23760" cy="187200"/>
            </a:xfrm>
            <a:prstGeom prst="rect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70280" y="578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962240" y="5676840"/>
            <a:ext cx="298440" cy="316080"/>
            <a:chOff x="4962240" y="5676840"/>
            <a:chExt cx="298440" cy="316080"/>
          </a:xfrm>
        </p:grpSpPr>
        <p:grpSp>
          <p:nvGrpSpPr>
            <p:cNvPr id="880" name=""/>
            <p:cNvGrpSpPr/>
            <p:nvPr/>
          </p:nvGrpSpPr>
          <p:grpSpPr>
            <a:xfrm>
              <a:off x="5143320" y="5676840"/>
              <a:ext cx="117360" cy="316080"/>
              <a:chOff x="5143320" y="5676840"/>
              <a:chExt cx="117360" cy="31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5143320" y="585324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37" y="88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88"/>
                    </a:lnTo>
                    <a:close/>
                  </a:path>
                </a:pathLst>
              </a:cu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190840" y="5676840"/>
                <a:ext cx="24120" cy="281160"/>
              </a:xfrm>
              <a:prstGeom prst="rect">
                <a:avLst/>
              </a:pr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4962240" y="578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5295960" y="4791240"/>
            <a:ext cx="696240" cy="230040"/>
            <a:chOff x="5295960" y="4791240"/>
            <a:chExt cx="696240" cy="230040"/>
          </a:xfrm>
        </p:grpSpPr>
        <p:sp>
          <p:nvSpPr>
            <p:cNvPr id="885" name=""/>
            <p:cNvSpPr/>
            <p:nvPr/>
          </p:nvSpPr>
          <p:spPr>
            <a:xfrm>
              <a:off x="5295960" y="4856400"/>
              <a:ext cx="21960" cy="164880"/>
            </a:xfrm>
            <a:prstGeom prst="rect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39240" y="48103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61640" y="47912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(véri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162400" y="5038560"/>
            <a:ext cx="152640" cy="631800"/>
            <a:chOff x="5162400" y="5038560"/>
            <a:chExt cx="152640" cy="631800"/>
          </a:xfrm>
        </p:grpSpPr>
        <p:sp>
          <p:nvSpPr>
            <p:cNvPr id="889" name=""/>
            <p:cNvSpPr/>
            <p:nvPr/>
          </p:nvSpPr>
          <p:spPr>
            <a:xfrm>
              <a:off x="5162400" y="5518080"/>
              <a:ext cx="117720" cy="15228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22" y="96"/>
                  </a:moveTo>
                  <a:lnTo>
                    <a:pt x="0" y="0"/>
                  </a:lnTo>
                  <a:lnTo>
                    <a:pt x="74" y="15"/>
                  </a:lnTo>
                  <a:lnTo>
                    <a:pt x="22" y="96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86160" y="5038560"/>
              <a:ext cx="128880" cy="609480"/>
            </a:xfrm>
            <a:custGeom>
              <a:avLst/>
              <a:gdLst/>
              <a:ahLst/>
              <a:rect l="l" t="t" r="r" b="b"/>
              <a:pathLst>
                <a:path w="81" h="384">
                  <a:moveTo>
                    <a:pt x="66" y="0"/>
                  </a:moveTo>
                  <a:lnTo>
                    <a:pt x="81" y="0"/>
                  </a:lnTo>
                  <a:lnTo>
                    <a:pt x="81" y="14"/>
                  </a:lnTo>
                  <a:lnTo>
                    <a:pt x="15" y="384"/>
                  </a:lnTo>
                  <a:lnTo>
                    <a:pt x="0" y="384"/>
                  </a:lnTo>
                  <a:lnTo>
                    <a:pt x="0" y="369"/>
                  </a:lnTo>
                  <a:lnTo>
                    <a:pt x="66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655720" y="5345280"/>
            <a:ext cx="4694400" cy="292680"/>
            <a:chOff x="2655720" y="5345280"/>
            <a:chExt cx="4694400" cy="292680"/>
          </a:xfrm>
        </p:grpSpPr>
        <p:grpSp>
          <p:nvGrpSpPr>
            <p:cNvPr id="892" name=""/>
            <p:cNvGrpSpPr/>
            <p:nvPr/>
          </p:nvGrpSpPr>
          <p:grpSpPr>
            <a:xfrm>
              <a:off x="6997680" y="5345280"/>
              <a:ext cx="352440" cy="223200"/>
              <a:chOff x="6997680" y="5345280"/>
              <a:chExt cx="352440" cy="223200"/>
            </a:xfrm>
          </p:grpSpPr>
          <p:sp>
            <p:nvSpPr>
              <p:cNvPr id="893" name=""/>
              <p:cNvSpPr/>
              <p:nvPr/>
            </p:nvSpPr>
            <p:spPr>
              <a:xfrm>
                <a:off x="7326360" y="5357520"/>
                <a:ext cx="23760" cy="21096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997680" y="5545080"/>
                <a:ext cx="339840" cy="23400"/>
              </a:xfrm>
              <a:prstGeom prst="rect">
                <a:avLst/>
              </a:pr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254720" y="5357520"/>
                <a:ext cx="82800" cy="117360"/>
              </a:xfrm>
              <a:custGeom>
                <a:avLst/>
                <a:gdLst/>
                <a:ahLst/>
                <a:rect l="l" t="t" r="r" b="b"/>
                <a:pathLst>
                  <a:path w="52" h="74">
                    <a:moveTo>
                      <a:pt x="37" y="0"/>
                    </a:moveTo>
                    <a:lnTo>
                      <a:pt x="52" y="0"/>
                    </a:lnTo>
                    <a:lnTo>
                      <a:pt x="52" y="15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37" y="0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254720" y="5451480"/>
                <a:ext cx="95400" cy="11700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60" y="59"/>
                    </a:lnTo>
                    <a:lnTo>
                      <a:pt x="60" y="74"/>
                    </a:lnTo>
                    <a:lnTo>
                      <a:pt x="45" y="74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997680" y="5345280"/>
                <a:ext cx="339840" cy="2340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2655720" y="5416560"/>
              <a:ext cx="339840" cy="221400"/>
              <a:chOff x="2655720" y="5416560"/>
              <a:chExt cx="339840" cy="221400"/>
            </a:xfrm>
          </p:grpSpPr>
          <p:sp>
            <p:nvSpPr>
              <p:cNvPr id="899" name=""/>
              <p:cNvSpPr/>
              <p:nvPr/>
            </p:nvSpPr>
            <p:spPr>
              <a:xfrm>
                <a:off x="2666880" y="5614560"/>
                <a:ext cx="328680" cy="23400"/>
              </a:xfrm>
              <a:prstGeom prst="rect">
                <a:avLst/>
              </a:pr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666880" y="5427360"/>
                <a:ext cx="71640" cy="117000"/>
              </a:xfrm>
              <a:custGeom>
                <a:avLst/>
                <a:gdLst/>
                <a:ahLst/>
                <a:rect l="l" t="t" r="r" b="b"/>
                <a:pathLst>
                  <a:path w="45" h="74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45" y="59"/>
                    </a:lnTo>
                    <a:lnTo>
                      <a:pt x="45" y="74"/>
                    </a:lnTo>
                    <a:lnTo>
                      <a:pt x="30" y="74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655720" y="5520960"/>
                <a:ext cx="93960" cy="11700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44" y="0"/>
                    </a:moveTo>
                    <a:lnTo>
                      <a:pt x="59" y="0"/>
                    </a:lnTo>
                    <a:lnTo>
                      <a:pt x="59" y="15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44" y="0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655720" y="5416560"/>
                <a:ext cx="339840" cy="21600"/>
              </a:xfrm>
              <a:prstGeom prst="rect">
                <a:avLst/>
              </a:pr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657520" y="5428800"/>
                <a:ext cx="0" cy="199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"/>
          <p:cNvSpPr/>
          <p:nvPr/>
        </p:nvSpPr>
        <p:spPr>
          <a:xfrm flipH="1">
            <a:off x="6095880" y="4648320"/>
            <a:ext cx="6098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352680" y="4648320"/>
            <a:ext cx="6098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2644920" y="4900680"/>
            <a:ext cx="4705200" cy="280080"/>
            <a:chOff x="2644920" y="4900680"/>
            <a:chExt cx="4705200" cy="280080"/>
          </a:xfrm>
        </p:grpSpPr>
        <p:grpSp>
          <p:nvGrpSpPr>
            <p:cNvPr id="907" name=""/>
            <p:cNvGrpSpPr/>
            <p:nvPr/>
          </p:nvGrpSpPr>
          <p:grpSpPr>
            <a:xfrm>
              <a:off x="6997680" y="4900680"/>
              <a:ext cx="352440" cy="222120"/>
              <a:chOff x="6997680" y="4900680"/>
              <a:chExt cx="352440" cy="222120"/>
            </a:xfrm>
          </p:grpSpPr>
          <p:sp>
            <p:nvSpPr>
              <p:cNvPr id="908" name=""/>
              <p:cNvSpPr/>
              <p:nvPr/>
            </p:nvSpPr>
            <p:spPr>
              <a:xfrm>
                <a:off x="6997680" y="5099040"/>
                <a:ext cx="352440" cy="2340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74080" y="4900680"/>
                <a:ext cx="104760" cy="210960"/>
              </a:xfrm>
              <a:custGeom>
                <a:avLst/>
                <a:gdLst/>
                <a:ahLst/>
                <a:rect l="l" t="t" r="r" b="b"/>
                <a:pathLst>
                  <a:path w="66" h="133">
                    <a:moveTo>
                      <a:pt x="51" y="0"/>
                    </a:moveTo>
                    <a:lnTo>
                      <a:pt x="66" y="0"/>
                    </a:lnTo>
                    <a:lnTo>
                      <a:pt x="66" y="15"/>
                    </a:lnTo>
                    <a:lnTo>
                      <a:pt x="14" y="133"/>
                    </a:lnTo>
                    <a:lnTo>
                      <a:pt x="0" y="133"/>
                    </a:lnTo>
                    <a:lnTo>
                      <a:pt x="0" y="118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26360" y="4900680"/>
                <a:ext cx="23760" cy="222120"/>
              </a:xfrm>
              <a:prstGeom prst="rect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997680" y="4900680"/>
                <a:ext cx="352440" cy="23760"/>
              </a:xfrm>
              <a:prstGeom prst="rect">
                <a:avLst/>
              </a:pr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2644920" y="4959360"/>
              <a:ext cx="363240" cy="221400"/>
              <a:chOff x="2644920" y="4959360"/>
              <a:chExt cx="363240" cy="22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2655720" y="5157360"/>
                <a:ext cx="352440" cy="2340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714760" y="4970160"/>
                <a:ext cx="104760" cy="210600"/>
              </a:xfrm>
              <a:custGeom>
                <a:avLst/>
                <a:gdLst/>
                <a:ahLst/>
                <a:rect l="l" t="t" r="r" b="b"/>
                <a:pathLst>
                  <a:path w="66" h="133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66" y="118"/>
                    </a:lnTo>
                    <a:lnTo>
                      <a:pt x="66" y="133"/>
                    </a:lnTo>
                    <a:lnTo>
                      <a:pt x="52" y="133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44920" y="4959360"/>
                <a:ext cx="363240" cy="2160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657520" y="496188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4138560" y="6005520"/>
            <a:ext cx="1629000" cy="31752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792600" y="596736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istribu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11760" y="6176880"/>
            <a:ext cx="21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à commande manu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46040" y="59770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26200" y="5967360"/>
            <a:ext cx="104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ono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09680" y="3429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7620120" y="1568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18280" y="3143160"/>
            <a:ext cx="685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40760" y="3835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07160" y="38419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67480" y="3048120"/>
            <a:ext cx="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7918560" y="339084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60520" y="15368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01920" y="31622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22600" y="3162240"/>
            <a:ext cx="685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76440" y="3321000"/>
            <a:ext cx="54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139840" y="942840"/>
            <a:ext cx="2006640" cy="1410840"/>
            <a:chOff x="2139840" y="942840"/>
            <a:chExt cx="2006640" cy="1410840"/>
          </a:xfrm>
        </p:grpSpPr>
        <p:sp>
          <p:nvSpPr>
            <p:cNvPr id="934" name=""/>
            <p:cNvSpPr/>
            <p:nvPr/>
          </p:nvSpPr>
          <p:spPr>
            <a:xfrm>
              <a:off x="2991960" y="94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60720" y="1143000"/>
              <a:ext cx="1062000" cy="982800"/>
            </a:xfrm>
            <a:custGeom>
              <a:avLst/>
              <a:gdLst/>
              <a:ahLst/>
              <a:rect l="l" t="t" r="r" b="b"/>
              <a:pathLst>
                <a:path w="669" h="619">
                  <a:moveTo>
                    <a:pt x="0" y="0"/>
                  </a:moveTo>
                  <a:lnTo>
                    <a:pt x="669" y="0"/>
                  </a:lnTo>
                  <a:lnTo>
                    <a:pt x="669" y="619"/>
                  </a:lnTo>
                  <a:lnTo>
                    <a:pt x="228" y="619"/>
                  </a:lnTo>
                  <a:lnTo>
                    <a:pt x="228" y="509"/>
                  </a:lnTo>
                  <a:lnTo>
                    <a:pt x="559" y="509"/>
                  </a:lnTo>
                  <a:lnTo>
                    <a:pt x="559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1674720"/>
              <a:ext cx="466560" cy="444600"/>
            </a:xfrm>
            <a:custGeom>
              <a:avLst/>
              <a:gdLst/>
              <a:ahLst/>
              <a:rect l="l" t="t" r="r" b="b"/>
              <a:pathLst>
                <a:path w="294" h="280">
                  <a:moveTo>
                    <a:pt x="0" y="0"/>
                  </a:moveTo>
                  <a:lnTo>
                    <a:pt x="95" y="0"/>
                  </a:lnTo>
                  <a:lnTo>
                    <a:pt x="95" y="170"/>
                  </a:lnTo>
                  <a:lnTo>
                    <a:pt x="294" y="170"/>
                  </a:lnTo>
                  <a:lnTo>
                    <a:pt x="294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39840" y="1143000"/>
              <a:ext cx="885960" cy="409680"/>
            </a:xfrm>
            <a:custGeom>
              <a:avLst/>
              <a:gdLst/>
              <a:ahLst/>
              <a:rect l="l" t="t" r="r" b="b"/>
              <a:pathLst>
                <a:path w="558" h="258">
                  <a:moveTo>
                    <a:pt x="0" y="0"/>
                  </a:moveTo>
                  <a:lnTo>
                    <a:pt x="558" y="0"/>
                  </a:lnTo>
                  <a:lnTo>
                    <a:pt x="558" y="118"/>
                  </a:lnTo>
                  <a:lnTo>
                    <a:pt x="110" y="118"/>
                  </a:lnTo>
                  <a:lnTo>
                    <a:pt x="110" y="258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46200" y="2185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0560" y="2185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65440" y="1951200"/>
              <a:ext cx="708120" cy="174600"/>
            </a:xfrm>
            <a:prstGeom prst="rect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39840" y="1143000"/>
              <a:ext cx="2006640" cy="11160"/>
            </a:xfrm>
            <a:prstGeom prst="rect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9840" y="1154160"/>
              <a:ext cx="11160" cy="960480"/>
            </a:xfrm>
            <a:prstGeom prst="rect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35320" y="1143000"/>
              <a:ext cx="11160" cy="982800"/>
            </a:xfrm>
            <a:prstGeom prst="rect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14640" y="1154160"/>
              <a:ext cx="11160" cy="164880"/>
            </a:xfrm>
            <a:prstGeom prst="rect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60720" y="1154160"/>
              <a:ext cx="12600" cy="164880"/>
            </a:xfrm>
            <a:prstGeom prst="rect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52840" y="1951200"/>
              <a:ext cx="12600" cy="174600"/>
            </a:xfrm>
            <a:prstGeom prst="rect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11360" y="1951200"/>
              <a:ext cx="11160" cy="174600"/>
            </a:xfrm>
            <a:prstGeom prst="rect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65640" y="1951200"/>
              <a:ext cx="10800" cy="174600"/>
            </a:xfrm>
            <a:prstGeom prst="rect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39840" y="2114640"/>
              <a:ext cx="1995480" cy="11160"/>
            </a:xfrm>
            <a:prstGeom prst="rect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10000" y="19335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05080" y="1327320"/>
              <a:ext cx="1638360" cy="61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52800" y="1549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58920" y="16700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943280" y="1308240"/>
            <a:ext cx="1996560" cy="644400"/>
            <a:chOff x="1943280" y="1308240"/>
            <a:chExt cx="1996560" cy="644400"/>
          </a:xfrm>
        </p:grpSpPr>
        <p:sp>
          <p:nvSpPr>
            <p:cNvPr id="955" name=""/>
            <p:cNvSpPr/>
            <p:nvPr/>
          </p:nvSpPr>
          <p:spPr>
            <a:xfrm>
              <a:off x="2797200" y="1378080"/>
              <a:ext cx="80640" cy="503280"/>
            </a:xfrm>
            <a:prstGeom prst="rect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97200" y="1378080"/>
              <a:ext cx="80640" cy="12600"/>
            </a:xfrm>
            <a:prstGeom prst="rect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97200" y="1390680"/>
              <a:ext cx="10800" cy="479520"/>
            </a:xfrm>
            <a:prstGeom prst="rect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97200" y="1870200"/>
              <a:ext cx="80640" cy="11160"/>
            </a:xfrm>
            <a:prstGeom prst="rect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67040" y="1390680"/>
              <a:ext cx="10800" cy="479520"/>
            </a:xfrm>
            <a:prstGeom prst="rect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66880" y="1378080"/>
              <a:ext cx="82440" cy="503280"/>
            </a:xfrm>
            <a:prstGeom prst="rect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66880" y="1378080"/>
              <a:ext cx="82440" cy="12600"/>
            </a:xfrm>
            <a:prstGeom prst="rect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66880" y="1390680"/>
              <a:ext cx="10800" cy="479520"/>
            </a:xfrm>
            <a:prstGeom prst="rect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66880" y="1870200"/>
              <a:ext cx="82440" cy="11160"/>
            </a:xfrm>
            <a:prstGeom prst="rect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37080" y="1390680"/>
              <a:ext cx="12240" cy="479520"/>
            </a:xfrm>
            <a:prstGeom prst="rect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984400" y="1460520"/>
              <a:ext cx="477360" cy="11160"/>
            </a:xfrm>
            <a:prstGeom prst="rect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84400" y="1471680"/>
              <a:ext cx="10800" cy="316080"/>
            </a:xfrm>
            <a:prstGeom prst="rect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984400" y="1787760"/>
              <a:ext cx="477360" cy="12600"/>
            </a:xfrm>
            <a:prstGeom prst="rect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51320" y="1471680"/>
              <a:ext cx="10440" cy="316080"/>
            </a:xfrm>
            <a:prstGeom prst="rect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49680" y="1332000"/>
              <a:ext cx="115560" cy="11160"/>
            </a:xfrm>
            <a:prstGeom prst="rect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49680" y="1343160"/>
              <a:ext cx="10800" cy="585720"/>
            </a:xfrm>
            <a:prstGeom prst="rect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49680" y="1928880"/>
              <a:ext cx="115560" cy="11160"/>
            </a:xfrm>
            <a:prstGeom prst="rect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54440" y="1343160"/>
              <a:ext cx="10800" cy="585720"/>
            </a:xfrm>
            <a:prstGeom prst="rect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62120" y="1320840"/>
              <a:ext cx="115560" cy="619200"/>
            </a:xfrm>
            <a:prstGeom prst="rect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62120" y="1320840"/>
              <a:ext cx="115560" cy="1116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62120" y="1928880"/>
              <a:ext cx="115560" cy="11160"/>
            </a:xfrm>
            <a:prstGeom prst="rect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66880" y="1332000"/>
              <a:ext cx="10800" cy="59688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78200" y="1320840"/>
              <a:ext cx="117000" cy="631800"/>
            </a:xfrm>
            <a:prstGeom prst="rect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78200" y="1320840"/>
              <a:ext cx="117000" cy="11160"/>
            </a:xfrm>
            <a:prstGeom prst="rect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78200" y="1332000"/>
              <a:ext cx="12240" cy="608040"/>
            </a:xfrm>
            <a:prstGeom prst="rect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78200" y="1940040"/>
              <a:ext cx="117000" cy="12600"/>
            </a:xfrm>
            <a:prstGeom prst="rect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84400" y="1332000"/>
              <a:ext cx="10800" cy="608040"/>
            </a:xfrm>
            <a:prstGeom prst="rect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92440" y="1332000"/>
              <a:ext cx="115560" cy="11160"/>
            </a:xfrm>
            <a:prstGeom prst="rect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92440" y="1343160"/>
              <a:ext cx="10800" cy="596880"/>
            </a:xfrm>
            <a:prstGeom prst="rect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92440" y="1940040"/>
              <a:ext cx="115560" cy="12600"/>
            </a:xfrm>
            <a:prstGeom prst="rect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7200" y="1343160"/>
              <a:ext cx="10800" cy="596880"/>
            </a:xfrm>
            <a:prstGeom prst="rect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6560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6560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54440" y="148428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5444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5444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89360" y="1484280"/>
              <a:ext cx="219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9412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9412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82960" y="148428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296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8296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17880" y="1484280"/>
              <a:ext cx="219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2428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82428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11680" y="1484280"/>
              <a:ext cx="1224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11680" y="176544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11680" y="176544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48040" y="1484280"/>
              <a:ext cx="219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08360" y="1320840"/>
              <a:ext cx="4716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08360" y="1320840"/>
              <a:ext cx="4716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78040" y="1893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78040" y="1893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78040" y="133200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78040" y="133200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08360" y="188136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08360" y="188136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00440" y="1366920"/>
              <a:ext cx="80280" cy="50472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3" name="" descr=""/>
            <p:cNvPicPr/>
            <p:nvPr/>
          </p:nvPicPr>
          <p:blipFill>
            <a:blip r:embed="rId214"/>
            <a:stretch/>
          </p:blipFill>
          <p:spPr>
            <a:xfrm>
              <a:off x="2800440" y="1366920"/>
              <a:ext cx="802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2800440" y="1366920"/>
              <a:ext cx="80280" cy="11160"/>
            </a:xfrm>
            <a:prstGeom prst="rect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00440" y="1378080"/>
              <a:ext cx="10440" cy="480960"/>
            </a:xfrm>
            <a:prstGeom prst="rect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00440" y="1859040"/>
              <a:ext cx="80280" cy="12600"/>
            </a:xfrm>
            <a:prstGeom prst="rect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70280" y="1378080"/>
              <a:ext cx="10440" cy="480960"/>
            </a:xfrm>
            <a:prstGeom prst="rect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73360" y="1366920"/>
              <a:ext cx="82080" cy="504720"/>
            </a:xfrm>
            <a:prstGeom prst="rect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9" name="" descr=""/>
            <p:cNvPicPr/>
            <p:nvPr/>
          </p:nvPicPr>
          <p:blipFill>
            <a:blip r:embed="rId220"/>
            <a:stretch/>
          </p:blipFill>
          <p:spPr>
            <a:xfrm>
              <a:off x="3573360" y="1366920"/>
              <a:ext cx="82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3573360" y="1366920"/>
              <a:ext cx="82080" cy="11160"/>
            </a:xfrm>
            <a:prstGeom prst="rect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73360" y="1378080"/>
              <a:ext cx="12240" cy="480960"/>
            </a:xfrm>
            <a:prstGeom prst="rect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73360" y="1859040"/>
              <a:ext cx="82080" cy="12600"/>
            </a:xfrm>
            <a:prstGeom prst="rect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45000" y="1378080"/>
              <a:ext cx="10440" cy="480960"/>
            </a:xfrm>
            <a:prstGeom prst="rect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87640" y="1449360"/>
              <a:ext cx="480600" cy="339840"/>
            </a:xfrm>
            <a:prstGeom prst="rect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226"/>
            <a:stretch/>
          </p:blipFill>
          <p:spPr>
            <a:xfrm>
              <a:off x="2987640" y="1449360"/>
              <a:ext cx="480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2987640" y="1449360"/>
              <a:ext cx="480600" cy="11160"/>
            </a:xfrm>
            <a:prstGeom prst="rect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87640" y="1460520"/>
              <a:ext cx="10800" cy="317520"/>
            </a:xfrm>
            <a:prstGeom prst="rect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87640" y="1778040"/>
              <a:ext cx="480600" cy="11160"/>
            </a:xfrm>
            <a:prstGeom prst="rect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56000" y="1460520"/>
              <a:ext cx="12240" cy="317520"/>
            </a:xfrm>
            <a:prstGeom prst="rect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45000" y="1320840"/>
              <a:ext cx="117000" cy="620640"/>
            </a:xfrm>
            <a:prstGeom prst="rect">
              <a:avLst/>
            </a:pr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1" name="" descr=""/>
            <p:cNvPicPr/>
            <p:nvPr/>
          </p:nvPicPr>
          <p:blipFill>
            <a:blip r:embed="rId232"/>
            <a:stretch/>
          </p:blipFill>
          <p:spPr>
            <a:xfrm>
              <a:off x="3645000" y="1320840"/>
              <a:ext cx="117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645000" y="1320840"/>
              <a:ext cx="117000" cy="11160"/>
            </a:xfrm>
            <a:prstGeom prst="rect">
              <a:avLst/>
            </a:pr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45000" y="1332000"/>
              <a:ext cx="10440" cy="598680"/>
            </a:xfrm>
            <a:prstGeom prst="rect">
              <a:avLst/>
            </a:pr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45000" y="1930680"/>
              <a:ext cx="117000" cy="10800"/>
            </a:xfrm>
            <a:prstGeom prst="rect">
              <a:avLst/>
            </a:pr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49760" y="1332000"/>
              <a:ext cx="12240" cy="598680"/>
            </a:xfrm>
            <a:prstGeom prst="rect">
              <a:avLst/>
            </a:pr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68600" y="1320840"/>
              <a:ext cx="104400" cy="609840"/>
            </a:xfrm>
            <a:prstGeom prst="rect">
              <a:avLst/>
            </a:pr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7" name="" descr=""/>
            <p:cNvPicPr/>
            <p:nvPr/>
          </p:nvPicPr>
          <p:blipFill>
            <a:blip r:embed="rId238"/>
            <a:stretch/>
          </p:blipFill>
          <p:spPr>
            <a:xfrm>
              <a:off x="3462120" y="1320840"/>
              <a:ext cx="11268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3468600" y="1320840"/>
              <a:ext cx="104400" cy="11160"/>
            </a:xfrm>
            <a:prstGeom prst="rect">
              <a:avLst/>
            </a:pr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468600" y="1332000"/>
              <a:ext cx="10800" cy="585720"/>
            </a:xfrm>
            <a:prstGeom prst="rect">
              <a:avLst/>
            </a:prstGeom>
            <a:blipFill rotWithShape="0">
              <a:blip r:embed="rId2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68600" y="1917720"/>
              <a:ext cx="104400" cy="12960"/>
            </a:xfrm>
            <a:prstGeom prst="rect">
              <a:avLst/>
            </a:prstGeom>
            <a:blipFill rotWithShape="0">
              <a:blip r:embed="rId2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62200" y="1332000"/>
              <a:ext cx="10800" cy="585720"/>
            </a:xfrm>
            <a:prstGeom prst="rect">
              <a:avLst/>
            </a:prstGeom>
            <a:blipFill rotWithShape="0">
              <a:blip r:embed="rId2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81080" y="1320840"/>
              <a:ext cx="106200" cy="609840"/>
            </a:xfrm>
            <a:prstGeom prst="rect">
              <a:avLst/>
            </a:prstGeom>
            <a:blipFill rotWithShape="0">
              <a:blip r:embed="rId2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244"/>
            <a:stretch/>
          </p:blipFill>
          <p:spPr>
            <a:xfrm>
              <a:off x="2881080" y="1320840"/>
              <a:ext cx="109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2881080" y="1320840"/>
              <a:ext cx="106200" cy="11160"/>
            </a:xfrm>
            <a:prstGeom prst="rect">
              <a:avLst/>
            </a:prstGeom>
            <a:blipFill rotWithShape="0">
              <a:blip r:embed="rId2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81080" y="1332000"/>
              <a:ext cx="12600" cy="585720"/>
            </a:xfrm>
            <a:prstGeom prst="rect">
              <a:avLst/>
            </a:prstGeom>
            <a:blipFill rotWithShape="0">
              <a:blip r:embed="rId2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81080" y="1917720"/>
              <a:ext cx="106200" cy="12960"/>
            </a:xfrm>
            <a:prstGeom prst="rect">
              <a:avLst/>
            </a:pr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5040" y="1332000"/>
              <a:ext cx="12240" cy="585720"/>
            </a:xfrm>
            <a:prstGeom prst="rect">
              <a:avLst/>
            </a:pr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93880" y="1320840"/>
              <a:ext cx="106200" cy="620640"/>
            </a:xfrm>
            <a:prstGeom prst="rect">
              <a:avLst/>
            </a:pr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9" name="" descr=""/>
            <p:cNvPicPr/>
            <p:nvPr/>
          </p:nvPicPr>
          <p:blipFill>
            <a:blip r:embed="rId250"/>
            <a:stretch/>
          </p:blipFill>
          <p:spPr>
            <a:xfrm>
              <a:off x="2693880" y="1320840"/>
              <a:ext cx="1062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"/>
            <p:cNvSpPr/>
            <p:nvPr/>
          </p:nvSpPr>
          <p:spPr>
            <a:xfrm>
              <a:off x="2693880" y="1320840"/>
              <a:ext cx="106200" cy="11160"/>
            </a:xfrm>
            <a:prstGeom prst="rect">
              <a:avLst/>
            </a:pr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93880" y="1332000"/>
              <a:ext cx="10800" cy="598680"/>
            </a:xfrm>
            <a:prstGeom prst="rect">
              <a:avLst/>
            </a:pr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93880" y="1930680"/>
              <a:ext cx="106200" cy="10800"/>
            </a:xfrm>
            <a:prstGeom prst="rect">
              <a:avLst/>
            </a:pr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7480" y="1332000"/>
              <a:ext cx="12600" cy="598680"/>
            </a:xfrm>
            <a:prstGeom prst="rect">
              <a:avLst/>
            </a:pr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11240" y="130824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24200" y="1320840"/>
              <a:ext cx="4572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85960" y="188280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92440" y="18892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85960" y="13208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85960" y="13208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00440" y="1882800"/>
              <a:ext cx="5652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13040" y="1882800"/>
              <a:ext cx="5688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62360" y="1320840"/>
              <a:ext cx="10800" cy="620640"/>
            </a:xfrm>
            <a:prstGeom prst="rect">
              <a:avLst/>
            </a:pr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943280" y="1543320"/>
              <a:ext cx="750600" cy="163440"/>
            </a:xfrm>
            <a:prstGeom prst="rect">
              <a:avLst/>
            </a:pr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4" name="" descr=""/>
            <p:cNvPicPr/>
            <p:nvPr/>
          </p:nvPicPr>
          <p:blipFill>
            <a:blip r:embed="rId261"/>
            <a:stretch/>
          </p:blipFill>
          <p:spPr>
            <a:xfrm>
              <a:off x="1943280" y="1543320"/>
              <a:ext cx="75060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1943280" y="1543320"/>
              <a:ext cx="750600" cy="1116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43280" y="1554480"/>
              <a:ext cx="10800" cy="141120"/>
            </a:xfrm>
            <a:prstGeom prst="rect">
              <a:avLst/>
            </a:pr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43280" y="1695600"/>
              <a:ext cx="750600" cy="11160"/>
            </a:xfrm>
            <a:prstGeom prst="rect">
              <a:avLst/>
            </a:pr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82720" y="1554480"/>
              <a:ext cx="10800" cy="141120"/>
            </a:xfrm>
            <a:prstGeom prst="rect">
              <a:avLst/>
            </a:prstGeom>
            <a:blipFill rotWithShape="0">
              <a:blip r:embed="rId2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4120920" y="5481720"/>
            <a:ext cx="233640" cy="156960"/>
            <a:chOff x="4120920" y="5481720"/>
            <a:chExt cx="233640" cy="156960"/>
          </a:xfrm>
        </p:grpSpPr>
        <p:sp>
          <p:nvSpPr>
            <p:cNvPr id="1070" name=""/>
            <p:cNvSpPr/>
            <p:nvPr/>
          </p:nvSpPr>
          <p:spPr>
            <a:xfrm>
              <a:off x="4178160" y="5481720"/>
              <a:ext cx="176400" cy="22320"/>
            </a:xfrm>
            <a:prstGeom prst="rect">
              <a:avLst/>
            </a:prstGeom>
            <a:blipFill rotWithShape="0">
              <a:blip r:embed="rId2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68800" y="5616720"/>
              <a:ext cx="176040" cy="21960"/>
            </a:xfrm>
            <a:prstGeom prst="rect">
              <a:avLst/>
            </a:prstGeom>
            <a:blipFill rotWithShape="0">
              <a:blip r:embed="rId2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 flipV="1">
              <a:off x="4120560" y="5487120"/>
              <a:ext cx="13932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78" y="165"/>
                  </a:moveTo>
                  <a:arcTo wR="10800" hR="10800" stAng="-4799178" swAng="9624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78" y="165"/>
                  </a:moveTo>
                  <a:arcTo wR="10800" hR="10800" stAng="-4799178" swAng="9624853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H="1">
            <a:off x="7337160" y="3139920"/>
            <a:ext cx="129960" cy="6858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63880" y="3162240"/>
            <a:ext cx="130320" cy="677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9-12-03T10:59:42Z</dcterms:modified>
  <cp:revision>85</cp:revision>
  <dc:subject/>
  <dc:title>Lave-linge</dc:title>
</cp:coreProperties>
</file>